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922-944C-4E5A-924C-633443B4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C8F-DDA8-4581-B022-FF913B10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4E4-E87D-4255-BD55-215CAA30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875-DD65-4310-BC8B-49DC4A6F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6A6-D3DA-4085-9775-6968391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945-3687-4BAD-B191-93B30C66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B31-2EA0-47E8-9937-8BBF194D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A41-1587-41B4-8540-92E1382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C5A-29A0-45E8-93A4-330F59B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4DB-4D2D-4C02-AA04-96B2D3F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035-7692-495F-812F-C477843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440-5ABB-4F6A-960D-D5689C1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F3D4-37B4-4E9F-9702-0AB12B4E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ctions, Decimals &amp; Perce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fraction to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5760" y="2295360"/>
            <a:ext cx="2152440" cy="258840"/>
          </a:xfrm>
          <a:custGeom>
            <a:avLst/>
            <a:gdLst/>
            <a:ahLst/>
            <a:rect l="l" t="t" r="r" b="b"/>
            <a:pathLst>
              <a:path w="5979" h="720">
                <a:moveTo>
                  <a:pt x="7789" y="6474"/>
                </a:moveTo>
                <a:lnTo>
                  <a:pt x="7764" y="6524"/>
                </a:lnTo>
                <a:lnTo>
                  <a:pt x="7789" y="6623"/>
                </a:lnTo>
                <a:lnTo>
                  <a:pt x="7789" y="6747"/>
                </a:lnTo>
                <a:lnTo>
                  <a:pt x="7813" y="6846"/>
                </a:lnTo>
                <a:lnTo>
                  <a:pt x="7813" y="6921"/>
                </a:lnTo>
                <a:lnTo>
                  <a:pt x="7813" y="6896"/>
                </a:lnTo>
                <a:lnTo>
                  <a:pt x="7838" y="6796"/>
                </a:lnTo>
                <a:lnTo>
                  <a:pt x="7863" y="6648"/>
                </a:lnTo>
                <a:lnTo>
                  <a:pt x="7913" y="6524"/>
                </a:lnTo>
                <a:lnTo>
                  <a:pt x="7987" y="6424"/>
                </a:lnTo>
                <a:lnTo>
                  <a:pt x="8062" y="6400"/>
                </a:lnTo>
                <a:lnTo>
                  <a:pt x="8111" y="6400"/>
                </a:lnTo>
                <a:lnTo>
                  <a:pt x="8136" y="6424"/>
                </a:lnTo>
                <a:lnTo>
                  <a:pt x="8186" y="6474"/>
                </a:lnTo>
                <a:lnTo>
                  <a:pt x="8235" y="6573"/>
                </a:lnTo>
                <a:lnTo>
                  <a:pt x="8260" y="6648"/>
                </a:lnTo>
                <a:lnTo>
                  <a:pt x="8285" y="6772"/>
                </a:lnTo>
                <a:lnTo>
                  <a:pt x="8285" y="6846"/>
                </a:lnTo>
                <a:lnTo>
                  <a:pt x="8285" y="6871"/>
                </a:lnTo>
              </a:path>
              <a:path w="5979" h="720">
                <a:moveTo>
                  <a:pt x="8632" y="6524"/>
                </a:moveTo>
                <a:cubicBezTo>
                  <a:pt x="8565" y="6545"/>
                  <a:pt x="8578" y="6714"/>
                  <a:pt x="8582" y="6772"/>
                </a:cubicBezTo>
                <a:cubicBezTo>
                  <a:pt x="8594" y="6942"/>
                  <a:pt x="8592" y="6990"/>
                  <a:pt x="8706" y="7069"/>
                </a:cubicBezTo>
                <a:cubicBezTo>
                  <a:pt x="8798" y="6936"/>
                  <a:pt x="8815" y="6861"/>
                  <a:pt x="8830" y="6697"/>
                </a:cubicBezTo>
                <a:cubicBezTo>
                  <a:pt x="8830" y="6623"/>
                  <a:pt x="8830" y="6747"/>
                  <a:pt x="8830" y="6821"/>
                </a:cubicBezTo>
                <a:cubicBezTo>
                  <a:pt x="8830" y="6862"/>
                  <a:pt x="8830" y="6904"/>
                  <a:pt x="8830" y="6945"/>
                </a:cubicBezTo>
              </a:path>
              <a:path w="5979" h="720">
                <a:moveTo>
                  <a:pt x="8905" y="6623"/>
                </a:moveTo>
                <a:cubicBezTo>
                  <a:pt x="8921" y="6717"/>
                  <a:pt x="8977" y="6780"/>
                  <a:pt x="9004" y="6871"/>
                </a:cubicBezTo>
                <a:cubicBezTo>
                  <a:pt x="9006" y="6878"/>
                  <a:pt x="9004" y="6964"/>
                  <a:pt x="9004" y="6896"/>
                </a:cubicBezTo>
                <a:cubicBezTo>
                  <a:pt x="9063" y="6793"/>
                  <a:pt x="9098" y="6698"/>
                  <a:pt x="9178" y="6598"/>
                </a:cubicBezTo>
                <a:cubicBezTo>
                  <a:pt x="9233" y="6529"/>
                  <a:pt x="9287" y="6567"/>
                  <a:pt x="9351" y="6598"/>
                </a:cubicBezTo>
                <a:cubicBezTo>
                  <a:pt x="9443" y="6642"/>
                  <a:pt x="9447" y="6727"/>
                  <a:pt x="9451" y="6821"/>
                </a:cubicBezTo>
                <a:cubicBezTo>
                  <a:pt x="9451" y="6838"/>
                  <a:pt x="9451" y="6854"/>
                  <a:pt x="9451" y="6871"/>
                </a:cubicBezTo>
                <a:cubicBezTo>
                  <a:pt x="9484" y="6783"/>
                  <a:pt x="9527" y="6694"/>
                  <a:pt x="9575" y="6623"/>
                </a:cubicBezTo>
                <a:cubicBezTo>
                  <a:pt x="9583" y="6615"/>
                  <a:pt x="9591" y="6606"/>
                  <a:pt x="9599" y="6598"/>
                </a:cubicBezTo>
                <a:cubicBezTo>
                  <a:pt x="9667" y="6653"/>
                  <a:pt x="9729" y="6674"/>
                  <a:pt x="9748" y="6772"/>
                </a:cubicBezTo>
                <a:cubicBezTo>
                  <a:pt x="9748" y="6838"/>
                  <a:pt x="9748" y="6855"/>
                  <a:pt x="9748" y="6896"/>
                </a:cubicBezTo>
              </a:path>
              <a:path w="5979" h="720">
                <a:moveTo>
                  <a:pt x="10071" y="6697"/>
                </a:moveTo>
                <a:cubicBezTo>
                  <a:pt x="10179" y="6688"/>
                  <a:pt x="10263" y="6648"/>
                  <a:pt x="10368" y="6623"/>
                </a:cubicBezTo>
                <a:cubicBezTo>
                  <a:pt x="10427" y="6609"/>
                  <a:pt x="10379" y="6562"/>
                  <a:pt x="10368" y="6524"/>
                </a:cubicBezTo>
                <a:cubicBezTo>
                  <a:pt x="10368" y="6516"/>
                  <a:pt x="10368" y="6507"/>
                  <a:pt x="10368" y="6499"/>
                </a:cubicBezTo>
                <a:cubicBezTo>
                  <a:pt x="10264" y="6517"/>
                  <a:pt x="10254" y="6547"/>
                  <a:pt x="10195" y="6623"/>
                </a:cubicBezTo>
                <a:cubicBezTo>
                  <a:pt x="10156" y="6673"/>
                  <a:pt x="10131" y="6705"/>
                  <a:pt x="10120" y="6772"/>
                </a:cubicBezTo>
                <a:cubicBezTo>
                  <a:pt x="10107" y="6849"/>
                  <a:pt x="10120" y="6889"/>
                  <a:pt x="10170" y="6945"/>
                </a:cubicBezTo>
                <a:cubicBezTo>
                  <a:pt x="10238" y="7021"/>
                  <a:pt x="10328" y="7106"/>
                  <a:pt x="10443" y="7069"/>
                </a:cubicBezTo>
                <a:cubicBezTo>
                  <a:pt x="10508" y="7026"/>
                  <a:pt x="10528" y="7020"/>
                  <a:pt x="10542" y="6970"/>
                </a:cubicBezTo>
              </a:path>
              <a:path w="5979" h="720">
                <a:moveTo>
                  <a:pt x="10641" y="6573"/>
                </a:moveTo>
                <a:cubicBezTo>
                  <a:pt x="10707" y="6705"/>
                  <a:pt x="10700" y="6808"/>
                  <a:pt x="10740" y="6945"/>
                </a:cubicBezTo>
                <a:cubicBezTo>
                  <a:pt x="10748" y="6962"/>
                  <a:pt x="10757" y="6978"/>
                  <a:pt x="10765" y="6995"/>
                </a:cubicBezTo>
                <a:cubicBezTo>
                  <a:pt x="10746" y="6903"/>
                  <a:pt x="10704" y="6846"/>
                  <a:pt x="10740" y="6747"/>
                </a:cubicBezTo>
                <a:cubicBezTo>
                  <a:pt x="10776" y="6647"/>
                  <a:pt x="10850" y="6566"/>
                  <a:pt x="10964" y="6573"/>
                </a:cubicBezTo>
                <a:cubicBezTo>
                  <a:pt x="11041" y="6578"/>
                  <a:pt x="11107" y="6598"/>
                  <a:pt x="11187" y="6598"/>
                </a:cubicBezTo>
              </a:path>
              <a:path w="5979" h="720">
                <a:moveTo>
                  <a:pt x="11683" y="6598"/>
                </a:moveTo>
                <a:cubicBezTo>
                  <a:pt x="11660" y="6553"/>
                  <a:pt x="11638" y="6548"/>
                  <a:pt x="11584" y="6548"/>
                </a:cubicBezTo>
                <a:cubicBezTo>
                  <a:pt x="11458" y="6548"/>
                  <a:pt x="11381" y="6600"/>
                  <a:pt x="11311" y="6697"/>
                </a:cubicBezTo>
                <a:cubicBezTo>
                  <a:pt x="11282" y="6738"/>
                  <a:pt x="11186" y="6888"/>
                  <a:pt x="11237" y="6945"/>
                </a:cubicBezTo>
                <a:cubicBezTo>
                  <a:pt x="11301" y="7016"/>
                  <a:pt x="11449" y="7016"/>
                  <a:pt x="11509" y="6945"/>
                </a:cubicBezTo>
                <a:cubicBezTo>
                  <a:pt x="11576" y="6866"/>
                  <a:pt x="11609" y="6771"/>
                  <a:pt x="11609" y="6672"/>
                </a:cubicBezTo>
                <a:cubicBezTo>
                  <a:pt x="11609" y="6773"/>
                  <a:pt x="11616" y="6839"/>
                  <a:pt x="11683" y="6921"/>
                </a:cubicBezTo>
                <a:cubicBezTo>
                  <a:pt x="11760" y="7016"/>
                  <a:pt x="11844" y="7017"/>
                  <a:pt x="11956" y="7045"/>
                </a:cubicBezTo>
              </a:path>
              <a:path w="5979" h="720">
                <a:moveTo>
                  <a:pt x="11485" y="6573"/>
                </a:moveTo>
                <a:cubicBezTo>
                  <a:pt x="11511" y="6612"/>
                  <a:pt x="11572" y="6598"/>
                  <a:pt x="11633" y="6598"/>
                </a:cubicBezTo>
                <a:cubicBezTo>
                  <a:pt x="11691" y="6598"/>
                  <a:pt x="11700" y="6598"/>
                  <a:pt x="11733" y="6598"/>
                </a:cubicBezTo>
              </a:path>
              <a:path w="5979" h="720">
                <a:moveTo>
                  <a:pt x="12005" y="6598"/>
                </a:moveTo>
                <a:cubicBezTo>
                  <a:pt x="12137" y="6638"/>
                  <a:pt x="12241" y="6629"/>
                  <a:pt x="12378" y="6623"/>
                </a:cubicBezTo>
                <a:cubicBezTo>
                  <a:pt x="12460" y="6619"/>
                  <a:pt x="12638" y="6655"/>
                  <a:pt x="12675" y="6598"/>
                </a:cubicBezTo>
              </a:path>
              <a:path w="5979" h="720">
                <a:moveTo>
                  <a:pt x="12154" y="6375"/>
                </a:moveTo>
                <a:cubicBezTo>
                  <a:pt x="12131" y="6490"/>
                  <a:pt x="12168" y="6579"/>
                  <a:pt x="12179" y="6697"/>
                </a:cubicBezTo>
                <a:cubicBezTo>
                  <a:pt x="12188" y="6789"/>
                  <a:pt x="12204" y="6879"/>
                  <a:pt x="12204" y="6970"/>
                </a:cubicBezTo>
              </a:path>
              <a:path w="5979" h="720">
                <a:moveTo>
                  <a:pt x="12948" y="6697"/>
                </a:moveTo>
                <a:cubicBezTo>
                  <a:pt x="12877" y="6717"/>
                  <a:pt x="12817" y="6780"/>
                  <a:pt x="12799" y="6871"/>
                </a:cubicBezTo>
                <a:cubicBezTo>
                  <a:pt x="12777" y="6984"/>
                  <a:pt x="12887" y="7091"/>
                  <a:pt x="12998" y="7094"/>
                </a:cubicBezTo>
                <a:cubicBezTo>
                  <a:pt x="13081" y="7096"/>
                  <a:pt x="13225" y="7022"/>
                  <a:pt x="13221" y="6921"/>
                </a:cubicBezTo>
                <a:cubicBezTo>
                  <a:pt x="13218" y="6850"/>
                  <a:pt x="13128" y="6762"/>
                  <a:pt x="13072" y="6722"/>
                </a:cubicBezTo>
                <a:cubicBezTo>
                  <a:pt x="13055" y="6714"/>
                  <a:pt x="13039" y="6705"/>
                  <a:pt x="13022" y="6697"/>
                </a:cubicBezTo>
              </a:path>
              <a:path w="5979" h="720">
                <a:moveTo>
                  <a:pt x="13171" y="6722"/>
                </a:moveTo>
                <a:cubicBezTo>
                  <a:pt x="13243" y="6828"/>
                  <a:pt x="13292" y="6918"/>
                  <a:pt x="13320" y="7045"/>
                </a:cubicBezTo>
                <a:cubicBezTo>
                  <a:pt x="13322" y="7053"/>
                  <a:pt x="13320" y="7136"/>
                  <a:pt x="13320" y="7069"/>
                </a:cubicBezTo>
                <a:cubicBezTo>
                  <a:pt x="13320" y="6994"/>
                  <a:pt x="13327" y="6912"/>
                  <a:pt x="13370" y="6846"/>
                </a:cubicBezTo>
                <a:cubicBezTo>
                  <a:pt x="13401" y="6800"/>
                  <a:pt x="13502" y="6693"/>
                  <a:pt x="13568" y="6722"/>
                </a:cubicBezTo>
                <a:cubicBezTo>
                  <a:pt x="13657" y="6760"/>
                  <a:pt x="13669" y="6784"/>
                  <a:pt x="13742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95960" y="2419200"/>
            <a:ext cx="222120" cy="2336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14709" y="6995"/>
                </a:moveTo>
                <a:cubicBezTo>
                  <a:pt x="14831" y="7013"/>
                  <a:pt x="14957" y="7037"/>
                  <a:pt x="15081" y="7045"/>
                </a:cubicBezTo>
                <a:cubicBezTo>
                  <a:pt x="15186" y="7052"/>
                  <a:pt x="15275" y="7076"/>
                  <a:pt x="15329" y="6995"/>
                </a:cubicBezTo>
              </a:path>
              <a:path w="621" h="646">
                <a:moveTo>
                  <a:pt x="15032" y="6722"/>
                </a:moveTo>
                <a:cubicBezTo>
                  <a:pt x="15024" y="6722"/>
                  <a:pt x="15015" y="6722"/>
                  <a:pt x="15007" y="6722"/>
                </a:cubicBezTo>
              </a:path>
              <a:path w="621" h="646">
                <a:moveTo>
                  <a:pt x="14957" y="7342"/>
                </a:moveTo>
                <a:cubicBezTo>
                  <a:pt x="14957" y="7394"/>
                  <a:pt x="14984" y="7359"/>
                  <a:pt x="15007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7200" y="2286000"/>
            <a:ext cx="1204920" cy="376200"/>
          </a:xfrm>
          <a:custGeom>
            <a:avLst/>
            <a:gdLst/>
            <a:ahLst/>
            <a:rect l="l" t="t" r="r" b="b"/>
            <a:pathLst>
              <a:path w="3350" h="1043">
                <a:moveTo>
                  <a:pt x="17239" y="7045"/>
                </a:moveTo>
                <a:cubicBezTo>
                  <a:pt x="17213" y="6975"/>
                  <a:pt x="17221" y="6977"/>
                  <a:pt x="17165" y="6945"/>
                </a:cubicBezTo>
                <a:cubicBezTo>
                  <a:pt x="17055" y="6883"/>
                  <a:pt x="17008" y="6830"/>
                  <a:pt x="16892" y="6921"/>
                </a:cubicBezTo>
                <a:cubicBezTo>
                  <a:pt x="16785" y="7004"/>
                  <a:pt x="16784" y="7054"/>
                  <a:pt x="16793" y="7169"/>
                </a:cubicBezTo>
                <a:cubicBezTo>
                  <a:pt x="16882" y="7186"/>
                  <a:pt x="17019" y="7181"/>
                  <a:pt x="17090" y="7094"/>
                </a:cubicBezTo>
                <a:cubicBezTo>
                  <a:pt x="17206" y="6952"/>
                  <a:pt x="17234" y="6772"/>
                  <a:pt x="17239" y="6598"/>
                </a:cubicBezTo>
                <a:cubicBezTo>
                  <a:pt x="17241" y="6527"/>
                  <a:pt x="17283" y="6445"/>
                  <a:pt x="17264" y="6375"/>
                </a:cubicBezTo>
                <a:cubicBezTo>
                  <a:pt x="17256" y="6367"/>
                  <a:pt x="17247" y="6358"/>
                  <a:pt x="17239" y="6350"/>
                </a:cubicBezTo>
                <a:cubicBezTo>
                  <a:pt x="17221" y="6491"/>
                  <a:pt x="17214" y="6631"/>
                  <a:pt x="17190" y="6772"/>
                </a:cubicBezTo>
                <a:cubicBezTo>
                  <a:pt x="17170" y="6886"/>
                  <a:pt x="17143" y="7026"/>
                  <a:pt x="17165" y="7144"/>
                </a:cubicBezTo>
                <a:cubicBezTo>
                  <a:pt x="17173" y="7188"/>
                  <a:pt x="17220" y="7296"/>
                  <a:pt x="17264" y="7317"/>
                </a:cubicBezTo>
                <a:cubicBezTo>
                  <a:pt x="17344" y="7354"/>
                  <a:pt x="17531" y="7309"/>
                  <a:pt x="17587" y="7243"/>
                </a:cubicBezTo>
                <a:cubicBezTo>
                  <a:pt x="17679" y="7135"/>
                  <a:pt x="17632" y="7021"/>
                  <a:pt x="17562" y="6921"/>
                </a:cubicBezTo>
                <a:cubicBezTo>
                  <a:pt x="17539" y="6898"/>
                  <a:pt x="17535" y="6890"/>
                  <a:pt x="17512" y="6896"/>
                </a:cubicBezTo>
                <a:cubicBezTo>
                  <a:pt x="17445" y="6944"/>
                  <a:pt x="17374" y="7027"/>
                  <a:pt x="17438" y="7119"/>
                </a:cubicBezTo>
                <a:cubicBezTo>
                  <a:pt x="17477" y="7175"/>
                  <a:pt x="17661" y="7310"/>
                  <a:pt x="17735" y="7317"/>
                </a:cubicBezTo>
                <a:cubicBezTo>
                  <a:pt x="17829" y="7325"/>
                  <a:pt x="17932" y="7260"/>
                  <a:pt x="18008" y="7218"/>
                </a:cubicBezTo>
              </a:path>
              <a:path w="3350" h="1043">
                <a:moveTo>
                  <a:pt x="17661" y="6846"/>
                </a:moveTo>
                <a:lnTo>
                  <a:pt x="17661" y="6846"/>
                </a:lnTo>
                <a:lnTo>
                  <a:pt x="17661" y="6846"/>
                </a:lnTo>
              </a:path>
              <a:path w="3350" h="1043">
                <a:moveTo>
                  <a:pt x="18008" y="6921"/>
                </a:moveTo>
                <a:cubicBezTo>
                  <a:pt x="18029" y="7004"/>
                  <a:pt x="18041" y="7098"/>
                  <a:pt x="18058" y="7193"/>
                </a:cubicBezTo>
                <a:cubicBezTo>
                  <a:pt x="18078" y="7292"/>
                  <a:pt x="18086" y="7308"/>
                  <a:pt x="18083" y="7367"/>
                </a:cubicBezTo>
                <a:cubicBezTo>
                  <a:pt x="18130" y="7302"/>
                  <a:pt x="18137" y="7200"/>
                  <a:pt x="18157" y="7119"/>
                </a:cubicBezTo>
                <a:cubicBezTo>
                  <a:pt x="18181" y="7024"/>
                  <a:pt x="18222" y="6940"/>
                  <a:pt x="18331" y="6921"/>
                </a:cubicBezTo>
                <a:cubicBezTo>
                  <a:pt x="18443" y="6902"/>
                  <a:pt x="18579" y="6985"/>
                  <a:pt x="18604" y="7094"/>
                </a:cubicBezTo>
                <a:cubicBezTo>
                  <a:pt x="18620" y="7162"/>
                  <a:pt x="18604" y="7246"/>
                  <a:pt x="18604" y="7317"/>
                </a:cubicBezTo>
              </a:path>
              <a:path w="3350" h="1043">
                <a:moveTo>
                  <a:pt x="18951" y="6896"/>
                </a:moveTo>
                <a:cubicBezTo>
                  <a:pt x="18863" y="6915"/>
                  <a:pt x="18759" y="6968"/>
                  <a:pt x="18728" y="7069"/>
                </a:cubicBezTo>
                <a:cubicBezTo>
                  <a:pt x="18692" y="7188"/>
                  <a:pt x="18736" y="7278"/>
                  <a:pt x="18827" y="7342"/>
                </a:cubicBezTo>
                <a:cubicBezTo>
                  <a:pt x="18950" y="7428"/>
                  <a:pt x="19043" y="7393"/>
                  <a:pt x="19124" y="7268"/>
                </a:cubicBezTo>
                <a:cubicBezTo>
                  <a:pt x="19199" y="7151"/>
                  <a:pt x="19188" y="7068"/>
                  <a:pt x="19100" y="6970"/>
                </a:cubicBezTo>
                <a:cubicBezTo>
                  <a:pt x="19083" y="6954"/>
                  <a:pt x="19067" y="6937"/>
                  <a:pt x="19050" y="6921"/>
                </a:cubicBezTo>
              </a:path>
              <a:path w="3350" h="1043">
                <a:moveTo>
                  <a:pt x="19224" y="6995"/>
                </a:moveTo>
                <a:cubicBezTo>
                  <a:pt x="19253" y="7093"/>
                  <a:pt x="19293" y="7192"/>
                  <a:pt x="19298" y="7293"/>
                </a:cubicBezTo>
                <a:cubicBezTo>
                  <a:pt x="19298" y="7309"/>
                  <a:pt x="19298" y="7326"/>
                  <a:pt x="19298" y="7342"/>
                </a:cubicBezTo>
                <a:cubicBezTo>
                  <a:pt x="19357" y="7244"/>
                  <a:pt x="19435" y="7121"/>
                  <a:pt x="19521" y="7045"/>
                </a:cubicBezTo>
                <a:cubicBezTo>
                  <a:pt x="19555" y="7015"/>
                  <a:pt x="19630" y="6980"/>
                  <a:pt x="19670" y="6970"/>
                </a:cubicBezTo>
                <a:cubicBezTo>
                  <a:pt x="19713" y="7033"/>
                  <a:pt x="19710" y="7139"/>
                  <a:pt x="19745" y="7193"/>
                </a:cubicBezTo>
                <a:cubicBezTo>
                  <a:pt x="19753" y="7193"/>
                  <a:pt x="19761" y="7193"/>
                  <a:pt x="19769" y="7193"/>
                </a:cubicBezTo>
                <a:cubicBezTo>
                  <a:pt x="19825" y="7124"/>
                  <a:pt x="19860" y="7024"/>
                  <a:pt x="19943" y="6995"/>
                </a:cubicBezTo>
                <a:cubicBezTo>
                  <a:pt x="20073" y="6949"/>
                  <a:pt x="20090" y="7012"/>
                  <a:pt x="20117" y="7144"/>
                </a:cubicBezTo>
                <a:cubicBezTo>
                  <a:pt x="20126" y="7189"/>
                  <a:pt x="20117" y="7247"/>
                  <a:pt x="20117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5040" y="2340000"/>
            <a:ext cx="1036800" cy="330120"/>
          </a:xfrm>
          <a:custGeom>
            <a:avLst/>
            <a:gdLst/>
            <a:ahLst/>
            <a:rect l="l" t="t" r="r" b="b"/>
            <a:pathLst>
              <a:path w="2879" h="919">
                <a:moveTo>
                  <a:pt x="20513" y="7020"/>
                </a:moveTo>
                <a:cubicBezTo>
                  <a:pt x="20597" y="7006"/>
                  <a:pt x="20532" y="7014"/>
                  <a:pt x="20588" y="6995"/>
                </a:cubicBezTo>
                <a:cubicBezTo>
                  <a:pt x="20639" y="7033"/>
                  <a:pt x="20668" y="7190"/>
                  <a:pt x="20662" y="7268"/>
                </a:cubicBezTo>
                <a:cubicBezTo>
                  <a:pt x="20661" y="7277"/>
                  <a:pt x="20593" y="7458"/>
                  <a:pt x="20662" y="7268"/>
                </a:cubicBezTo>
              </a:path>
              <a:path w="2879" h="919">
                <a:moveTo>
                  <a:pt x="20762" y="6672"/>
                </a:moveTo>
                <a:lnTo>
                  <a:pt x="20762" y="6672"/>
                </a:lnTo>
                <a:lnTo>
                  <a:pt x="20762" y="6672"/>
                </a:lnTo>
              </a:path>
              <a:path w="2879" h="919">
                <a:moveTo>
                  <a:pt x="20935" y="7119"/>
                </a:moveTo>
                <a:cubicBezTo>
                  <a:pt x="20941" y="7188"/>
                  <a:pt x="20952" y="7249"/>
                  <a:pt x="20960" y="7317"/>
                </a:cubicBezTo>
                <a:cubicBezTo>
                  <a:pt x="20971" y="7262"/>
                  <a:pt x="21014" y="7154"/>
                  <a:pt x="21059" y="7119"/>
                </a:cubicBezTo>
                <a:cubicBezTo>
                  <a:pt x="21140" y="7078"/>
                  <a:pt x="21153" y="7061"/>
                  <a:pt x="21208" y="7069"/>
                </a:cubicBezTo>
                <a:cubicBezTo>
                  <a:pt x="21264" y="7152"/>
                  <a:pt x="21257" y="7226"/>
                  <a:pt x="21282" y="7317"/>
                </a:cubicBezTo>
                <a:cubicBezTo>
                  <a:pt x="21307" y="7367"/>
                  <a:pt x="21315" y="7384"/>
                  <a:pt x="21282" y="7417"/>
                </a:cubicBezTo>
              </a:path>
              <a:path w="2879" h="919">
                <a:moveTo>
                  <a:pt x="21903" y="7243"/>
                </a:moveTo>
                <a:cubicBezTo>
                  <a:pt x="21903" y="7140"/>
                  <a:pt x="21776" y="7160"/>
                  <a:pt x="21704" y="7193"/>
                </a:cubicBezTo>
                <a:cubicBezTo>
                  <a:pt x="21613" y="7235"/>
                  <a:pt x="21641" y="7324"/>
                  <a:pt x="21654" y="7392"/>
                </a:cubicBezTo>
                <a:cubicBezTo>
                  <a:pt x="21754" y="7425"/>
                  <a:pt x="21826" y="7341"/>
                  <a:pt x="21878" y="7243"/>
                </a:cubicBezTo>
                <a:cubicBezTo>
                  <a:pt x="21878" y="7235"/>
                  <a:pt x="21878" y="7226"/>
                  <a:pt x="21878" y="7218"/>
                </a:cubicBezTo>
                <a:cubicBezTo>
                  <a:pt x="21887" y="7261"/>
                  <a:pt x="21937" y="7405"/>
                  <a:pt x="21977" y="7417"/>
                </a:cubicBezTo>
                <a:cubicBezTo>
                  <a:pt x="22002" y="7417"/>
                  <a:pt x="22026" y="7417"/>
                  <a:pt x="22051" y="7417"/>
                </a:cubicBezTo>
              </a:path>
              <a:path w="2879" h="919">
                <a:moveTo>
                  <a:pt x="22051" y="7020"/>
                </a:moveTo>
                <a:cubicBezTo>
                  <a:pt x="22152" y="7010"/>
                  <a:pt x="22276" y="7017"/>
                  <a:pt x="22374" y="6995"/>
                </a:cubicBezTo>
                <a:cubicBezTo>
                  <a:pt x="22414" y="6975"/>
                  <a:pt x="22420" y="6966"/>
                  <a:pt x="22448" y="6970"/>
                </a:cubicBezTo>
              </a:path>
              <a:path w="2879" h="919">
                <a:moveTo>
                  <a:pt x="22151" y="6499"/>
                </a:moveTo>
                <a:cubicBezTo>
                  <a:pt x="22131" y="6636"/>
                  <a:pt x="22104" y="6755"/>
                  <a:pt x="22101" y="6896"/>
                </a:cubicBezTo>
                <a:cubicBezTo>
                  <a:pt x="22099" y="6995"/>
                  <a:pt x="22091" y="7087"/>
                  <a:pt x="22126" y="7169"/>
                </a:cubicBezTo>
              </a:path>
              <a:path w="2879" h="919">
                <a:moveTo>
                  <a:pt x="22771" y="6945"/>
                </a:moveTo>
                <a:cubicBezTo>
                  <a:pt x="22699" y="6963"/>
                  <a:pt x="22634" y="7025"/>
                  <a:pt x="22597" y="7094"/>
                </a:cubicBezTo>
                <a:cubicBezTo>
                  <a:pt x="22530" y="7219"/>
                  <a:pt x="22598" y="7302"/>
                  <a:pt x="22721" y="7317"/>
                </a:cubicBezTo>
                <a:cubicBezTo>
                  <a:pt x="22797" y="7326"/>
                  <a:pt x="22969" y="7277"/>
                  <a:pt x="22969" y="7169"/>
                </a:cubicBezTo>
                <a:cubicBezTo>
                  <a:pt x="22969" y="7093"/>
                  <a:pt x="22895" y="7063"/>
                  <a:pt x="22845" y="7020"/>
                </a:cubicBezTo>
              </a:path>
              <a:path w="2879" h="919">
                <a:moveTo>
                  <a:pt x="23019" y="7094"/>
                </a:moveTo>
                <a:cubicBezTo>
                  <a:pt x="23019" y="7185"/>
                  <a:pt x="23019" y="7276"/>
                  <a:pt x="23019" y="7367"/>
                </a:cubicBezTo>
                <a:cubicBezTo>
                  <a:pt x="23079" y="7347"/>
                  <a:pt x="23027" y="7254"/>
                  <a:pt x="23044" y="7193"/>
                </a:cubicBezTo>
                <a:cubicBezTo>
                  <a:pt x="23058" y="7145"/>
                  <a:pt x="23129" y="7102"/>
                  <a:pt x="23168" y="7094"/>
                </a:cubicBezTo>
                <a:cubicBezTo>
                  <a:pt x="23227" y="7081"/>
                  <a:pt x="23262" y="7114"/>
                  <a:pt x="23316" y="7119"/>
                </a:cubicBezTo>
                <a:cubicBezTo>
                  <a:pt x="23349" y="7119"/>
                  <a:pt x="23366" y="7119"/>
                  <a:pt x="23391" y="71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27800" y="3009960"/>
            <a:ext cx="357120" cy="285840"/>
          </a:xfrm>
          <a:custGeom>
            <a:avLst/>
            <a:gdLst/>
            <a:ahLst/>
            <a:rect l="l" t="t" r="r" b="b"/>
            <a:pathLst>
              <a:path w="993" h="795">
                <a:moveTo>
                  <a:pt x="15404" y="9128"/>
                </a:moveTo>
                <a:cubicBezTo>
                  <a:pt x="15375" y="9069"/>
                  <a:pt x="15366" y="9172"/>
                  <a:pt x="15404" y="9153"/>
                </a:cubicBezTo>
                <a:cubicBezTo>
                  <a:pt x="15477" y="9116"/>
                  <a:pt x="15403" y="9107"/>
                  <a:pt x="15379" y="9103"/>
                </a:cubicBezTo>
                <a:cubicBezTo>
                  <a:pt x="15365" y="9144"/>
                  <a:pt x="15439" y="9154"/>
                  <a:pt x="15404" y="9128"/>
                </a:cubicBezTo>
                <a:cubicBezTo>
                  <a:pt x="15348" y="9086"/>
                  <a:pt x="15368" y="9216"/>
                  <a:pt x="15379" y="9128"/>
                </a:cubicBezTo>
                <a:cubicBezTo>
                  <a:pt x="15384" y="9090"/>
                  <a:pt x="15392" y="9103"/>
                  <a:pt x="15429" y="9103"/>
                </a:cubicBezTo>
              </a:path>
              <a:path w="993" h="795">
                <a:moveTo>
                  <a:pt x="15776" y="8458"/>
                </a:moveTo>
                <a:cubicBezTo>
                  <a:pt x="15869" y="8397"/>
                  <a:pt x="15962" y="8387"/>
                  <a:pt x="16073" y="8384"/>
                </a:cubicBezTo>
                <a:cubicBezTo>
                  <a:pt x="16159" y="8382"/>
                  <a:pt x="16237" y="8359"/>
                  <a:pt x="16321" y="8359"/>
                </a:cubicBezTo>
                <a:cubicBezTo>
                  <a:pt x="16329" y="8359"/>
                  <a:pt x="16338" y="8359"/>
                  <a:pt x="16346" y="8359"/>
                </a:cubicBezTo>
                <a:cubicBezTo>
                  <a:pt x="16326" y="8461"/>
                  <a:pt x="16232" y="8572"/>
                  <a:pt x="16173" y="8657"/>
                </a:cubicBezTo>
                <a:cubicBezTo>
                  <a:pt x="16120" y="8734"/>
                  <a:pt x="16058" y="8809"/>
                  <a:pt x="16049" y="8905"/>
                </a:cubicBezTo>
                <a:cubicBezTo>
                  <a:pt x="16049" y="8930"/>
                  <a:pt x="16049" y="8938"/>
                  <a:pt x="16049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18040" y="3483000"/>
            <a:ext cx="839880" cy="1973160"/>
          </a:xfrm>
          <a:custGeom>
            <a:avLst/>
            <a:gdLst/>
            <a:ahLst/>
            <a:rect l="l" t="t" r="r" b="b"/>
            <a:pathLst>
              <a:path w="2333" h="5483">
                <a:moveTo>
                  <a:pt x="15255" y="10319"/>
                </a:moveTo>
                <a:cubicBezTo>
                  <a:pt x="15255" y="10302"/>
                  <a:pt x="15255" y="10286"/>
                  <a:pt x="15255" y="10269"/>
                </a:cubicBezTo>
              </a:path>
              <a:path w="2333" h="5483">
                <a:moveTo>
                  <a:pt x="15280" y="10244"/>
                </a:moveTo>
                <a:cubicBezTo>
                  <a:pt x="15208" y="10244"/>
                  <a:pt x="15209" y="10275"/>
                  <a:pt x="15205" y="10344"/>
                </a:cubicBezTo>
                <a:cubicBezTo>
                  <a:pt x="15205" y="10360"/>
                  <a:pt x="15205" y="10377"/>
                  <a:pt x="15205" y="10393"/>
                </a:cubicBezTo>
                <a:cubicBezTo>
                  <a:pt x="15217" y="10379"/>
                  <a:pt x="15301" y="10230"/>
                  <a:pt x="15205" y="10294"/>
                </a:cubicBezTo>
                <a:cubicBezTo>
                  <a:pt x="15175" y="10314"/>
                  <a:pt x="15183" y="10446"/>
                  <a:pt x="15230" y="10319"/>
                </a:cubicBezTo>
                <a:cubicBezTo>
                  <a:pt x="15230" y="10311"/>
                  <a:pt x="15230" y="10302"/>
                  <a:pt x="15230" y="10294"/>
                </a:cubicBezTo>
              </a:path>
              <a:path w="2333" h="5483">
                <a:moveTo>
                  <a:pt x="15801" y="9847"/>
                </a:moveTo>
                <a:cubicBezTo>
                  <a:pt x="15801" y="9789"/>
                  <a:pt x="15814" y="9709"/>
                  <a:pt x="15751" y="9674"/>
                </a:cubicBezTo>
                <a:cubicBezTo>
                  <a:pt x="15660" y="9624"/>
                  <a:pt x="15562" y="9771"/>
                  <a:pt x="15528" y="9823"/>
                </a:cubicBezTo>
                <a:cubicBezTo>
                  <a:pt x="15471" y="9912"/>
                  <a:pt x="15454" y="10023"/>
                  <a:pt x="15503" y="10120"/>
                </a:cubicBezTo>
                <a:cubicBezTo>
                  <a:pt x="15543" y="10200"/>
                  <a:pt x="15595" y="10237"/>
                  <a:pt x="15677" y="10269"/>
                </a:cubicBezTo>
                <a:cubicBezTo>
                  <a:pt x="15770" y="10305"/>
                  <a:pt x="15860" y="10268"/>
                  <a:pt x="15925" y="10195"/>
                </a:cubicBezTo>
                <a:cubicBezTo>
                  <a:pt x="15976" y="10138"/>
                  <a:pt x="16041" y="10001"/>
                  <a:pt x="16024" y="9922"/>
                </a:cubicBezTo>
                <a:cubicBezTo>
                  <a:pt x="16005" y="9831"/>
                  <a:pt x="15931" y="9796"/>
                  <a:pt x="15850" y="9773"/>
                </a:cubicBezTo>
                <a:cubicBezTo>
                  <a:pt x="15803" y="9759"/>
                  <a:pt x="15767" y="9782"/>
                  <a:pt x="15726" y="9798"/>
                </a:cubicBezTo>
              </a:path>
              <a:path w="2333" h="5483">
                <a:moveTo>
                  <a:pt x="15751" y="10790"/>
                </a:moveTo>
                <a:cubicBezTo>
                  <a:pt x="15716" y="10802"/>
                  <a:pt x="15705" y="10891"/>
                  <a:pt x="15701" y="10939"/>
                </a:cubicBezTo>
                <a:cubicBezTo>
                  <a:pt x="15690" y="11063"/>
                  <a:pt x="15677" y="11186"/>
                  <a:pt x="15677" y="11311"/>
                </a:cubicBezTo>
                <a:cubicBezTo>
                  <a:pt x="15677" y="11303"/>
                  <a:pt x="15677" y="11294"/>
                  <a:pt x="15677" y="11286"/>
                </a:cubicBezTo>
              </a:path>
              <a:path w="2333" h="5483">
                <a:moveTo>
                  <a:pt x="15404" y="11137"/>
                </a:moveTo>
                <a:cubicBezTo>
                  <a:pt x="15360" y="11137"/>
                  <a:pt x="15364" y="11138"/>
                  <a:pt x="15329" y="11112"/>
                </a:cubicBezTo>
              </a:path>
              <a:path w="2333" h="5483">
                <a:moveTo>
                  <a:pt x="15354" y="11112"/>
                </a:moveTo>
                <a:cubicBezTo>
                  <a:pt x="15383" y="11170"/>
                  <a:pt x="15496" y="11232"/>
                  <a:pt x="15553" y="11286"/>
                </a:cubicBezTo>
                <a:cubicBezTo>
                  <a:pt x="15583" y="11315"/>
                  <a:pt x="15628" y="11419"/>
                  <a:pt x="15652" y="11435"/>
                </a:cubicBezTo>
                <a:cubicBezTo>
                  <a:pt x="15708" y="11472"/>
                  <a:pt x="15778" y="11413"/>
                  <a:pt x="15825" y="11361"/>
                </a:cubicBezTo>
                <a:cubicBezTo>
                  <a:pt x="15854" y="11330"/>
                  <a:pt x="16018" y="11194"/>
                  <a:pt x="16024" y="11162"/>
                </a:cubicBezTo>
                <a:cubicBezTo>
                  <a:pt x="16016" y="11154"/>
                  <a:pt x="16007" y="11145"/>
                  <a:pt x="15999" y="11137"/>
                </a:cubicBezTo>
              </a:path>
              <a:path w="2333" h="5483">
                <a:moveTo>
                  <a:pt x="15726" y="11857"/>
                </a:moveTo>
                <a:cubicBezTo>
                  <a:pt x="15605" y="11857"/>
                  <a:pt x="15547" y="11899"/>
                  <a:pt x="15453" y="11981"/>
                </a:cubicBezTo>
                <a:cubicBezTo>
                  <a:pt x="15364" y="12058"/>
                  <a:pt x="15310" y="12136"/>
                  <a:pt x="15304" y="12254"/>
                </a:cubicBezTo>
                <a:cubicBezTo>
                  <a:pt x="15298" y="12364"/>
                  <a:pt x="15380" y="12390"/>
                  <a:pt x="15453" y="12452"/>
                </a:cubicBezTo>
                <a:cubicBezTo>
                  <a:pt x="15533" y="12521"/>
                  <a:pt x="15648" y="12522"/>
                  <a:pt x="15751" y="12477"/>
                </a:cubicBezTo>
                <a:cubicBezTo>
                  <a:pt x="15830" y="12443"/>
                  <a:pt x="15937" y="12378"/>
                  <a:pt x="15974" y="12303"/>
                </a:cubicBezTo>
                <a:cubicBezTo>
                  <a:pt x="16018" y="12215"/>
                  <a:pt x="15988" y="12156"/>
                  <a:pt x="15974" y="12080"/>
                </a:cubicBezTo>
                <a:cubicBezTo>
                  <a:pt x="15952" y="11963"/>
                  <a:pt x="15937" y="12027"/>
                  <a:pt x="15875" y="11956"/>
                </a:cubicBezTo>
                <a:cubicBezTo>
                  <a:pt x="15846" y="11922"/>
                  <a:pt x="15827" y="11898"/>
                  <a:pt x="15801" y="11832"/>
                </a:cubicBezTo>
              </a:path>
              <a:path w="2333" h="5483">
                <a:moveTo>
                  <a:pt x="13940" y="13543"/>
                </a:moveTo>
                <a:cubicBezTo>
                  <a:pt x="14020" y="13517"/>
                  <a:pt x="14103" y="13473"/>
                  <a:pt x="14188" y="13444"/>
                </a:cubicBezTo>
                <a:cubicBezTo>
                  <a:pt x="14261" y="13420"/>
                  <a:pt x="14345" y="13418"/>
                  <a:pt x="14412" y="13395"/>
                </a:cubicBezTo>
                <a:cubicBezTo>
                  <a:pt x="14428" y="13387"/>
                  <a:pt x="14445" y="13378"/>
                  <a:pt x="14461" y="13370"/>
                </a:cubicBezTo>
              </a:path>
              <a:path w="2333" h="5483">
                <a:moveTo>
                  <a:pt x="14610" y="12874"/>
                </a:moveTo>
                <a:cubicBezTo>
                  <a:pt x="14671" y="12833"/>
                  <a:pt x="14712" y="12824"/>
                  <a:pt x="14784" y="12824"/>
                </a:cubicBezTo>
                <a:cubicBezTo>
                  <a:pt x="14890" y="12824"/>
                  <a:pt x="14883" y="12854"/>
                  <a:pt x="14883" y="12948"/>
                </a:cubicBezTo>
                <a:cubicBezTo>
                  <a:pt x="14883" y="13071"/>
                  <a:pt x="14808" y="13181"/>
                  <a:pt x="14759" y="13295"/>
                </a:cubicBezTo>
                <a:cubicBezTo>
                  <a:pt x="14712" y="13404"/>
                  <a:pt x="14684" y="13407"/>
                  <a:pt x="14684" y="13519"/>
                </a:cubicBezTo>
                <a:cubicBezTo>
                  <a:pt x="14787" y="13519"/>
                  <a:pt x="14880" y="13500"/>
                  <a:pt x="14982" y="13494"/>
                </a:cubicBezTo>
                <a:cubicBezTo>
                  <a:pt x="15037" y="13491"/>
                  <a:pt x="15042" y="13489"/>
                  <a:pt x="15106" y="13469"/>
                </a:cubicBezTo>
              </a:path>
              <a:path w="2333" h="5483">
                <a:moveTo>
                  <a:pt x="15453" y="12973"/>
                </a:moveTo>
                <a:cubicBezTo>
                  <a:pt x="15536" y="12993"/>
                  <a:pt x="15607" y="13062"/>
                  <a:pt x="15677" y="13122"/>
                </a:cubicBezTo>
                <a:cubicBezTo>
                  <a:pt x="15747" y="13182"/>
                  <a:pt x="15761" y="13196"/>
                  <a:pt x="15801" y="13271"/>
                </a:cubicBezTo>
                <a:cubicBezTo>
                  <a:pt x="15852" y="13366"/>
                  <a:pt x="15715" y="13429"/>
                  <a:pt x="15627" y="13444"/>
                </a:cubicBezTo>
                <a:cubicBezTo>
                  <a:pt x="15502" y="13466"/>
                  <a:pt x="15460" y="13389"/>
                  <a:pt x="15478" y="13271"/>
                </a:cubicBezTo>
                <a:cubicBezTo>
                  <a:pt x="15493" y="13170"/>
                  <a:pt x="15581" y="13086"/>
                  <a:pt x="15627" y="12998"/>
                </a:cubicBezTo>
                <a:cubicBezTo>
                  <a:pt x="15665" y="12927"/>
                  <a:pt x="15704" y="12871"/>
                  <a:pt x="15652" y="12799"/>
                </a:cubicBezTo>
                <a:cubicBezTo>
                  <a:pt x="15618" y="12753"/>
                  <a:pt x="15482" y="12697"/>
                  <a:pt x="15429" y="12700"/>
                </a:cubicBezTo>
                <a:cubicBezTo>
                  <a:pt x="15369" y="12704"/>
                  <a:pt x="15327" y="12797"/>
                  <a:pt x="15329" y="12849"/>
                </a:cubicBezTo>
                <a:cubicBezTo>
                  <a:pt x="15332" y="12918"/>
                  <a:pt x="15383" y="12917"/>
                  <a:pt x="15404" y="12948"/>
                </a:cubicBezTo>
                <a:cubicBezTo>
                  <a:pt x="15404" y="12956"/>
                  <a:pt x="15404" y="12965"/>
                  <a:pt x="15404" y="12973"/>
                </a:cubicBezTo>
              </a:path>
              <a:path w="2333" h="5483">
                <a:moveTo>
                  <a:pt x="13990" y="14039"/>
                </a:moveTo>
                <a:cubicBezTo>
                  <a:pt x="14189" y="14076"/>
                  <a:pt x="14404" y="14005"/>
                  <a:pt x="14610" y="13990"/>
                </a:cubicBezTo>
                <a:cubicBezTo>
                  <a:pt x="14917" y="13968"/>
                  <a:pt x="15221" y="13912"/>
                  <a:pt x="15528" y="13891"/>
                </a:cubicBezTo>
                <a:cubicBezTo>
                  <a:pt x="15663" y="13882"/>
                  <a:pt x="15816" y="13890"/>
                  <a:pt x="15949" y="13866"/>
                </a:cubicBezTo>
                <a:cubicBezTo>
                  <a:pt x="16034" y="13851"/>
                  <a:pt x="16109" y="13841"/>
                  <a:pt x="16197" y="13841"/>
                </a:cubicBezTo>
              </a:path>
              <a:path w="2333" h="5483">
                <a:moveTo>
                  <a:pt x="15701" y="14436"/>
                </a:moveTo>
                <a:cubicBezTo>
                  <a:pt x="15794" y="14428"/>
                  <a:pt x="15936" y="14387"/>
                  <a:pt x="16024" y="14436"/>
                </a:cubicBezTo>
                <a:cubicBezTo>
                  <a:pt x="16108" y="14483"/>
                  <a:pt x="16121" y="14628"/>
                  <a:pt x="16098" y="14709"/>
                </a:cubicBezTo>
                <a:cubicBezTo>
                  <a:pt x="16062" y="14835"/>
                  <a:pt x="15930" y="14940"/>
                  <a:pt x="15825" y="15007"/>
                </a:cubicBezTo>
                <a:cubicBezTo>
                  <a:pt x="15784" y="15034"/>
                  <a:pt x="15639" y="15156"/>
                  <a:pt x="15602" y="15156"/>
                </a:cubicBezTo>
                <a:cubicBezTo>
                  <a:pt x="15544" y="15156"/>
                  <a:pt x="15500" y="15071"/>
                  <a:pt x="15478" y="15032"/>
                </a:cubicBezTo>
                <a:cubicBezTo>
                  <a:pt x="15527" y="15020"/>
                  <a:pt x="15577" y="14982"/>
                  <a:pt x="15627" y="14957"/>
                </a:cubicBezTo>
                <a:cubicBezTo>
                  <a:pt x="15691" y="14925"/>
                  <a:pt x="15749" y="14957"/>
                  <a:pt x="15825" y="14957"/>
                </a:cubicBezTo>
                <a:cubicBezTo>
                  <a:pt x="15907" y="14957"/>
                  <a:pt x="15954" y="14989"/>
                  <a:pt x="16024" y="15007"/>
                </a:cubicBezTo>
                <a:cubicBezTo>
                  <a:pt x="16091" y="15024"/>
                  <a:pt x="16139" y="15037"/>
                  <a:pt x="16197" y="15081"/>
                </a:cubicBezTo>
                <a:cubicBezTo>
                  <a:pt x="16232" y="15108"/>
                  <a:pt x="16228" y="15106"/>
                  <a:pt x="16272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57880" y="3027240"/>
            <a:ext cx="876240" cy="3232440"/>
          </a:xfrm>
          <a:custGeom>
            <a:avLst/>
            <a:gdLst/>
            <a:ahLst/>
            <a:rect l="l" t="t" r="r" b="b"/>
            <a:pathLst>
              <a:path w="2432" h="8980">
                <a:moveTo>
                  <a:pt x="16768" y="10641"/>
                </a:moveTo>
                <a:cubicBezTo>
                  <a:pt x="16785" y="10583"/>
                  <a:pt x="16801" y="10526"/>
                  <a:pt x="16818" y="10468"/>
                </a:cubicBezTo>
              </a:path>
              <a:path w="2432" h="8980">
                <a:moveTo>
                  <a:pt x="17190" y="10071"/>
                </a:moveTo>
                <a:cubicBezTo>
                  <a:pt x="17190" y="10063"/>
                  <a:pt x="17190" y="10054"/>
                  <a:pt x="17190" y="10046"/>
                </a:cubicBezTo>
                <a:cubicBezTo>
                  <a:pt x="17262" y="10021"/>
                  <a:pt x="17176" y="9975"/>
                  <a:pt x="17140" y="9947"/>
                </a:cubicBezTo>
              </a:path>
              <a:path w="2432" h="8980">
                <a:moveTo>
                  <a:pt x="16594" y="9599"/>
                </a:moveTo>
                <a:cubicBezTo>
                  <a:pt x="16484" y="9627"/>
                  <a:pt x="16388" y="9721"/>
                  <a:pt x="16321" y="9823"/>
                </a:cubicBezTo>
                <a:cubicBezTo>
                  <a:pt x="16244" y="9941"/>
                  <a:pt x="16222" y="10073"/>
                  <a:pt x="16346" y="10170"/>
                </a:cubicBezTo>
                <a:cubicBezTo>
                  <a:pt x="16433" y="10238"/>
                  <a:pt x="16599" y="10271"/>
                  <a:pt x="16694" y="10195"/>
                </a:cubicBezTo>
                <a:cubicBezTo>
                  <a:pt x="16760" y="10142"/>
                  <a:pt x="16874" y="9966"/>
                  <a:pt x="16818" y="9872"/>
                </a:cubicBezTo>
                <a:cubicBezTo>
                  <a:pt x="16796" y="9834"/>
                  <a:pt x="16706" y="9801"/>
                  <a:pt x="16669" y="9773"/>
                </a:cubicBezTo>
              </a:path>
              <a:path w="2432" h="8980">
                <a:moveTo>
                  <a:pt x="16594" y="10641"/>
                </a:moveTo>
                <a:cubicBezTo>
                  <a:pt x="16569" y="10742"/>
                  <a:pt x="16548" y="10834"/>
                  <a:pt x="16545" y="10939"/>
                </a:cubicBezTo>
                <a:cubicBezTo>
                  <a:pt x="16540" y="11141"/>
                  <a:pt x="16608" y="11330"/>
                  <a:pt x="16594" y="11534"/>
                </a:cubicBezTo>
                <a:cubicBezTo>
                  <a:pt x="16580" y="11741"/>
                  <a:pt x="16549" y="11946"/>
                  <a:pt x="16545" y="12154"/>
                </a:cubicBezTo>
                <a:cubicBezTo>
                  <a:pt x="16541" y="12348"/>
                  <a:pt x="16549" y="12533"/>
                  <a:pt x="16520" y="12725"/>
                </a:cubicBezTo>
                <a:cubicBezTo>
                  <a:pt x="16495" y="12896"/>
                  <a:pt x="16461" y="13074"/>
                  <a:pt x="16446" y="13246"/>
                </a:cubicBezTo>
                <a:cubicBezTo>
                  <a:pt x="16436" y="13368"/>
                  <a:pt x="16424" y="13497"/>
                  <a:pt x="16421" y="13618"/>
                </a:cubicBezTo>
                <a:cubicBezTo>
                  <a:pt x="16420" y="13674"/>
                  <a:pt x="16457" y="13918"/>
                  <a:pt x="16446" y="13940"/>
                </a:cubicBezTo>
                <a:cubicBezTo>
                  <a:pt x="16437" y="13957"/>
                  <a:pt x="16377" y="13864"/>
                  <a:pt x="16321" y="13791"/>
                </a:cubicBezTo>
                <a:cubicBezTo>
                  <a:pt x="16272" y="13726"/>
                  <a:pt x="16227" y="13677"/>
                  <a:pt x="16173" y="13618"/>
                </a:cubicBezTo>
                <a:cubicBezTo>
                  <a:pt x="16217" y="13706"/>
                  <a:pt x="16267" y="13803"/>
                  <a:pt x="16321" y="13891"/>
                </a:cubicBezTo>
                <a:cubicBezTo>
                  <a:pt x="16422" y="13801"/>
                  <a:pt x="16545" y="13699"/>
                  <a:pt x="16619" y="13568"/>
                </a:cubicBezTo>
                <a:cubicBezTo>
                  <a:pt x="16647" y="13540"/>
                  <a:pt x="16656" y="13527"/>
                  <a:pt x="16644" y="13494"/>
                </a:cubicBezTo>
              </a:path>
              <a:path w="2432" h="8980">
                <a:moveTo>
                  <a:pt x="16718" y="14139"/>
                </a:moveTo>
                <a:cubicBezTo>
                  <a:pt x="16642" y="14154"/>
                  <a:pt x="16569" y="14163"/>
                  <a:pt x="16495" y="14288"/>
                </a:cubicBezTo>
                <a:cubicBezTo>
                  <a:pt x="16415" y="14423"/>
                  <a:pt x="16446" y="14582"/>
                  <a:pt x="16446" y="14734"/>
                </a:cubicBezTo>
                <a:cubicBezTo>
                  <a:pt x="16446" y="14850"/>
                  <a:pt x="16456" y="14992"/>
                  <a:pt x="16545" y="15081"/>
                </a:cubicBezTo>
                <a:cubicBezTo>
                  <a:pt x="16612" y="15149"/>
                  <a:pt x="16764" y="15146"/>
                  <a:pt x="16842" y="15106"/>
                </a:cubicBezTo>
                <a:cubicBezTo>
                  <a:pt x="16991" y="15030"/>
                  <a:pt x="17096" y="14865"/>
                  <a:pt x="17140" y="14709"/>
                </a:cubicBezTo>
                <a:cubicBezTo>
                  <a:pt x="17184" y="14552"/>
                  <a:pt x="17174" y="14403"/>
                  <a:pt x="17090" y="14263"/>
                </a:cubicBezTo>
                <a:cubicBezTo>
                  <a:pt x="17036" y="14174"/>
                  <a:pt x="16948" y="14107"/>
                  <a:pt x="16842" y="14089"/>
                </a:cubicBezTo>
                <a:cubicBezTo>
                  <a:pt x="16817" y="14089"/>
                  <a:pt x="16793" y="14089"/>
                  <a:pt x="16768" y="14089"/>
                </a:cubicBezTo>
              </a:path>
              <a:path w="2432" h="8980">
                <a:moveTo>
                  <a:pt x="16966" y="8458"/>
                </a:moveTo>
                <a:cubicBezTo>
                  <a:pt x="16935" y="8469"/>
                  <a:pt x="16827" y="8567"/>
                  <a:pt x="16793" y="8607"/>
                </a:cubicBezTo>
                <a:cubicBezTo>
                  <a:pt x="16793" y="8615"/>
                  <a:pt x="16793" y="8624"/>
                  <a:pt x="16793" y="8632"/>
                </a:cubicBezTo>
                <a:cubicBezTo>
                  <a:pt x="16884" y="8673"/>
                  <a:pt x="17042" y="8700"/>
                  <a:pt x="17115" y="8756"/>
                </a:cubicBezTo>
                <a:cubicBezTo>
                  <a:pt x="17208" y="8827"/>
                  <a:pt x="17185" y="8918"/>
                  <a:pt x="17165" y="9004"/>
                </a:cubicBezTo>
                <a:cubicBezTo>
                  <a:pt x="17142" y="9105"/>
                  <a:pt x="16949" y="9050"/>
                  <a:pt x="16892" y="9004"/>
                </a:cubicBezTo>
                <a:cubicBezTo>
                  <a:pt x="16875" y="8979"/>
                  <a:pt x="16859" y="8955"/>
                  <a:pt x="16842" y="8930"/>
                </a:cubicBezTo>
              </a:path>
              <a:path w="2432" h="8980">
                <a:moveTo>
                  <a:pt x="16768" y="8533"/>
                </a:moveTo>
                <a:cubicBezTo>
                  <a:pt x="16834" y="8489"/>
                  <a:pt x="16909" y="8445"/>
                  <a:pt x="16991" y="8434"/>
                </a:cubicBezTo>
                <a:cubicBezTo>
                  <a:pt x="17087" y="8421"/>
                  <a:pt x="17166" y="8430"/>
                  <a:pt x="17264" y="8409"/>
                </a:cubicBezTo>
              </a:path>
              <a:path w="2432" h="8980">
                <a:moveTo>
                  <a:pt x="14883" y="15974"/>
                </a:moveTo>
                <a:cubicBezTo>
                  <a:pt x="14904" y="15912"/>
                  <a:pt x="15040" y="15927"/>
                  <a:pt x="15106" y="15925"/>
                </a:cubicBezTo>
                <a:cubicBezTo>
                  <a:pt x="15221" y="15922"/>
                  <a:pt x="15284" y="15932"/>
                  <a:pt x="15379" y="15875"/>
                </a:cubicBezTo>
                <a:cubicBezTo>
                  <a:pt x="15396" y="15867"/>
                  <a:pt x="15412" y="15858"/>
                  <a:pt x="15429" y="15850"/>
                </a:cubicBezTo>
              </a:path>
              <a:path w="2432" h="8980">
                <a:moveTo>
                  <a:pt x="15602" y="14982"/>
                </a:moveTo>
                <a:cubicBezTo>
                  <a:pt x="15744" y="14967"/>
                  <a:pt x="15832" y="14952"/>
                  <a:pt x="15949" y="15056"/>
                </a:cubicBezTo>
                <a:cubicBezTo>
                  <a:pt x="15966" y="15073"/>
                  <a:pt x="15982" y="15089"/>
                  <a:pt x="15999" y="15106"/>
                </a:cubicBezTo>
                <a:cubicBezTo>
                  <a:pt x="15934" y="15270"/>
                  <a:pt x="15739" y="15362"/>
                  <a:pt x="15652" y="15528"/>
                </a:cubicBezTo>
                <a:cubicBezTo>
                  <a:pt x="15602" y="15623"/>
                  <a:pt x="15632" y="15733"/>
                  <a:pt x="15726" y="15776"/>
                </a:cubicBezTo>
                <a:cubicBezTo>
                  <a:pt x="15799" y="15809"/>
                  <a:pt x="15870" y="15825"/>
                  <a:pt x="15949" y="15825"/>
                </a:cubicBezTo>
                <a:cubicBezTo>
                  <a:pt x="16039" y="15825"/>
                  <a:pt x="16114" y="15828"/>
                  <a:pt x="16197" y="15801"/>
                </a:cubicBezTo>
              </a:path>
              <a:path w="2432" h="8980">
                <a:moveTo>
                  <a:pt x="16520" y="15106"/>
                </a:moveTo>
                <a:cubicBezTo>
                  <a:pt x="16480" y="15255"/>
                  <a:pt x="16385" y="15380"/>
                  <a:pt x="16421" y="15553"/>
                </a:cubicBezTo>
                <a:cubicBezTo>
                  <a:pt x="16449" y="15689"/>
                  <a:pt x="16609" y="15848"/>
                  <a:pt x="16718" y="15925"/>
                </a:cubicBezTo>
                <a:cubicBezTo>
                  <a:pt x="16838" y="16009"/>
                  <a:pt x="16922" y="15909"/>
                  <a:pt x="16991" y="15825"/>
                </a:cubicBezTo>
                <a:cubicBezTo>
                  <a:pt x="17109" y="15681"/>
                  <a:pt x="17113" y="15521"/>
                  <a:pt x="17016" y="15354"/>
                </a:cubicBezTo>
                <a:cubicBezTo>
                  <a:pt x="16952" y="15244"/>
                  <a:pt x="16849" y="15262"/>
                  <a:pt x="16743" y="15255"/>
                </a:cubicBezTo>
              </a:path>
              <a:path w="2432" h="8980">
                <a:moveTo>
                  <a:pt x="15627" y="16222"/>
                </a:moveTo>
                <a:cubicBezTo>
                  <a:pt x="15928" y="16244"/>
                  <a:pt x="16222" y="16238"/>
                  <a:pt x="16520" y="16247"/>
                </a:cubicBezTo>
                <a:cubicBezTo>
                  <a:pt x="16704" y="16253"/>
                  <a:pt x="16884" y="16265"/>
                  <a:pt x="17066" y="16272"/>
                </a:cubicBezTo>
                <a:cubicBezTo>
                  <a:pt x="17111" y="16274"/>
                  <a:pt x="17172" y="16338"/>
                  <a:pt x="17190" y="16297"/>
                </a:cubicBezTo>
                <a:cubicBezTo>
                  <a:pt x="17190" y="16280"/>
                  <a:pt x="17190" y="16264"/>
                  <a:pt x="17190" y="16247"/>
                </a:cubicBezTo>
              </a:path>
              <a:path w="2432" h="8980">
                <a:moveTo>
                  <a:pt x="16644" y="16594"/>
                </a:moveTo>
                <a:cubicBezTo>
                  <a:pt x="16605" y="16640"/>
                  <a:pt x="16498" y="16760"/>
                  <a:pt x="16470" y="16842"/>
                </a:cubicBezTo>
                <a:cubicBezTo>
                  <a:pt x="16405" y="17030"/>
                  <a:pt x="16468" y="17263"/>
                  <a:pt x="16644" y="17363"/>
                </a:cubicBezTo>
                <a:cubicBezTo>
                  <a:pt x="16824" y="17466"/>
                  <a:pt x="17029" y="17247"/>
                  <a:pt x="17115" y="17115"/>
                </a:cubicBezTo>
                <a:cubicBezTo>
                  <a:pt x="17192" y="16997"/>
                  <a:pt x="17329" y="16792"/>
                  <a:pt x="17314" y="16644"/>
                </a:cubicBezTo>
                <a:cubicBezTo>
                  <a:pt x="17305" y="16555"/>
                  <a:pt x="17240" y="16485"/>
                  <a:pt x="17165" y="16470"/>
                </a:cubicBezTo>
                <a:cubicBezTo>
                  <a:pt x="17107" y="16470"/>
                  <a:pt x="17082" y="16470"/>
                  <a:pt x="17041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86040" y="2705040"/>
            <a:ext cx="822240" cy="536760"/>
          </a:xfrm>
          <a:custGeom>
            <a:avLst/>
            <a:gdLst/>
            <a:ahLst/>
            <a:rect l="l" t="t" r="r" b="b"/>
            <a:pathLst>
              <a:path w="2283" h="1489">
                <a:moveTo>
                  <a:pt x="8607" y="8161"/>
                </a:moveTo>
                <a:cubicBezTo>
                  <a:pt x="8595" y="8126"/>
                  <a:pt x="8574" y="8123"/>
                  <a:pt x="8632" y="8086"/>
                </a:cubicBezTo>
                <a:cubicBezTo>
                  <a:pt x="8730" y="8025"/>
                  <a:pt x="8783" y="7992"/>
                  <a:pt x="8905" y="7987"/>
                </a:cubicBezTo>
                <a:cubicBezTo>
                  <a:pt x="9086" y="7979"/>
                  <a:pt x="8972" y="8151"/>
                  <a:pt x="8930" y="8210"/>
                </a:cubicBezTo>
                <a:cubicBezTo>
                  <a:pt x="8892" y="8267"/>
                  <a:pt x="8897" y="8292"/>
                  <a:pt x="8855" y="8285"/>
                </a:cubicBezTo>
                <a:cubicBezTo>
                  <a:pt x="8931" y="8304"/>
                  <a:pt x="9017" y="8312"/>
                  <a:pt x="9103" y="8334"/>
                </a:cubicBezTo>
                <a:cubicBezTo>
                  <a:pt x="9180" y="8354"/>
                  <a:pt x="9238" y="8416"/>
                  <a:pt x="9277" y="8483"/>
                </a:cubicBezTo>
                <a:cubicBezTo>
                  <a:pt x="9329" y="8571"/>
                  <a:pt x="9231" y="8626"/>
                  <a:pt x="9153" y="8657"/>
                </a:cubicBezTo>
                <a:cubicBezTo>
                  <a:pt x="9070" y="8689"/>
                  <a:pt x="8875" y="8686"/>
                  <a:pt x="8830" y="8582"/>
                </a:cubicBezTo>
                <a:cubicBezTo>
                  <a:pt x="8822" y="8541"/>
                  <a:pt x="8814" y="8499"/>
                  <a:pt x="8806" y="8458"/>
                </a:cubicBezTo>
              </a:path>
              <a:path w="2283" h="1489">
                <a:moveTo>
                  <a:pt x="8558" y="7764"/>
                </a:moveTo>
                <a:cubicBezTo>
                  <a:pt x="8499" y="7955"/>
                  <a:pt x="8500" y="8126"/>
                  <a:pt x="8483" y="8334"/>
                </a:cubicBezTo>
                <a:cubicBezTo>
                  <a:pt x="8462" y="8483"/>
                  <a:pt x="8453" y="8515"/>
                  <a:pt x="8458" y="8607"/>
                </a:cubicBezTo>
                <a:cubicBezTo>
                  <a:pt x="8408" y="8448"/>
                  <a:pt x="8361" y="8290"/>
                  <a:pt x="8384" y="8111"/>
                </a:cubicBezTo>
                <a:cubicBezTo>
                  <a:pt x="8392" y="8047"/>
                  <a:pt x="8437" y="7730"/>
                  <a:pt x="8533" y="7689"/>
                </a:cubicBezTo>
                <a:cubicBezTo>
                  <a:pt x="8769" y="7587"/>
                  <a:pt x="9101" y="7642"/>
                  <a:pt x="9351" y="7615"/>
                </a:cubicBezTo>
                <a:cubicBezTo>
                  <a:pt x="9559" y="7593"/>
                  <a:pt x="9765" y="7544"/>
                  <a:pt x="9971" y="7516"/>
                </a:cubicBezTo>
                <a:cubicBezTo>
                  <a:pt x="9991" y="7513"/>
                  <a:pt x="10084" y="7516"/>
                  <a:pt x="9971" y="7516"/>
                </a:cubicBezTo>
              </a:path>
              <a:path w="2283" h="1489">
                <a:moveTo>
                  <a:pt x="7938" y="7888"/>
                </a:moveTo>
                <a:cubicBezTo>
                  <a:pt x="7891" y="7857"/>
                  <a:pt x="7856" y="8024"/>
                  <a:pt x="7838" y="8086"/>
                </a:cubicBezTo>
                <a:cubicBezTo>
                  <a:pt x="7808" y="8191"/>
                  <a:pt x="7802" y="8246"/>
                  <a:pt x="7739" y="8334"/>
                </a:cubicBezTo>
                <a:cubicBezTo>
                  <a:pt x="7885" y="8383"/>
                  <a:pt x="8031" y="8381"/>
                  <a:pt x="8186" y="8359"/>
                </a:cubicBezTo>
                <a:cubicBezTo>
                  <a:pt x="8329" y="8339"/>
                  <a:pt x="8349" y="8341"/>
                  <a:pt x="8434" y="8235"/>
                </a:cubicBezTo>
              </a:path>
              <a:path w="2283" h="1489">
                <a:moveTo>
                  <a:pt x="8186" y="8037"/>
                </a:moveTo>
                <a:cubicBezTo>
                  <a:pt x="8170" y="8085"/>
                  <a:pt x="8131" y="8159"/>
                  <a:pt x="8111" y="8235"/>
                </a:cubicBezTo>
                <a:cubicBezTo>
                  <a:pt x="8086" y="8330"/>
                  <a:pt x="8086" y="8411"/>
                  <a:pt x="8086" y="8508"/>
                </a:cubicBezTo>
                <a:cubicBezTo>
                  <a:pt x="8086" y="8637"/>
                  <a:pt x="8081" y="8758"/>
                  <a:pt x="8062" y="8880"/>
                </a:cubicBezTo>
                <a:cubicBezTo>
                  <a:pt x="8055" y="8925"/>
                  <a:pt x="8046" y="8961"/>
                  <a:pt x="8037" y="9004"/>
                </a:cubicBezTo>
                <a:cubicBezTo>
                  <a:pt x="8064" y="8897"/>
                  <a:pt x="8060" y="9022"/>
                  <a:pt x="8037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180040"/>
            <a:ext cx="635040" cy="268200"/>
          </a:xfrm>
          <a:custGeom>
            <a:avLst/>
            <a:gdLst/>
            <a:ahLst/>
            <a:rect l="l" t="t" r="r" b="b"/>
            <a:pathLst>
              <a:path w="1763" h="745">
                <a:moveTo>
                  <a:pt x="3597" y="14660"/>
                </a:moveTo>
                <a:cubicBezTo>
                  <a:pt x="3540" y="14678"/>
                  <a:pt x="3512" y="14726"/>
                  <a:pt x="3497" y="14808"/>
                </a:cubicBezTo>
                <a:cubicBezTo>
                  <a:pt x="3472" y="14945"/>
                  <a:pt x="3588" y="15024"/>
                  <a:pt x="3696" y="15081"/>
                </a:cubicBezTo>
                <a:cubicBezTo>
                  <a:pt x="3866" y="15170"/>
                  <a:pt x="3980" y="15106"/>
                  <a:pt x="4043" y="14932"/>
                </a:cubicBezTo>
                <a:cubicBezTo>
                  <a:pt x="4093" y="14796"/>
                  <a:pt x="4045" y="14670"/>
                  <a:pt x="3894" y="14635"/>
                </a:cubicBezTo>
                <a:cubicBezTo>
                  <a:pt x="3816" y="14635"/>
                  <a:pt x="3798" y="14620"/>
                  <a:pt x="3770" y="14660"/>
                </a:cubicBezTo>
              </a:path>
              <a:path w="1763" h="745">
                <a:moveTo>
                  <a:pt x="4589" y="15032"/>
                </a:moveTo>
                <a:cubicBezTo>
                  <a:pt x="4589" y="15076"/>
                  <a:pt x="4574" y="15092"/>
                  <a:pt x="4564" y="15131"/>
                </a:cubicBezTo>
              </a:path>
              <a:path w="1763" h="745">
                <a:moveTo>
                  <a:pt x="4911" y="14387"/>
                </a:moveTo>
                <a:cubicBezTo>
                  <a:pt x="4911" y="14457"/>
                  <a:pt x="4892" y="14516"/>
                  <a:pt x="4887" y="14585"/>
                </a:cubicBezTo>
                <a:cubicBezTo>
                  <a:pt x="4884" y="14634"/>
                  <a:pt x="4872" y="14671"/>
                  <a:pt x="4911" y="14684"/>
                </a:cubicBezTo>
                <a:cubicBezTo>
                  <a:pt x="5014" y="14718"/>
                  <a:pt x="5097" y="14693"/>
                  <a:pt x="5184" y="14635"/>
                </a:cubicBezTo>
              </a:path>
              <a:path w="1763" h="745">
                <a:moveTo>
                  <a:pt x="5259" y="14412"/>
                </a:moveTo>
                <a:cubicBezTo>
                  <a:pt x="5204" y="14430"/>
                  <a:pt x="5203" y="14549"/>
                  <a:pt x="5209" y="14610"/>
                </a:cubicBezTo>
                <a:cubicBezTo>
                  <a:pt x="5223" y="14751"/>
                  <a:pt x="5249" y="14891"/>
                  <a:pt x="5259" y="15032"/>
                </a:cubicBezTo>
                <a:cubicBezTo>
                  <a:pt x="5259" y="15040"/>
                  <a:pt x="5259" y="15048"/>
                  <a:pt x="5259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3983040"/>
            <a:ext cx="1384560" cy="1660680"/>
          </a:xfrm>
          <a:custGeom>
            <a:avLst/>
            <a:gdLst/>
            <a:ahLst/>
            <a:rect l="l" t="t" r="r" b="b"/>
            <a:pathLst>
              <a:path w="3846" h="4615">
                <a:moveTo>
                  <a:pt x="7367" y="12774"/>
                </a:moveTo>
                <a:cubicBezTo>
                  <a:pt x="7367" y="12750"/>
                  <a:pt x="7367" y="12742"/>
                  <a:pt x="7342" y="12750"/>
                </a:cubicBezTo>
              </a:path>
              <a:path w="3846" h="4615">
                <a:moveTo>
                  <a:pt x="7516" y="12725"/>
                </a:moveTo>
                <a:cubicBezTo>
                  <a:pt x="7528" y="12689"/>
                  <a:pt x="7576" y="12643"/>
                  <a:pt x="7615" y="12601"/>
                </a:cubicBezTo>
                <a:cubicBezTo>
                  <a:pt x="7658" y="12555"/>
                  <a:pt x="7728" y="12554"/>
                  <a:pt x="7789" y="12551"/>
                </a:cubicBezTo>
                <a:cubicBezTo>
                  <a:pt x="7846" y="12548"/>
                  <a:pt x="7914" y="12539"/>
                  <a:pt x="7962" y="12576"/>
                </a:cubicBezTo>
                <a:cubicBezTo>
                  <a:pt x="8015" y="12617"/>
                  <a:pt x="8070" y="12658"/>
                  <a:pt x="8086" y="12725"/>
                </a:cubicBezTo>
                <a:cubicBezTo>
                  <a:pt x="8102" y="12791"/>
                  <a:pt x="8028" y="12929"/>
                  <a:pt x="7987" y="12973"/>
                </a:cubicBezTo>
                <a:cubicBezTo>
                  <a:pt x="7937" y="13027"/>
                  <a:pt x="7874" y="13075"/>
                  <a:pt x="7813" y="13122"/>
                </a:cubicBezTo>
                <a:cubicBezTo>
                  <a:pt x="7758" y="13164"/>
                  <a:pt x="7733" y="13167"/>
                  <a:pt x="7665" y="13171"/>
                </a:cubicBezTo>
                <a:cubicBezTo>
                  <a:pt x="7605" y="13175"/>
                  <a:pt x="7586" y="13161"/>
                  <a:pt x="7541" y="13146"/>
                </a:cubicBezTo>
                <a:cubicBezTo>
                  <a:pt x="7500" y="13132"/>
                  <a:pt x="7496" y="13127"/>
                  <a:pt x="7491" y="13072"/>
                </a:cubicBezTo>
                <a:cubicBezTo>
                  <a:pt x="7483" y="12989"/>
                  <a:pt x="7495" y="13033"/>
                  <a:pt x="7541" y="12998"/>
                </a:cubicBezTo>
                <a:cubicBezTo>
                  <a:pt x="7646" y="12919"/>
                  <a:pt x="7576" y="12935"/>
                  <a:pt x="7689" y="12948"/>
                </a:cubicBezTo>
                <a:cubicBezTo>
                  <a:pt x="7806" y="12961"/>
                  <a:pt x="7922" y="12957"/>
                  <a:pt x="8037" y="12973"/>
                </a:cubicBezTo>
                <a:cubicBezTo>
                  <a:pt x="8105" y="12982"/>
                  <a:pt x="8169" y="12974"/>
                  <a:pt x="8235" y="12998"/>
                </a:cubicBezTo>
                <a:cubicBezTo>
                  <a:pt x="8294" y="13019"/>
                  <a:pt x="8297" y="13035"/>
                  <a:pt x="8334" y="13047"/>
                </a:cubicBezTo>
                <a:cubicBezTo>
                  <a:pt x="8368" y="13058"/>
                  <a:pt x="8427" y="13078"/>
                  <a:pt x="8458" y="13097"/>
                </a:cubicBezTo>
                <a:cubicBezTo>
                  <a:pt x="8484" y="13113"/>
                  <a:pt x="8511" y="13149"/>
                  <a:pt x="8533" y="13171"/>
                </a:cubicBezTo>
              </a:path>
              <a:path w="3846" h="4615">
                <a:moveTo>
                  <a:pt x="7169" y="12526"/>
                </a:moveTo>
                <a:cubicBezTo>
                  <a:pt x="7178" y="12636"/>
                  <a:pt x="7196" y="12740"/>
                  <a:pt x="7218" y="12849"/>
                </a:cubicBezTo>
                <a:cubicBezTo>
                  <a:pt x="7246" y="12990"/>
                  <a:pt x="7241" y="13134"/>
                  <a:pt x="7268" y="13271"/>
                </a:cubicBezTo>
                <a:cubicBezTo>
                  <a:pt x="7276" y="13287"/>
                  <a:pt x="7285" y="13304"/>
                  <a:pt x="7293" y="13320"/>
                </a:cubicBezTo>
                <a:cubicBezTo>
                  <a:pt x="7293" y="13221"/>
                  <a:pt x="7293" y="13171"/>
                  <a:pt x="7293" y="13072"/>
                </a:cubicBezTo>
                <a:cubicBezTo>
                  <a:pt x="7293" y="12885"/>
                  <a:pt x="7249" y="12710"/>
                  <a:pt x="7243" y="12526"/>
                </a:cubicBezTo>
                <a:cubicBezTo>
                  <a:pt x="7241" y="12458"/>
                  <a:pt x="7226" y="12361"/>
                  <a:pt x="7268" y="12303"/>
                </a:cubicBezTo>
                <a:cubicBezTo>
                  <a:pt x="7307" y="12249"/>
                  <a:pt x="7347" y="12210"/>
                  <a:pt x="7392" y="12179"/>
                </a:cubicBezTo>
                <a:cubicBezTo>
                  <a:pt x="7475" y="12122"/>
                  <a:pt x="7508" y="12129"/>
                  <a:pt x="7615" y="12129"/>
                </a:cubicBezTo>
                <a:cubicBezTo>
                  <a:pt x="7913" y="12129"/>
                  <a:pt x="8210" y="12129"/>
                  <a:pt x="8508" y="12129"/>
                </a:cubicBezTo>
              </a:path>
              <a:path w="3846" h="4615">
                <a:moveTo>
                  <a:pt x="6449" y="12601"/>
                </a:moveTo>
                <a:cubicBezTo>
                  <a:pt x="6442" y="12718"/>
                  <a:pt x="6432" y="12822"/>
                  <a:pt x="6375" y="12923"/>
                </a:cubicBezTo>
                <a:cubicBezTo>
                  <a:pt x="6516" y="12923"/>
                  <a:pt x="6643" y="12904"/>
                  <a:pt x="6772" y="12973"/>
                </a:cubicBezTo>
                <a:cubicBezTo>
                  <a:pt x="6881" y="13031"/>
                  <a:pt x="6872" y="13097"/>
                  <a:pt x="6846" y="13196"/>
                </a:cubicBezTo>
                <a:cubicBezTo>
                  <a:pt x="6810" y="13333"/>
                  <a:pt x="6729" y="13437"/>
                  <a:pt x="6573" y="13419"/>
                </a:cubicBezTo>
                <a:cubicBezTo>
                  <a:pt x="6557" y="13411"/>
                  <a:pt x="6540" y="13403"/>
                  <a:pt x="6524" y="13395"/>
                </a:cubicBezTo>
              </a:path>
              <a:path w="3846" h="4615">
                <a:moveTo>
                  <a:pt x="6424" y="12526"/>
                </a:moveTo>
                <a:cubicBezTo>
                  <a:pt x="6424" y="12502"/>
                  <a:pt x="6424" y="12494"/>
                  <a:pt x="6400" y="12502"/>
                </a:cubicBezTo>
                <a:cubicBezTo>
                  <a:pt x="6470" y="12502"/>
                  <a:pt x="6526" y="12536"/>
                  <a:pt x="6598" y="12526"/>
                </a:cubicBezTo>
                <a:cubicBezTo>
                  <a:pt x="6690" y="12513"/>
                  <a:pt x="6749" y="12459"/>
                  <a:pt x="6821" y="12427"/>
                </a:cubicBezTo>
                <a:cubicBezTo>
                  <a:pt x="6846" y="12416"/>
                  <a:pt x="6892" y="12427"/>
                  <a:pt x="6921" y="12427"/>
                </a:cubicBezTo>
              </a:path>
              <a:path w="3846" h="4615">
                <a:moveTo>
                  <a:pt x="7938" y="11137"/>
                </a:moveTo>
                <a:cubicBezTo>
                  <a:pt x="7875" y="11102"/>
                  <a:pt x="7744" y="11009"/>
                  <a:pt x="7665" y="11063"/>
                </a:cubicBezTo>
                <a:cubicBezTo>
                  <a:pt x="7551" y="11140"/>
                  <a:pt x="7529" y="11389"/>
                  <a:pt x="7541" y="11509"/>
                </a:cubicBezTo>
                <a:cubicBezTo>
                  <a:pt x="7554" y="11640"/>
                  <a:pt x="7610" y="11710"/>
                  <a:pt x="7739" y="11733"/>
                </a:cubicBezTo>
                <a:cubicBezTo>
                  <a:pt x="7877" y="11757"/>
                  <a:pt x="7937" y="11714"/>
                  <a:pt x="7987" y="11584"/>
                </a:cubicBezTo>
                <a:cubicBezTo>
                  <a:pt x="8043" y="11439"/>
                  <a:pt x="7991" y="11359"/>
                  <a:pt x="7913" y="11237"/>
                </a:cubicBezTo>
                <a:cubicBezTo>
                  <a:pt x="7854" y="11145"/>
                  <a:pt x="7832" y="11168"/>
                  <a:pt x="7739" y="11137"/>
                </a:cubicBezTo>
              </a:path>
              <a:path w="3846" h="4615">
                <a:moveTo>
                  <a:pt x="7119" y="14238"/>
                </a:moveTo>
                <a:cubicBezTo>
                  <a:pt x="7195" y="14223"/>
                  <a:pt x="7263" y="14181"/>
                  <a:pt x="7342" y="14163"/>
                </a:cubicBezTo>
                <a:cubicBezTo>
                  <a:pt x="7459" y="14140"/>
                  <a:pt x="7496" y="14137"/>
                  <a:pt x="7541" y="14064"/>
                </a:cubicBezTo>
              </a:path>
              <a:path w="3846" h="4615">
                <a:moveTo>
                  <a:pt x="8210" y="13494"/>
                </a:moveTo>
                <a:cubicBezTo>
                  <a:pt x="8073" y="13509"/>
                  <a:pt x="7988" y="13571"/>
                  <a:pt x="7913" y="13692"/>
                </a:cubicBezTo>
                <a:cubicBezTo>
                  <a:pt x="7819" y="13843"/>
                  <a:pt x="7752" y="14034"/>
                  <a:pt x="7913" y="14163"/>
                </a:cubicBezTo>
                <a:cubicBezTo>
                  <a:pt x="8035" y="14260"/>
                  <a:pt x="8226" y="14211"/>
                  <a:pt x="8334" y="14114"/>
                </a:cubicBezTo>
                <a:cubicBezTo>
                  <a:pt x="8470" y="13992"/>
                  <a:pt x="8470" y="13778"/>
                  <a:pt x="8359" y="13643"/>
                </a:cubicBezTo>
                <a:cubicBezTo>
                  <a:pt x="8269" y="13534"/>
                  <a:pt x="8161" y="13550"/>
                  <a:pt x="8037" y="13543"/>
                </a:cubicBezTo>
              </a:path>
              <a:path w="3846" h="4615">
                <a:moveTo>
                  <a:pt x="6970" y="14709"/>
                </a:moveTo>
                <a:cubicBezTo>
                  <a:pt x="6970" y="14797"/>
                  <a:pt x="7019" y="14766"/>
                  <a:pt x="7169" y="14734"/>
                </a:cubicBezTo>
                <a:cubicBezTo>
                  <a:pt x="7506" y="14662"/>
                  <a:pt x="7811" y="14558"/>
                  <a:pt x="8161" y="14536"/>
                </a:cubicBezTo>
                <a:cubicBezTo>
                  <a:pt x="8313" y="14526"/>
                  <a:pt x="8457" y="14526"/>
                  <a:pt x="8607" y="14511"/>
                </a:cubicBezTo>
              </a:path>
              <a:path w="3846" h="4615">
                <a:moveTo>
                  <a:pt x="7665" y="14759"/>
                </a:moveTo>
                <a:cubicBezTo>
                  <a:pt x="7749" y="14737"/>
                  <a:pt x="7787" y="14732"/>
                  <a:pt x="7888" y="14759"/>
                </a:cubicBezTo>
                <a:cubicBezTo>
                  <a:pt x="7991" y="14787"/>
                  <a:pt x="8027" y="14809"/>
                  <a:pt x="8012" y="14932"/>
                </a:cubicBezTo>
                <a:cubicBezTo>
                  <a:pt x="7996" y="15058"/>
                  <a:pt x="7861" y="15178"/>
                  <a:pt x="7789" y="15280"/>
                </a:cubicBezTo>
                <a:cubicBezTo>
                  <a:pt x="7742" y="15346"/>
                  <a:pt x="7741" y="15404"/>
                  <a:pt x="7863" y="15404"/>
                </a:cubicBezTo>
                <a:cubicBezTo>
                  <a:pt x="7954" y="15404"/>
                  <a:pt x="8262" y="15386"/>
                  <a:pt x="8334" y="15329"/>
                </a:cubicBezTo>
                <a:cubicBezTo>
                  <a:pt x="8351" y="15304"/>
                  <a:pt x="8367" y="15280"/>
                  <a:pt x="8384" y="15255"/>
                </a:cubicBezTo>
              </a:path>
              <a:path w="3846" h="4615">
                <a:moveTo>
                  <a:pt x="8706" y="12998"/>
                </a:moveTo>
                <a:cubicBezTo>
                  <a:pt x="8676" y="13028"/>
                  <a:pt x="8615" y="13080"/>
                  <a:pt x="8682" y="13097"/>
                </a:cubicBezTo>
                <a:cubicBezTo>
                  <a:pt x="8690" y="13097"/>
                  <a:pt x="8698" y="13097"/>
                  <a:pt x="8706" y="13097"/>
                </a:cubicBezTo>
                <a:cubicBezTo>
                  <a:pt x="8706" y="13125"/>
                  <a:pt x="8704" y="13135"/>
                  <a:pt x="8682" y="13146"/>
                </a:cubicBezTo>
                <a:cubicBezTo>
                  <a:pt x="8765" y="13182"/>
                  <a:pt x="8810" y="13199"/>
                  <a:pt x="8830" y="13097"/>
                </a:cubicBezTo>
                <a:cubicBezTo>
                  <a:pt x="8773" y="13097"/>
                  <a:pt x="8754" y="13087"/>
                  <a:pt x="8731" y="13122"/>
                </a:cubicBezTo>
              </a:path>
              <a:path w="3846" h="4615">
                <a:moveTo>
                  <a:pt x="9252" y="12576"/>
                </a:moveTo>
                <a:cubicBezTo>
                  <a:pt x="9165" y="12628"/>
                  <a:pt x="9139" y="12741"/>
                  <a:pt x="9153" y="12849"/>
                </a:cubicBezTo>
                <a:cubicBezTo>
                  <a:pt x="9168" y="12960"/>
                  <a:pt x="9292" y="13096"/>
                  <a:pt x="9401" y="13122"/>
                </a:cubicBezTo>
                <a:cubicBezTo>
                  <a:pt x="9476" y="13140"/>
                  <a:pt x="9595" y="13096"/>
                  <a:pt x="9649" y="13047"/>
                </a:cubicBezTo>
                <a:cubicBezTo>
                  <a:pt x="9755" y="12951"/>
                  <a:pt x="9784" y="12839"/>
                  <a:pt x="9674" y="12725"/>
                </a:cubicBezTo>
                <a:cubicBezTo>
                  <a:pt x="9591" y="12638"/>
                  <a:pt x="9466" y="12609"/>
                  <a:pt x="9351" y="12601"/>
                </a:cubicBezTo>
                <a:cubicBezTo>
                  <a:pt x="9316" y="12601"/>
                  <a:pt x="9299" y="12596"/>
                  <a:pt x="9277" y="12576"/>
                </a:cubicBezTo>
              </a:path>
              <a:path w="3846" h="4615">
                <a:moveTo>
                  <a:pt x="8880" y="11956"/>
                </a:moveTo>
                <a:cubicBezTo>
                  <a:pt x="8903" y="11933"/>
                  <a:pt x="8911" y="11929"/>
                  <a:pt x="8905" y="11906"/>
                </a:cubicBezTo>
                <a:cubicBezTo>
                  <a:pt x="8868" y="11956"/>
                  <a:pt x="8850" y="12008"/>
                  <a:pt x="8954" y="11956"/>
                </a:cubicBezTo>
                <a:cubicBezTo>
                  <a:pt x="8977" y="11933"/>
                  <a:pt x="8985" y="11929"/>
                  <a:pt x="8979" y="11906"/>
                </a:cubicBezTo>
                <a:cubicBezTo>
                  <a:pt x="8889" y="11921"/>
                  <a:pt x="8948" y="11908"/>
                  <a:pt x="8954" y="11956"/>
                </a:cubicBezTo>
                <a:cubicBezTo>
                  <a:pt x="8954" y="11964"/>
                  <a:pt x="8954" y="11973"/>
                  <a:pt x="8954" y="11981"/>
                </a:cubicBezTo>
              </a:path>
              <a:path w="3846" h="4615">
                <a:moveTo>
                  <a:pt x="9302" y="13568"/>
                </a:moveTo>
                <a:cubicBezTo>
                  <a:pt x="9320" y="13692"/>
                  <a:pt x="9356" y="13815"/>
                  <a:pt x="9376" y="13940"/>
                </a:cubicBezTo>
                <a:cubicBezTo>
                  <a:pt x="9399" y="14082"/>
                  <a:pt x="9426" y="14218"/>
                  <a:pt x="9426" y="14362"/>
                </a:cubicBezTo>
                <a:cubicBezTo>
                  <a:pt x="9312" y="14283"/>
                  <a:pt x="9207" y="14184"/>
                  <a:pt x="9103" y="14089"/>
                </a:cubicBezTo>
                <a:cubicBezTo>
                  <a:pt x="9103" y="14175"/>
                  <a:pt x="9150" y="14267"/>
                  <a:pt x="9227" y="14312"/>
                </a:cubicBezTo>
                <a:cubicBezTo>
                  <a:pt x="9372" y="14396"/>
                  <a:pt x="9490" y="14299"/>
                  <a:pt x="9599" y="14213"/>
                </a:cubicBezTo>
                <a:cubicBezTo>
                  <a:pt x="9634" y="14186"/>
                  <a:pt x="9641" y="14154"/>
                  <a:pt x="9649" y="14114"/>
                </a:cubicBezTo>
              </a:path>
              <a:path w="3846" h="4615">
                <a:moveTo>
                  <a:pt x="9351" y="14957"/>
                </a:moveTo>
                <a:cubicBezTo>
                  <a:pt x="9334" y="14870"/>
                  <a:pt x="9304" y="14865"/>
                  <a:pt x="9203" y="14883"/>
                </a:cubicBezTo>
                <a:cubicBezTo>
                  <a:pt x="9059" y="14909"/>
                  <a:pt x="8976" y="15037"/>
                  <a:pt x="8979" y="15180"/>
                </a:cubicBezTo>
                <a:cubicBezTo>
                  <a:pt x="8982" y="15301"/>
                  <a:pt x="9019" y="15521"/>
                  <a:pt x="9128" y="15602"/>
                </a:cubicBezTo>
                <a:cubicBezTo>
                  <a:pt x="9189" y="15647"/>
                  <a:pt x="9351" y="15688"/>
                  <a:pt x="9426" y="15677"/>
                </a:cubicBezTo>
                <a:cubicBezTo>
                  <a:pt x="9581" y="15654"/>
                  <a:pt x="9643" y="15539"/>
                  <a:pt x="9649" y="15404"/>
                </a:cubicBezTo>
                <a:cubicBezTo>
                  <a:pt x="9656" y="15243"/>
                  <a:pt x="9655" y="15123"/>
                  <a:pt x="9575" y="14982"/>
                </a:cubicBezTo>
                <a:cubicBezTo>
                  <a:pt x="9546" y="14931"/>
                  <a:pt x="9511" y="14878"/>
                  <a:pt x="9475" y="14833"/>
                </a:cubicBezTo>
              </a:path>
              <a:path w="3846" h="4615">
                <a:moveTo>
                  <a:pt x="9674" y="11112"/>
                </a:moveTo>
                <a:cubicBezTo>
                  <a:pt x="9593" y="11112"/>
                  <a:pt x="9608" y="11120"/>
                  <a:pt x="9624" y="11088"/>
                </a:cubicBezTo>
                <a:cubicBezTo>
                  <a:pt x="9624" y="11080"/>
                  <a:pt x="9624" y="11071"/>
                  <a:pt x="9624" y="11063"/>
                </a:cubicBezTo>
                <a:cubicBezTo>
                  <a:pt x="9614" y="11102"/>
                  <a:pt x="9599" y="11117"/>
                  <a:pt x="9599" y="11162"/>
                </a:cubicBezTo>
                <a:cubicBezTo>
                  <a:pt x="9599" y="11239"/>
                  <a:pt x="9602" y="11319"/>
                  <a:pt x="9624" y="11361"/>
                </a:cubicBezTo>
                <a:cubicBezTo>
                  <a:pt x="9647" y="11406"/>
                  <a:pt x="9605" y="11410"/>
                  <a:pt x="9674" y="11410"/>
                </a:cubicBezTo>
                <a:cubicBezTo>
                  <a:pt x="9661" y="11463"/>
                  <a:pt x="9649" y="11495"/>
                  <a:pt x="9649" y="11559"/>
                </a:cubicBezTo>
                <a:cubicBezTo>
                  <a:pt x="9649" y="11639"/>
                  <a:pt x="9892" y="11609"/>
                  <a:pt x="9947" y="11609"/>
                </a:cubicBezTo>
                <a:cubicBezTo>
                  <a:pt x="9997" y="11609"/>
                  <a:pt x="10127" y="11604"/>
                  <a:pt x="10170" y="11584"/>
                </a:cubicBezTo>
                <a:cubicBezTo>
                  <a:pt x="10178" y="11576"/>
                  <a:pt x="10187" y="11567"/>
                  <a:pt x="10195" y="11559"/>
                </a:cubicBezTo>
              </a:path>
              <a:path w="3846" h="4615">
                <a:moveTo>
                  <a:pt x="10195" y="11261"/>
                </a:moveTo>
                <a:cubicBezTo>
                  <a:pt x="10195" y="11240"/>
                  <a:pt x="10179" y="11157"/>
                  <a:pt x="10195" y="11212"/>
                </a:cubicBezTo>
                <a:cubicBezTo>
                  <a:pt x="10233" y="11341"/>
                  <a:pt x="10220" y="11475"/>
                  <a:pt x="10220" y="11609"/>
                </a:cubicBezTo>
                <a:cubicBezTo>
                  <a:pt x="10220" y="11725"/>
                  <a:pt x="10220" y="11840"/>
                  <a:pt x="10220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11960" y="3697200"/>
            <a:ext cx="482400" cy="347760"/>
          </a:xfrm>
          <a:custGeom>
            <a:avLst/>
            <a:gdLst/>
            <a:ahLst/>
            <a:rect l="l" t="t" r="r" b="b"/>
            <a:pathLst>
              <a:path w="1340" h="969">
                <a:moveTo>
                  <a:pt x="18504" y="10294"/>
                </a:moveTo>
                <a:cubicBezTo>
                  <a:pt x="18496" y="10302"/>
                  <a:pt x="18487" y="10311"/>
                  <a:pt x="18479" y="10319"/>
                </a:cubicBezTo>
                <a:cubicBezTo>
                  <a:pt x="18559" y="10319"/>
                  <a:pt x="18651" y="10307"/>
                  <a:pt x="18728" y="10294"/>
                </a:cubicBezTo>
                <a:cubicBezTo>
                  <a:pt x="18814" y="10280"/>
                  <a:pt x="18825" y="10269"/>
                  <a:pt x="18901" y="10269"/>
                </a:cubicBezTo>
              </a:path>
              <a:path w="1340" h="969">
                <a:moveTo>
                  <a:pt x="17810" y="11212"/>
                </a:moveTo>
                <a:cubicBezTo>
                  <a:pt x="17929" y="11232"/>
                  <a:pt x="18010" y="11196"/>
                  <a:pt x="18132" y="11187"/>
                </a:cubicBezTo>
                <a:cubicBezTo>
                  <a:pt x="18279" y="11176"/>
                  <a:pt x="18435" y="11167"/>
                  <a:pt x="18579" y="11137"/>
                </a:cubicBezTo>
                <a:cubicBezTo>
                  <a:pt x="18680" y="11116"/>
                  <a:pt x="18779" y="11082"/>
                  <a:pt x="18876" y="11063"/>
                </a:cubicBezTo>
                <a:cubicBezTo>
                  <a:pt x="18952" y="11048"/>
                  <a:pt x="19024" y="11041"/>
                  <a:pt x="19100" y="11038"/>
                </a:cubicBezTo>
                <a:cubicBezTo>
                  <a:pt x="19144" y="11038"/>
                  <a:pt x="19164" y="11041"/>
                  <a:pt x="19124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2760" y="3894120"/>
            <a:ext cx="938160" cy="357120"/>
          </a:xfrm>
          <a:custGeom>
            <a:avLst/>
            <a:gdLst/>
            <a:ahLst/>
            <a:rect l="l" t="t" r="r" b="b"/>
            <a:pathLst>
              <a:path w="2605" h="993">
                <a:moveTo>
                  <a:pt x="20613" y="10815"/>
                </a:moveTo>
                <a:cubicBezTo>
                  <a:pt x="20498" y="10815"/>
                  <a:pt x="20431" y="10795"/>
                  <a:pt x="20340" y="10889"/>
                </a:cubicBezTo>
                <a:cubicBezTo>
                  <a:pt x="20206" y="11026"/>
                  <a:pt x="20115" y="11173"/>
                  <a:pt x="20092" y="11361"/>
                </a:cubicBezTo>
                <a:cubicBezTo>
                  <a:pt x="20069" y="11549"/>
                  <a:pt x="20188" y="11632"/>
                  <a:pt x="20365" y="11609"/>
                </a:cubicBezTo>
                <a:cubicBezTo>
                  <a:pt x="20480" y="11594"/>
                  <a:pt x="20575" y="11409"/>
                  <a:pt x="20613" y="11311"/>
                </a:cubicBezTo>
                <a:cubicBezTo>
                  <a:pt x="20648" y="11221"/>
                  <a:pt x="20679" y="11121"/>
                  <a:pt x="20638" y="11038"/>
                </a:cubicBezTo>
                <a:cubicBezTo>
                  <a:pt x="20605" y="10971"/>
                  <a:pt x="20590" y="10953"/>
                  <a:pt x="20538" y="10914"/>
                </a:cubicBezTo>
              </a:path>
              <a:path w="2605" h="993">
                <a:moveTo>
                  <a:pt x="20985" y="11559"/>
                </a:moveTo>
                <a:cubicBezTo>
                  <a:pt x="20950" y="11571"/>
                  <a:pt x="20962" y="11658"/>
                  <a:pt x="20935" y="11633"/>
                </a:cubicBezTo>
                <a:cubicBezTo>
                  <a:pt x="20927" y="11626"/>
                  <a:pt x="20952" y="11597"/>
                  <a:pt x="20960" y="11584"/>
                </a:cubicBezTo>
              </a:path>
              <a:path w="2605" h="993">
                <a:moveTo>
                  <a:pt x="21134" y="11013"/>
                </a:moveTo>
                <a:cubicBezTo>
                  <a:pt x="21254" y="11013"/>
                  <a:pt x="21361" y="11017"/>
                  <a:pt x="21481" y="11038"/>
                </a:cubicBezTo>
                <a:cubicBezTo>
                  <a:pt x="21600" y="11059"/>
                  <a:pt x="21708" y="11063"/>
                  <a:pt x="21828" y="11063"/>
                </a:cubicBezTo>
                <a:cubicBezTo>
                  <a:pt x="21870" y="11063"/>
                  <a:pt x="21878" y="11063"/>
                  <a:pt x="21903" y="11063"/>
                </a:cubicBezTo>
                <a:cubicBezTo>
                  <a:pt x="21884" y="11159"/>
                  <a:pt x="21851" y="11262"/>
                  <a:pt x="21828" y="11361"/>
                </a:cubicBezTo>
                <a:cubicBezTo>
                  <a:pt x="21804" y="11456"/>
                  <a:pt x="21798" y="11485"/>
                  <a:pt x="21754" y="11534"/>
                </a:cubicBezTo>
              </a:path>
              <a:path w="2605" h="993">
                <a:moveTo>
                  <a:pt x="22101" y="11088"/>
                </a:moveTo>
                <a:cubicBezTo>
                  <a:pt x="22087" y="11173"/>
                  <a:pt x="22048" y="11254"/>
                  <a:pt x="22027" y="11336"/>
                </a:cubicBezTo>
                <a:cubicBezTo>
                  <a:pt x="22004" y="11423"/>
                  <a:pt x="22124" y="11414"/>
                  <a:pt x="22175" y="11435"/>
                </a:cubicBezTo>
                <a:cubicBezTo>
                  <a:pt x="22295" y="11485"/>
                  <a:pt x="22382" y="11542"/>
                  <a:pt x="22473" y="11633"/>
                </a:cubicBezTo>
                <a:cubicBezTo>
                  <a:pt x="22524" y="11683"/>
                  <a:pt x="22485" y="11733"/>
                  <a:pt x="22448" y="11782"/>
                </a:cubicBezTo>
                <a:cubicBezTo>
                  <a:pt x="22399" y="11847"/>
                  <a:pt x="22280" y="11796"/>
                  <a:pt x="22250" y="11733"/>
                </a:cubicBezTo>
                <a:cubicBezTo>
                  <a:pt x="22250" y="11716"/>
                  <a:pt x="22250" y="11700"/>
                  <a:pt x="22250" y="11683"/>
                </a:cubicBezTo>
              </a:path>
              <a:path w="2605" h="993">
                <a:moveTo>
                  <a:pt x="22101" y="11261"/>
                </a:moveTo>
                <a:cubicBezTo>
                  <a:pt x="22101" y="11234"/>
                  <a:pt x="22128" y="11120"/>
                  <a:pt x="22126" y="11112"/>
                </a:cubicBezTo>
                <a:cubicBezTo>
                  <a:pt x="22120" y="11092"/>
                  <a:pt x="22069" y="11090"/>
                  <a:pt x="22126" y="11063"/>
                </a:cubicBezTo>
                <a:cubicBezTo>
                  <a:pt x="22207" y="11025"/>
                  <a:pt x="22334" y="11025"/>
                  <a:pt x="22423" y="11038"/>
                </a:cubicBezTo>
                <a:cubicBezTo>
                  <a:pt x="22510" y="11051"/>
                  <a:pt x="22583" y="11063"/>
                  <a:pt x="22671" y="11063"/>
                </a:cubicBezTo>
                <a:cubicBezTo>
                  <a:pt x="22679" y="11063"/>
                  <a:pt x="22688" y="11063"/>
                  <a:pt x="22696" y="110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41280" y="6643800"/>
            <a:ext cx="180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3448" y="18455"/>
                </a:moveTo>
                <a:cubicBezTo>
                  <a:pt x="3448" y="18463"/>
                  <a:pt x="3448" y="18471"/>
                  <a:pt x="3448" y="184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36960" y="2133720"/>
            <a:ext cx="1150920" cy="73080"/>
          </a:xfrm>
          <a:custGeom>
            <a:avLst/>
            <a:gdLst/>
            <a:ahLst/>
            <a:rect l="l" t="t" r="r" b="b"/>
            <a:pathLst>
              <a:path w="3200" h="200">
                <a:moveTo>
                  <a:pt x="8434" y="5953"/>
                </a:moveTo>
                <a:cubicBezTo>
                  <a:pt x="8644" y="5953"/>
                  <a:pt x="8848" y="5944"/>
                  <a:pt x="9054" y="5928"/>
                </a:cubicBezTo>
                <a:cubicBezTo>
                  <a:pt x="9519" y="5893"/>
                  <a:pt x="10005" y="5923"/>
                  <a:pt x="10468" y="5953"/>
                </a:cubicBezTo>
                <a:cubicBezTo>
                  <a:pt x="10599" y="5961"/>
                  <a:pt x="10738" y="5943"/>
                  <a:pt x="10864" y="5978"/>
                </a:cubicBezTo>
                <a:cubicBezTo>
                  <a:pt x="10976" y="6009"/>
                  <a:pt x="11095" y="6016"/>
                  <a:pt x="11212" y="6052"/>
                </a:cubicBezTo>
                <a:cubicBezTo>
                  <a:pt x="11310" y="6082"/>
                  <a:pt x="11410" y="6082"/>
                  <a:pt x="11509" y="6102"/>
                </a:cubicBezTo>
                <a:cubicBezTo>
                  <a:pt x="11550" y="6110"/>
                  <a:pt x="11592" y="6119"/>
                  <a:pt x="11633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0040" y="2152800"/>
            <a:ext cx="1017720" cy="34920"/>
          </a:xfrm>
          <a:custGeom>
            <a:avLst/>
            <a:gdLst/>
            <a:ahLst/>
            <a:rect l="l" t="t" r="r" b="b"/>
            <a:pathLst>
              <a:path w="2828" h="100">
                <a:moveTo>
                  <a:pt x="14387" y="6003"/>
                </a:moveTo>
                <a:cubicBezTo>
                  <a:pt x="14572" y="6003"/>
                  <a:pt x="14752" y="6009"/>
                  <a:pt x="14932" y="6028"/>
                </a:cubicBezTo>
                <a:cubicBezTo>
                  <a:pt x="15536" y="6093"/>
                  <a:pt x="16165" y="5999"/>
                  <a:pt x="16768" y="6052"/>
                </a:cubicBezTo>
                <a:cubicBezTo>
                  <a:pt x="16857" y="6060"/>
                  <a:pt x="16965" y="6069"/>
                  <a:pt x="17041" y="6077"/>
                </a:cubicBezTo>
                <a:cubicBezTo>
                  <a:pt x="17089" y="6082"/>
                  <a:pt x="17142" y="6077"/>
                  <a:pt x="17190" y="6077"/>
                </a:cubicBezTo>
                <a:cubicBezTo>
                  <a:pt x="17105" y="6043"/>
                  <a:pt x="17074" y="6017"/>
                  <a:pt x="16991" y="59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54840" y="211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5879"/>
                </a:moveTo>
                <a:lnTo>
                  <a:pt x="16818" y="58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54840" y="211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5879"/>
                </a:moveTo>
                <a:lnTo>
                  <a:pt x="16818" y="58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6960" y="3473280"/>
            <a:ext cx="216000" cy="23364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4188" y="9798"/>
                </a:moveTo>
                <a:cubicBezTo>
                  <a:pt x="14285" y="9701"/>
                  <a:pt x="14456" y="9616"/>
                  <a:pt x="14610" y="9649"/>
                </a:cubicBezTo>
                <a:cubicBezTo>
                  <a:pt x="14757" y="9680"/>
                  <a:pt x="14718" y="9824"/>
                  <a:pt x="14635" y="9897"/>
                </a:cubicBezTo>
                <a:cubicBezTo>
                  <a:pt x="14536" y="9956"/>
                  <a:pt x="14508" y="9954"/>
                  <a:pt x="14486" y="10021"/>
                </a:cubicBezTo>
                <a:cubicBezTo>
                  <a:pt x="14566" y="10037"/>
                  <a:pt x="14657" y="10036"/>
                  <a:pt x="14734" y="10071"/>
                </a:cubicBezTo>
                <a:cubicBezTo>
                  <a:pt x="14783" y="10093"/>
                  <a:pt x="14784" y="10183"/>
                  <a:pt x="14759" y="10220"/>
                </a:cubicBezTo>
                <a:cubicBezTo>
                  <a:pt x="14690" y="10323"/>
                  <a:pt x="14541" y="10294"/>
                  <a:pt x="14436" y="10294"/>
                </a:cubicBezTo>
                <a:cubicBezTo>
                  <a:pt x="14362" y="10294"/>
                  <a:pt x="14285" y="10264"/>
                  <a:pt x="14213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3330720"/>
            <a:ext cx="500040" cy="366480"/>
          </a:xfrm>
          <a:custGeom>
            <a:avLst/>
            <a:gdLst/>
            <a:ahLst/>
            <a:rect l="l" t="t" r="r" b="b"/>
            <a:pathLst>
              <a:path w="1390" h="1018">
                <a:moveTo>
                  <a:pt x="13692" y="9599"/>
                </a:moveTo>
                <a:cubicBezTo>
                  <a:pt x="13720" y="9746"/>
                  <a:pt x="13742" y="9897"/>
                  <a:pt x="13767" y="10046"/>
                </a:cubicBezTo>
                <a:cubicBezTo>
                  <a:pt x="13789" y="10161"/>
                  <a:pt x="13797" y="10193"/>
                  <a:pt x="13791" y="10269"/>
                </a:cubicBezTo>
                <a:cubicBezTo>
                  <a:pt x="13775" y="10103"/>
                  <a:pt x="13767" y="9942"/>
                  <a:pt x="13767" y="9773"/>
                </a:cubicBezTo>
                <a:cubicBezTo>
                  <a:pt x="13767" y="9633"/>
                  <a:pt x="13772" y="9398"/>
                  <a:pt x="13915" y="9327"/>
                </a:cubicBezTo>
                <a:cubicBezTo>
                  <a:pt x="14130" y="9220"/>
                  <a:pt x="14472" y="9263"/>
                  <a:pt x="14709" y="9252"/>
                </a:cubicBezTo>
                <a:cubicBezTo>
                  <a:pt x="14832" y="9246"/>
                  <a:pt x="14958" y="9252"/>
                  <a:pt x="1508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54360" y="346392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12675" y="9624"/>
                </a:moveTo>
                <a:cubicBezTo>
                  <a:pt x="12675" y="9725"/>
                  <a:pt x="12652" y="9818"/>
                  <a:pt x="12650" y="9922"/>
                </a:cubicBezTo>
                <a:cubicBezTo>
                  <a:pt x="12648" y="10034"/>
                  <a:pt x="12611" y="10134"/>
                  <a:pt x="12750" y="10120"/>
                </a:cubicBezTo>
                <a:cubicBezTo>
                  <a:pt x="12854" y="10110"/>
                  <a:pt x="12992" y="10118"/>
                  <a:pt x="13072" y="10046"/>
                </a:cubicBezTo>
                <a:cubicBezTo>
                  <a:pt x="13102" y="10016"/>
                  <a:pt x="13113" y="10002"/>
                  <a:pt x="13122" y="99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32200" y="351000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3171" y="9748"/>
                </a:moveTo>
                <a:cubicBezTo>
                  <a:pt x="13139" y="9896"/>
                  <a:pt x="13146" y="10042"/>
                  <a:pt x="13146" y="10195"/>
                </a:cubicBezTo>
                <a:cubicBezTo>
                  <a:pt x="13146" y="10257"/>
                  <a:pt x="13115" y="10399"/>
                  <a:pt x="13171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53040" y="3017880"/>
            <a:ext cx="214200" cy="241200"/>
          </a:xfrm>
          <a:custGeom>
            <a:avLst/>
            <a:gdLst/>
            <a:ahLst/>
            <a:rect l="l" t="t" r="r" b="b"/>
            <a:pathLst>
              <a:path w="597" h="671">
                <a:moveTo>
                  <a:pt x="14784" y="8508"/>
                </a:moveTo>
                <a:cubicBezTo>
                  <a:pt x="14769" y="8464"/>
                  <a:pt x="14757" y="8473"/>
                  <a:pt x="14709" y="8434"/>
                </a:cubicBezTo>
                <a:cubicBezTo>
                  <a:pt x="14666" y="8399"/>
                  <a:pt x="14606" y="8433"/>
                  <a:pt x="14560" y="8458"/>
                </a:cubicBezTo>
                <a:cubicBezTo>
                  <a:pt x="14530" y="8474"/>
                  <a:pt x="14447" y="8519"/>
                  <a:pt x="14436" y="8558"/>
                </a:cubicBezTo>
                <a:cubicBezTo>
                  <a:pt x="14419" y="8617"/>
                  <a:pt x="14406" y="8600"/>
                  <a:pt x="14387" y="8657"/>
                </a:cubicBezTo>
                <a:cubicBezTo>
                  <a:pt x="14374" y="8697"/>
                  <a:pt x="14358" y="8719"/>
                  <a:pt x="14337" y="8756"/>
                </a:cubicBezTo>
                <a:cubicBezTo>
                  <a:pt x="14303" y="8815"/>
                  <a:pt x="14312" y="8864"/>
                  <a:pt x="14312" y="8930"/>
                </a:cubicBezTo>
                <a:cubicBezTo>
                  <a:pt x="14312" y="8967"/>
                  <a:pt x="14353" y="8976"/>
                  <a:pt x="14387" y="9004"/>
                </a:cubicBezTo>
                <a:cubicBezTo>
                  <a:pt x="14416" y="9028"/>
                  <a:pt x="14448" y="9050"/>
                  <a:pt x="14486" y="9054"/>
                </a:cubicBezTo>
                <a:cubicBezTo>
                  <a:pt x="14553" y="9061"/>
                  <a:pt x="14606" y="9047"/>
                  <a:pt x="14660" y="9029"/>
                </a:cubicBezTo>
                <a:cubicBezTo>
                  <a:pt x="14697" y="9016"/>
                  <a:pt x="14729" y="9007"/>
                  <a:pt x="14759" y="8979"/>
                </a:cubicBezTo>
                <a:cubicBezTo>
                  <a:pt x="14809" y="8933"/>
                  <a:pt x="14828" y="8908"/>
                  <a:pt x="14858" y="8855"/>
                </a:cubicBezTo>
                <a:cubicBezTo>
                  <a:pt x="14890" y="8798"/>
                  <a:pt x="14903" y="8756"/>
                  <a:pt x="14908" y="8706"/>
                </a:cubicBezTo>
                <a:cubicBezTo>
                  <a:pt x="14915" y="8626"/>
                  <a:pt x="14900" y="8557"/>
                  <a:pt x="14883" y="8483"/>
                </a:cubicBezTo>
                <a:cubicBezTo>
                  <a:pt x="14873" y="8439"/>
                  <a:pt x="14880" y="8438"/>
                  <a:pt x="14858" y="8409"/>
                </a:cubicBezTo>
                <a:cubicBezTo>
                  <a:pt x="14850" y="8401"/>
                  <a:pt x="14841" y="8392"/>
                  <a:pt x="14833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3120" y="396396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3841" y="11013"/>
                </a:moveTo>
                <a:cubicBezTo>
                  <a:pt x="13855" y="11055"/>
                  <a:pt x="13936" y="11046"/>
                  <a:pt x="13990" y="11038"/>
                </a:cubicBezTo>
                <a:cubicBezTo>
                  <a:pt x="14061" y="11027"/>
                  <a:pt x="14097" y="11013"/>
                  <a:pt x="14163" y="11013"/>
                </a:cubicBezTo>
                <a:cubicBezTo>
                  <a:pt x="14196" y="11013"/>
                  <a:pt x="14213" y="11013"/>
                  <a:pt x="1423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70320" y="3840120"/>
            <a:ext cx="21456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14684" y="10691"/>
                </a:moveTo>
                <a:cubicBezTo>
                  <a:pt x="14661" y="10656"/>
                  <a:pt x="14561" y="10683"/>
                  <a:pt x="14536" y="10716"/>
                </a:cubicBezTo>
                <a:cubicBezTo>
                  <a:pt x="14489" y="10777"/>
                  <a:pt x="14449" y="10894"/>
                  <a:pt x="14412" y="10964"/>
                </a:cubicBezTo>
                <a:cubicBezTo>
                  <a:pt x="14384" y="11018"/>
                  <a:pt x="14365" y="11080"/>
                  <a:pt x="14362" y="11137"/>
                </a:cubicBezTo>
                <a:cubicBezTo>
                  <a:pt x="14358" y="11213"/>
                  <a:pt x="14405" y="11266"/>
                  <a:pt x="14412" y="11336"/>
                </a:cubicBezTo>
                <a:cubicBezTo>
                  <a:pt x="14417" y="11390"/>
                  <a:pt x="14411" y="11406"/>
                  <a:pt x="14436" y="11460"/>
                </a:cubicBezTo>
                <a:cubicBezTo>
                  <a:pt x="14475" y="11544"/>
                  <a:pt x="14537" y="11599"/>
                  <a:pt x="14635" y="11584"/>
                </a:cubicBezTo>
                <a:cubicBezTo>
                  <a:pt x="14741" y="11568"/>
                  <a:pt x="14825" y="11490"/>
                  <a:pt x="14883" y="11410"/>
                </a:cubicBezTo>
                <a:cubicBezTo>
                  <a:pt x="14957" y="11306"/>
                  <a:pt x="14984" y="11185"/>
                  <a:pt x="14932" y="11063"/>
                </a:cubicBezTo>
                <a:cubicBezTo>
                  <a:pt x="14897" y="10982"/>
                  <a:pt x="14818" y="10915"/>
                  <a:pt x="14734" y="10889"/>
                </a:cubicBezTo>
                <a:cubicBezTo>
                  <a:pt x="14680" y="10872"/>
                  <a:pt x="14681" y="10871"/>
                  <a:pt x="14610" y="108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8040" y="4197240"/>
            <a:ext cx="465120" cy="81000"/>
          </a:xfrm>
          <a:custGeom>
            <a:avLst/>
            <a:gdLst/>
            <a:ahLst/>
            <a:rect l="l" t="t" r="r" b="b"/>
            <a:pathLst>
              <a:path w="1291" h="224">
                <a:moveTo>
                  <a:pt x="13940" y="11881"/>
                </a:moveTo>
                <a:cubicBezTo>
                  <a:pt x="13993" y="11864"/>
                  <a:pt x="14049" y="11853"/>
                  <a:pt x="14139" y="11832"/>
                </a:cubicBezTo>
                <a:cubicBezTo>
                  <a:pt x="14424" y="11766"/>
                  <a:pt x="14715" y="11708"/>
                  <a:pt x="15007" y="11683"/>
                </a:cubicBezTo>
                <a:cubicBezTo>
                  <a:pt x="15085" y="11676"/>
                  <a:pt x="15153" y="11667"/>
                  <a:pt x="15230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43680" y="431316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4312" y="12080"/>
                </a:moveTo>
                <a:cubicBezTo>
                  <a:pt x="14376" y="12032"/>
                  <a:pt x="14479" y="12025"/>
                  <a:pt x="14560" y="12005"/>
                </a:cubicBezTo>
                <a:cubicBezTo>
                  <a:pt x="14630" y="11988"/>
                  <a:pt x="14667" y="11981"/>
                  <a:pt x="14734" y="11981"/>
                </a:cubicBezTo>
                <a:cubicBezTo>
                  <a:pt x="14719" y="12082"/>
                  <a:pt x="14656" y="12144"/>
                  <a:pt x="14635" y="12229"/>
                </a:cubicBezTo>
                <a:cubicBezTo>
                  <a:pt x="14696" y="12241"/>
                  <a:pt x="14781" y="12265"/>
                  <a:pt x="14833" y="12303"/>
                </a:cubicBezTo>
                <a:cubicBezTo>
                  <a:pt x="14910" y="12360"/>
                  <a:pt x="14892" y="12436"/>
                  <a:pt x="14833" y="12502"/>
                </a:cubicBezTo>
                <a:cubicBezTo>
                  <a:pt x="14727" y="12620"/>
                  <a:pt x="14633" y="12614"/>
                  <a:pt x="14486" y="12576"/>
                </a:cubicBezTo>
                <a:cubicBezTo>
                  <a:pt x="14361" y="12543"/>
                  <a:pt x="14327" y="12463"/>
                  <a:pt x="1428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5840" y="5776920"/>
            <a:ext cx="125280" cy="9360"/>
          </a:xfrm>
          <a:custGeom>
            <a:avLst/>
            <a:gdLst/>
            <a:ahLst/>
            <a:rect l="l" t="t" r="r" b="b"/>
            <a:pathLst>
              <a:path w="348" h="25">
                <a:moveTo>
                  <a:pt x="7293" y="16073"/>
                </a:moveTo>
                <a:cubicBezTo>
                  <a:pt x="7413" y="16073"/>
                  <a:pt x="7527" y="16082"/>
                  <a:pt x="7640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19240" y="5688000"/>
            <a:ext cx="169920" cy="20628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8111" y="15801"/>
                </a:moveTo>
                <a:cubicBezTo>
                  <a:pt x="8194" y="15805"/>
                  <a:pt x="8337" y="15781"/>
                  <a:pt x="8359" y="15900"/>
                </a:cubicBezTo>
                <a:cubicBezTo>
                  <a:pt x="8391" y="16073"/>
                  <a:pt x="8191" y="16143"/>
                  <a:pt x="8136" y="16272"/>
                </a:cubicBezTo>
                <a:cubicBezTo>
                  <a:pt x="8136" y="16297"/>
                  <a:pt x="8136" y="16321"/>
                  <a:pt x="8136" y="16346"/>
                </a:cubicBezTo>
                <a:cubicBezTo>
                  <a:pt x="8312" y="16412"/>
                  <a:pt x="8427" y="16313"/>
                  <a:pt x="8582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32080" y="5643720"/>
            <a:ext cx="179280" cy="19656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9128" y="15776"/>
                </a:moveTo>
                <a:cubicBezTo>
                  <a:pt x="9022" y="15882"/>
                  <a:pt x="8876" y="16051"/>
                  <a:pt x="9079" y="16173"/>
                </a:cubicBezTo>
                <a:cubicBezTo>
                  <a:pt x="9251" y="16276"/>
                  <a:pt x="9451" y="16178"/>
                  <a:pt x="9475" y="15974"/>
                </a:cubicBezTo>
                <a:cubicBezTo>
                  <a:pt x="9496" y="15792"/>
                  <a:pt x="9299" y="15745"/>
                  <a:pt x="9178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1160" y="5661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29" y="15726"/>
                </a:moveTo>
                <a:lnTo>
                  <a:pt x="9029" y="157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51160" y="5661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29" y="15726"/>
                </a:moveTo>
                <a:lnTo>
                  <a:pt x="9029" y="157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0960" y="5956200"/>
            <a:ext cx="536760" cy="125640"/>
          </a:xfrm>
          <a:custGeom>
            <a:avLst/>
            <a:gdLst/>
            <a:ahLst/>
            <a:rect l="l" t="t" r="r" b="b"/>
            <a:pathLst>
              <a:path w="1490" h="348">
                <a:moveTo>
                  <a:pt x="7838" y="16892"/>
                </a:moveTo>
                <a:cubicBezTo>
                  <a:pt x="7996" y="16839"/>
                  <a:pt x="8149" y="16807"/>
                  <a:pt x="8310" y="16768"/>
                </a:cubicBezTo>
                <a:cubicBezTo>
                  <a:pt x="8534" y="16713"/>
                  <a:pt x="8774" y="16643"/>
                  <a:pt x="9004" y="16619"/>
                </a:cubicBezTo>
                <a:cubicBezTo>
                  <a:pt x="9102" y="16609"/>
                  <a:pt x="9168" y="16587"/>
                  <a:pt x="9252" y="16570"/>
                </a:cubicBezTo>
                <a:cubicBezTo>
                  <a:pt x="9297" y="16570"/>
                  <a:pt x="9310" y="16573"/>
                  <a:pt x="9327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6062760"/>
            <a:ext cx="14436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9277" y="16842"/>
                </a:moveTo>
                <a:cubicBezTo>
                  <a:pt x="9225" y="16894"/>
                  <a:pt x="9176" y="16944"/>
                  <a:pt x="9153" y="17016"/>
                </a:cubicBezTo>
                <a:cubicBezTo>
                  <a:pt x="9123" y="17109"/>
                  <a:pt x="9107" y="17218"/>
                  <a:pt x="9103" y="17314"/>
                </a:cubicBezTo>
                <a:cubicBezTo>
                  <a:pt x="9098" y="17414"/>
                  <a:pt x="9178" y="17499"/>
                  <a:pt x="9277" y="17487"/>
                </a:cubicBezTo>
                <a:cubicBezTo>
                  <a:pt x="9414" y="17471"/>
                  <a:pt x="9500" y="17345"/>
                  <a:pt x="9500" y="17214"/>
                </a:cubicBezTo>
                <a:cubicBezTo>
                  <a:pt x="9500" y="17073"/>
                  <a:pt x="9420" y="16929"/>
                  <a:pt x="9277" y="16892"/>
                </a:cubicBezTo>
                <a:cubicBezTo>
                  <a:pt x="9245" y="16884"/>
                  <a:pt x="9171" y="16892"/>
                  <a:pt x="9128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decimal to a percenta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85960" y="1170000"/>
            <a:ext cx="6616800" cy="1044720"/>
          </a:xfrm>
          <a:custGeom>
            <a:avLst/>
            <a:gdLst/>
            <a:ahLst/>
            <a:rect l="l" t="t" r="r" b="b"/>
            <a:pathLst>
              <a:path w="18381" h="2904">
                <a:moveTo>
                  <a:pt x="8657" y="5482"/>
                </a:moveTo>
                <a:cubicBezTo>
                  <a:pt x="8682" y="5470"/>
                  <a:pt x="8771" y="5438"/>
                  <a:pt x="8830" y="5432"/>
                </a:cubicBezTo>
                <a:cubicBezTo>
                  <a:pt x="8997" y="5416"/>
                  <a:pt x="9118" y="5365"/>
                  <a:pt x="9277" y="5308"/>
                </a:cubicBezTo>
                <a:cubicBezTo>
                  <a:pt x="9412" y="5260"/>
                  <a:pt x="9562" y="5200"/>
                  <a:pt x="9699" y="5159"/>
                </a:cubicBezTo>
                <a:cubicBezTo>
                  <a:pt x="9871" y="5108"/>
                  <a:pt x="10045" y="5103"/>
                  <a:pt x="10220" y="5085"/>
                </a:cubicBezTo>
                <a:cubicBezTo>
                  <a:pt x="10428" y="5063"/>
                  <a:pt x="10633" y="5054"/>
                  <a:pt x="10840" y="5035"/>
                </a:cubicBezTo>
                <a:cubicBezTo>
                  <a:pt x="10937" y="5026"/>
                  <a:pt x="11016" y="5015"/>
                  <a:pt x="11112" y="5011"/>
                </a:cubicBezTo>
              </a:path>
              <a:path w="18381" h="2904">
                <a:moveTo>
                  <a:pt x="14436" y="5358"/>
                </a:moveTo>
                <a:cubicBezTo>
                  <a:pt x="14748" y="5358"/>
                  <a:pt x="15070" y="5324"/>
                  <a:pt x="15379" y="5333"/>
                </a:cubicBezTo>
                <a:cubicBezTo>
                  <a:pt x="15691" y="5342"/>
                  <a:pt x="16010" y="5355"/>
                  <a:pt x="16321" y="5383"/>
                </a:cubicBezTo>
                <a:cubicBezTo>
                  <a:pt x="16570" y="5406"/>
                  <a:pt x="16818" y="5435"/>
                  <a:pt x="17066" y="5457"/>
                </a:cubicBezTo>
                <a:cubicBezTo>
                  <a:pt x="17272" y="5475"/>
                  <a:pt x="17481" y="5495"/>
                  <a:pt x="17686" y="5507"/>
                </a:cubicBezTo>
                <a:cubicBezTo>
                  <a:pt x="17851" y="5517"/>
                  <a:pt x="18015" y="5482"/>
                  <a:pt x="18182" y="5482"/>
                </a:cubicBezTo>
                <a:cubicBezTo>
                  <a:pt x="18294" y="5482"/>
                  <a:pt x="18394" y="5461"/>
                  <a:pt x="18504" y="5457"/>
                </a:cubicBezTo>
                <a:cubicBezTo>
                  <a:pt x="18546" y="5457"/>
                  <a:pt x="18554" y="5457"/>
                  <a:pt x="18579" y="5457"/>
                </a:cubicBezTo>
              </a:path>
              <a:path w="18381" h="2904">
                <a:moveTo>
                  <a:pt x="5011" y="3671"/>
                </a:moveTo>
                <a:cubicBezTo>
                  <a:pt x="5011" y="3798"/>
                  <a:pt x="5012" y="3916"/>
                  <a:pt x="5035" y="4043"/>
                </a:cubicBezTo>
                <a:cubicBezTo>
                  <a:pt x="5070" y="4236"/>
                  <a:pt x="5082" y="4489"/>
                  <a:pt x="5135" y="4663"/>
                </a:cubicBezTo>
                <a:cubicBezTo>
                  <a:pt x="5061" y="4529"/>
                  <a:pt x="4944" y="4285"/>
                  <a:pt x="4961" y="4118"/>
                </a:cubicBezTo>
                <a:cubicBezTo>
                  <a:pt x="4985" y="3883"/>
                  <a:pt x="5204" y="3952"/>
                  <a:pt x="5358" y="3969"/>
                </a:cubicBezTo>
                <a:cubicBezTo>
                  <a:pt x="5374" y="3969"/>
                  <a:pt x="5391" y="3969"/>
                  <a:pt x="5407" y="3969"/>
                </a:cubicBezTo>
                <a:cubicBezTo>
                  <a:pt x="5371" y="4133"/>
                  <a:pt x="5223" y="4205"/>
                  <a:pt x="5060" y="4242"/>
                </a:cubicBezTo>
                <a:cubicBezTo>
                  <a:pt x="5027" y="4242"/>
                  <a:pt x="4994" y="4242"/>
                  <a:pt x="4961" y="4242"/>
                </a:cubicBezTo>
              </a:path>
              <a:path w="18381" h="2904">
                <a:moveTo>
                  <a:pt x="5631" y="4167"/>
                </a:moveTo>
                <a:cubicBezTo>
                  <a:pt x="5730" y="4108"/>
                  <a:pt x="5837" y="4044"/>
                  <a:pt x="5904" y="3944"/>
                </a:cubicBezTo>
                <a:cubicBezTo>
                  <a:pt x="5912" y="3927"/>
                  <a:pt x="5920" y="3911"/>
                  <a:pt x="5928" y="3894"/>
                </a:cubicBezTo>
                <a:cubicBezTo>
                  <a:pt x="5896" y="3837"/>
                  <a:pt x="5836" y="3774"/>
                  <a:pt x="5755" y="3820"/>
                </a:cubicBezTo>
                <a:cubicBezTo>
                  <a:pt x="5603" y="3907"/>
                  <a:pt x="5605" y="4084"/>
                  <a:pt x="5730" y="4192"/>
                </a:cubicBezTo>
                <a:cubicBezTo>
                  <a:pt x="5827" y="4276"/>
                  <a:pt x="5918" y="4255"/>
                  <a:pt x="6028" y="4242"/>
                </a:cubicBezTo>
              </a:path>
              <a:path w="18381" h="2904">
                <a:moveTo>
                  <a:pt x="6400" y="3994"/>
                </a:moveTo>
                <a:cubicBezTo>
                  <a:pt x="6423" y="4070"/>
                  <a:pt x="6445" y="4144"/>
                  <a:pt x="6474" y="4217"/>
                </a:cubicBezTo>
                <a:cubicBezTo>
                  <a:pt x="6464" y="4146"/>
                  <a:pt x="6412" y="4034"/>
                  <a:pt x="6474" y="3969"/>
                </a:cubicBezTo>
                <a:cubicBezTo>
                  <a:pt x="6582" y="3856"/>
                  <a:pt x="6704" y="3877"/>
                  <a:pt x="6846" y="3870"/>
                </a:cubicBezTo>
              </a:path>
              <a:path w="18381" h="2904">
                <a:moveTo>
                  <a:pt x="6995" y="4266"/>
                </a:moveTo>
                <a:cubicBezTo>
                  <a:pt x="7037" y="4214"/>
                  <a:pt x="7074" y="4154"/>
                  <a:pt x="7094" y="4093"/>
                </a:cubicBezTo>
                <a:cubicBezTo>
                  <a:pt x="6993" y="4073"/>
                  <a:pt x="6885" y="4072"/>
                  <a:pt x="6846" y="4167"/>
                </a:cubicBezTo>
                <a:cubicBezTo>
                  <a:pt x="6812" y="4250"/>
                  <a:pt x="6848" y="4333"/>
                  <a:pt x="6970" y="4316"/>
                </a:cubicBezTo>
                <a:cubicBezTo>
                  <a:pt x="7052" y="4305"/>
                  <a:pt x="7154" y="4239"/>
                  <a:pt x="7193" y="4167"/>
                </a:cubicBezTo>
                <a:cubicBezTo>
                  <a:pt x="7212" y="4131"/>
                  <a:pt x="7176" y="4114"/>
                  <a:pt x="7169" y="4093"/>
                </a:cubicBezTo>
              </a:path>
              <a:path w="18381" h="2904">
                <a:moveTo>
                  <a:pt x="6995" y="4093"/>
                </a:moveTo>
                <a:cubicBezTo>
                  <a:pt x="6957" y="4080"/>
                  <a:pt x="6970" y="4063"/>
                  <a:pt x="6970" y="4018"/>
                </a:cubicBezTo>
                <a:cubicBezTo>
                  <a:pt x="6970" y="3950"/>
                  <a:pt x="7015" y="3900"/>
                  <a:pt x="7069" y="3870"/>
                </a:cubicBezTo>
                <a:cubicBezTo>
                  <a:pt x="7154" y="3823"/>
                  <a:pt x="7265" y="3765"/>
                  <a:pt x="7367" y="3795"/>
                </a:cubicBezTo>
                <a:cubicBezTo>
                  <a:pt x="7420" y="3810"/>
                  <a:pt x="7471" y="3825"/>
                  <a:pt x="7516" y="3845"/>
                </a:cubicBezTo>
                <a:cubicBezTo>
                  <a:pt x="7532" y="3853"/>
                  <a:pt x="7549" y="3862"/>
                  <a:pt x="7565" y="3870"/>
                </a:cubicBezTo>
              </a:path>
              <a:path w="18381" h="2904">
                <a:moveTo>
                  <a:pt x="7938" y="4018"/>
                </a:moveTo>
                <a:cubicBezTo>
                  <a:pt x="7980" y="4018"/>
                  <a:pt x="8041" y="4007"/>
                  <a:pt x="8037" y="3944"/>
                </a:cubicBezTo>
                <a:cubicBezTo>
                  <a:pt x="8029" y="3927"/>
                  <a:pt x="8020" y="3911"/>
                  <a:pt x="8012" y="3894"/>
                </a:cubicBezTo>
                <a:cubicBezTo>
                  <a:pt x="7946" y="3875"/>
                  <a:pt x="7817" y="3841"/>
                  <a:pt x="7764" y="3919"/>
                </a:cubicBezTo>
                <a:cubicBezTo>
                  <a:pt x="7728" y="3972"/>
                  <a:pt x="7693" y="4079"/>
                  <a:pt x="7689" y="4142"/>
                </a:cubicBezTo>
                <a:cubicBezTo>
                  <a:pt x="7687" y="4182"/>
                  <a:pt x="7707" y="4285"/>
                  <a:pt x="7739" y="4316"/>
                </a:cubicBezTo>
                <a:cubicBezTo>
                  <a:pt x="7877" y="4448"/>
                  <a:pt x="7999" y="4364"/>
                  <a:pt x="8136" y="4291"/>
                </a:cubicBezTo>
              </a:path>
              <a:path w="18381" h="2904">
                <a:moveTo>
                  <a:pt x="8285" y="3894"/>
                </a:moveTo>
                <a:cubicBezTo>
                  <a:pt x="8285" y="4014"/>
                  <a:pt x="8294" y="4130"/>
                  <a:pt x="8260" y="4242"/>
                </a:cubicBezTo>
                <a:cubicBezTo>
                  <a:pt x="8322" y="4135"/>
                  <a:pt x="8345" y="4042"/>
                  <a:pt x="8434" y="3944"/>
                </a:cubicBezTo>
                <a:cubicBezTo>
                  <a:pt x="8475" y="3902"/>
                  <a:pt x="8483" y="3894"/>
                  <a:pt x="8508" y="3870"/>
                </a:cubicBezTo>
                <a:cubicBezTo>
                  <a:pt x="8590" y="3910"/>
                  <a:pt x="8629" y="4026"/>
                  <a:pt x="8657" y="4118"/>
                </a:cubicBezTo>
                <a:cubicBezTo>
                  <a:pt x="8676" y="4192"/>
                  <a:pt x="8684" y="4199"/>
                  <a:pt x="8682" y="4242"/>
                </a:cubicBezTo>
              </a:path>
              <a:path w="18381" h="2904">
                <a:moveTo>
                  <a:pt x="8880" y="4142"/>
                </a:moveTo>
                <a:cubicBezTo>
                  <a:pt x="9052" y="4085"/>
                  <a:pt x="9227" y="4057"/>
                  <a:pt x="9351" y="3944"/>
                </a:cubicBezTo>
              </a:path>
              <a:path w="18381" h="2904">
                <a:moveTo>
                  <a:pt x="8830" y="3398"/>
                </a:moveTo>
                <a:cubicBezTo>
                  <a:pt x="8837" y="3622"/>
                  <a:pt x="8855" y="3843"/>
                  <a:pt x="8855" y="4068"/>
                </a:cubicBezTo>
                <a:cubicBezTo>
                  <a:pt x="8855" y="4215"/>
                  <a:pt x="8855" y="4371"/>
                  <a:pt x="8880" y="4514"/>
                </a:cubicBezTo>
                <a:cubicBezTo>
                  <a:pt x="8899" y="4572"/>
                  <a:pt x="8908" y="4579"/>
                  <a:pt x="8905" y="4614"/>
                </a:cubicBezTo>
              </a:path>
              <a:path w="18381" h="2904">
                <a:moveTo>
                  <a:pt x="9773" y="4068"/>
                </a:moveTo>
                <a:cubicBezTo>
                  <a:pt x="9714" y="3994"/>
                  <a:pt x="9582" y="3965"/>
                  <a:pt x="9475" y="3994"/>
                </a:cubicBezTo>
                <a:cubicBezTo>
                  <a:pt x="9412" y="4011"/>
                  <a:pt x="9341" y="4036"/>
                  <a:pt x="9327" y="4093"/>
                </a:cubicBezTo>
                <a:cubicBezTo>
                  <a:pt x="9423" y="4170"/>
                  <a:pt x="9518" y="4187"/>
                  <a:pt x="9624" y="4242"/>
                </a:cubicBezTo>
                <a:cubicBezTo>
                  <a:pt x="9668" y="4265"/>
                  <a:pt x="9702" y="4304"/>
                  <a:pt x="9748" y="4316"/>
                </a:cubicBezTo>
                <a:cubicBezTo>
                  <a:pt x="9748" y="4376"/>
                  <a:pt x="9712" y="4380"/>
                  <a:pt x="9649" y="4390"/>
                </a:cubicBezTo>
                <a:cubicBezTo>
                  <a:pt x="9549" y="4406"/>
                  <a:pt x="9536" y="4345"/>
                  <a:pt x="9475" y="4266"/>
                </a:cubicBezTo>
              </a:path>
              <a:path w="18381" h="2904">
                <a:moveTo>
                  <a:pt x="12477" y="4068"/>
                </a:moveTo>
                <a:cubicBezTo>
                  <a:pt x="12375" y="4023"/>
                  <a:pt x="12266" y="3979"/>
                  <a:pt x="12154" y="3969"/>
                </a:cubicBezTo>
                <a:cubicBezTo>
                  <a:pt x="12038" y="3958"/>
                  <a:pt x="11784" y="3977"/>
                  <a:pt x="11733" y="4118"/>
                </a:cubicBezTo>
                <a:cubicBezTo>
                  <a:pt x="11669" y="4296"/>
                  <a:pt x="11841" y="4379"/>
                  <a:pt x="11981" y="4316"/>
                </a:cubicBezTo>
                <a:cubicBezTo>
                  <a:pt x="12071" y="4249"/>
                  <a:pt x="12098" y="4234"/>
                  <a:pt x="12129" y="4167"/>
                </a:cubicBezTo>
                <a:cubicBezTo>
                  <a:pt x="12245" y="4254"/>
                  <a:pt x="12261" y="4305"/>
                  <a:pt x="12402" y="4266"/>
                </a:cubicBezTo>
              </a:path>
              <a:path w="18381" h="2904">
                <a:moveTo>
                  <a:pt x="12675" y="4118"/>
                </a:moveTo>
                <a:cubicBezTo>
                  <a:pt x="12702" y="4151"/>
                  <a:pt x="12724" y="4184"/>
                  <a:pt x="12750" y="4217"/>
                </a:cubicBezTo>
                <a:cubicBezTo>
                  <a:pt x="12750" y="4113"/>
                  <a:pt x="12739" y="4056"/>
                  <a:pt x="12824" y="3994"/>
                </a:cubicBezTo>
                <a:cubicBezTo>
                  <a:pt x="12920" y="3924"/>
                  <a:pt x="12915" y="3924"/>
                  <a:pt x="13022" y="3944"/>
                </a:cubicBezTo>
              </a:path>
              <a:path w="18381" h="2904">
                <a:moveTo>
                  <a:pt x="12998" y="4440"/>
                </a:moveTo>
                <a:cubicBezTo>
                  <a:pt x="13089" y="4446"/>
                  <a:pt x="13235" y="4464"/>
                  <a:pt x="13271" y="4341"/>
                </a:cubicBezTo>
                <a:cubicBezTo>
                  <a:pt x="13295" y="4259"/>
                  <a:pt x="13246" y="4249"/>
                  <a:pt x="13221" y="4192"/>
                </a:cubicBezTo>
                <a:cubicBezTo>
                  <a:pt x="13201" y="4147"/>
                  <a:pt x="13174" y="4115"/>
                  <a:pt x="13146" y="4093"/>
                </a:cubicBezTo>
                <a:cubicBezTo>
                  <a:pt x="13049" y="4018"/>
                  <a:pt x="13039" y="4043"/>
                  <a:pt x="12998" y="4118"/>
                </a:cubicBezTo>
                <a:cubicBezTo>
                  <a:pt x="12915" y="4270"/>
                  <a:pt x="12988" y="4284"/>
                  <a:pt x="13122" y="4341"/>
                </a:cubicBezTo>
                <a:cubicBezTo>
                  <a:pt x="13198" y="4373"/>
                  <a:pt x="13244" y="4375"/>
                  <a:pt x="13320" y="4341"/>
                </a:cubicBezTo>
                <a:cubicBezTo>
                  <a:pt x="13395" y="4307"/>
                  <a:pt x="13476" y="4265"/>
                  <a:pt x="13543" y="4217"/>
                </a:cubicBezTo>
                <a:cubicBezTo>
                  <a:pt x="13592" y="4182"/>
                  <a:pt x="13641" y="4151"/>
                  <a:pt x="13692" y="4118"/>
                </a:cubicBezTo>
                <a:cubicBezTo>
                  <a:pt x="13757" y="4074"/>
                  <a:pt x="13772" y="4063"/>
                  <a:pt x="13816" y="4043"/>
                </a:cubicBezTo>
              </a:path>
              <a:path w="18381" h="2904">
                <a:moveTo>
                  <a:pt x="15180" y="3944"/>
                </a:moveTo>
                <a:cubicBezTo>
                  <a:pt x="15180" y="3843"/>
                  <a:pt x="15140" y="4091"/>
                  <a:pt x="15131" y="4192"/>
                </a:cubicBezTo>
                <a:cubicBezTo>
                  <a:pt x="15119" y="4329"/>
                  <a:pt x="15145" y="4459"/>
                  <a:pt x="15106" y="4589"/>
                </a:cubicBezTo>
                <a:cubicBezTo>
                  <a:pt x="15065" y="4404"/>
                  <a:pt x="15047" y="4282"/>
                  <a:pt x="15056" y="4093"/>
                </a:cubicBezTo>
                <a:cubicBezTo>
                  <a:pt x="15059" y="4025"/>
                  <a:pt x="15073" y="3921"/>
                  <a:pt x="15156" y="3894"/>
                </a:cubicBezTo>
                <a:cubicBezTo>
                  <a:pt x="15297" y="3848"/>
                  <a:pt x="15332" y="3872"/>
                  <a:pt x="15404" y="3969"/>
                </a:cubicBezTo>
                <a:cubicBezTo>
                  <a:pt x="15434" y="3999"/>
                  <a:pt x="15439" y="4013"/>
                  <a:pt x="15404" y="4043"/>
                </a:cubicBezTo>
                <a:cubicBezTo>
                  <a:pt x="15313" y="4085"/>
                  <a:pt x="15246" y="4123"/>
                  <a:pt x="15156" y="4068"/>
                </a:cubicBezTo>
              </a:path>
              <a:path w="18381" h="2904">
                <a:moveTo>
                  <a:pt x="15925" y="3969"/>
                </a:moveTo>
                <a:cubicBezTo>
                  <a:pt x="15925" y="3910"/>
                  <a:pt x="15946" y="3867"/>
                  <a:pt x="15850" y="3870"/>
                </a:cubicBezTo>
                <a:cubicBezTo>
                  <a:pt x="15708" y="3875"/>
                  <a:pt x="15592" y="3976"/>
                  <a:pt x="15553" y="4093"/>
                </a:cubicBezTo>
                <a:cubicBezTo>
                  <a:pt x="15685" y="4185"/>
                  <a:pt x="15740" y="4172"/>
                  <a:pt x="15850" y="4043"/>
                </a:cubicBezTo>
                <a:cubicBezTo>
                  <a:pt x="15867" y="4018"/>
                  <a:pt x="15883" y="3994"/>
                  <a:pt x="15900" y="3969"/>
                </a:cubicBezTo>
                <a:cubicBezTo>
                  <a:pt x="16016" y="4097"/>
                  <a:pt x="16040" y="4111"/>
                  <a:pt x="16197" y="4043"/>
                </a:cubicBezTo>
              </a:path>
              <a:path w="18381" h="2904">
                <a:moveTo>
                  <a:pt x="16321" y="3994"/>
                </a:moveTo>
                <a:cubicBezTo>
                  <a:pt x="16324" y="4002"/>
                  <a:pt x="16378" y="4123"/>
                  <a:pt x="16346" y="4068"/>
                </a:cubicBezTo>
                <a:cubicBezTo>
                  <a:pt x="16307" y="4001"/>
                  <a:pt x="16267" y="3962"/>
                  <a:pt x="16321" y="3894"/>
                </a:cubicBezTo>
                <a:cubicBezTo>
                  <a:pt x="16376" y="3825"/>
                  <a:pt x="16492" y="3845"/>
                  <a:pt x="16570" y="3845"/>
                </a:cubicBezTo>
              </a:path>
              <a:path w="18381" h="2904">
                <a:moveTo>
                  <a:pt x="16644" y="3969"/>
                </a:moveTo>
                <a:cubicBezTo>
                  <a:pt x="16800" y="3969"/>
                  <a:pt x="16941" y="3971"/>
                  <a:pt x="17090" y="3919"/>
                </a:cubicBezTo>
                <a:cubicBezTo>
                  <a:pt x="17144" y="3892"/>
                  <a:pt x="17164" y="3880"/>
                  <a:pt x="17190" y="3845"/>
                </a:cubicBezTo>
              </a:path>
              <a:path w="18381" h="2904">
                <a:moveTo>
                  <a:pt x="16867" y="3398"/>
                </a:moveTo>
                <a:cubicBezTo>
                  <a:pt x="16794" y="3528"/>
                  <a:pt x="16769" y="3628"/>
                  <a:pt x="16743" y="3770"/>
                </a:cubicBezTo>
                <a:cubicBezTo>
                  <a:pt x="16725" y="3866"/>
                  <a:pt x="16733" y="3976"/>
                  <a:pt x="16768" y="4068"/>
                </a:cubicBezTo>
                <a:cubicBezTo>
                  <a:pt x="16791" y="4091"/>
                  <a:pt x="16799" y="4095"/>
                  <a:pt x="16793" y="4118"/>
                </a:cubicBezTo>
              </a:path>
              <a:path w="18381" h="2904">
                <a:moveTo>
                  <a:pt x="18554" y="3944"/>
                </a:moveTo>
                <a:cubicBezTo>
                  <a:pt x="18474" y="3992"/>
                  <a:pt x="18274" y="4090"/>
                  <a:pt x="18306" y="4217"/>
                </a:cubicBezTo>
                <a:cubicBezTo>
                  <a:pt x="18348" y="4380"/>
                  <a:pt x="18618" y="4382"/>
                  <a:pt x="18703" y="4266"/>
                </a:cubicBezTo>
                <a:cubicBezTo>
                  <a:pt x="18789" y="4148"/>
                  <a:pt x="18632" y="4128"/>
                  <a:pt x="18604" y="4043"/>
                </a:cubicBezTo>
                <a:cubicBezTo>
                  <a:pt x="18604" y="3984"/>
                  <a:pt x="18607" y="3958"/>
                  <a:pt x="18628" y="3919"/>
                </a:cubicBezTo>
              </a:path>
              <a:path w="18381" h="2904">
                <a:moveTo>
                  <a:pt x="19670" y="3497"/>
                </a:moveTo>
                <a:cubicBezTo>
                  <a:pt x="19683" y="3433"/>
                  <a:pt x="19727" y="3361"/>
                  <a:pt x="19670" y="3299"/>
                </a:cubicBezTo>
                <a:cubicBezTo>
                  <a:pt x="19626" y="3251"/>
                  <a:pt x="19499" y="3222"/>
                  <a:pt x="19447" y="3274"/>
                </a:cubicBezTo>
                <a:cubicBezTo>
                  <a:pt x="19314" y="3407"/>
                  <a:pt x="19312" y="3553"/>
                  <a:pt x="19372" y="3721"/>
                </a:cubicBezTo>
                <a:cubicBezTo>
                  <a:pt x="19418" y="3848"/>
                  <a:pt x="19447" y="3904"/>
                  <a:pt x="19447" y="4043"/>
                </a:cubicBezTo>
                <a:cubicBezTo>
                  <a:pt x="19447" y="4101"/>
                  <a:pt x="19447" y="4159"/>
                  <a:pt x="19447" y="4217"/>
                </a:cubicBezTo>
              </a:path>
              <a:path w="18381" h="2904">
                <a:moveTo>
                  <a:pt x="19199" y="3894"/>
                </a:moveTo>
                <a:cubicBezTo>
                  <a:pt x="19251" y="3894"/>
                  <a:pt x="19270" y="3874"/>
                  <a:pt x="19323" y="3870"/>
                </a:cubicBezTo>
                <a:cubicBezTo>
                  <a:pt x="19472" y="3858"/>
                  <a:pt x="19636" y="3890"/>
                  <a:pt x="19769" y="3845"/>
                </a:cubicBezTo>
                <a:cubicBezTo>
                  <a:pt x="19777" y="3845"/>
                  <a:pt x="19786" y="3845"/>
                  <a:pt x="19794" y="3845"/>
                </a:cubicBezTo>
              </a:path>
              <a:path w="18381" h="2904">
                <a:moveTo>
                  <a:pt x="21828" y="3894"/>
                </a:moveTo>
                <a:cubicBezTo>
                  <a:pt x="21828" y="3878"/>
                  <a:pt x="21828" y="3861"/>
                  <a:pt x="21828" y="3845"/>
                </a:cubicBezTo>
                <a:cubicBezTo>
                  <a:pt x="21750" y="3871"/>
                  <a:pt x="21780" y="4136"/>
                  <a:pt x="21779" y="4192"/>
                </a:cubicBezTo>
                <a:cubicBezTo>
                  <a:pt x="21777" y="4295"/>
                  <a:pt x="21760" y="4364"/>
                  <a:pt x="21828" y="4415"/>
                </a:cubicBezTo>
              </a:path>
              <a:path w="18381" h="2904">
                <a:moveTo>
                  <a:pt x="22647" y="3770"/>
                </a:moveTo>
                <a:cubicBezTo>
                  <a:pt x="22485" y="3783"/>
                  <a:pt x="22363" y="3822"/>
                  <a:pt x="22299" y="3994"/>
                </a:cubicBezTo>
                <a:cubicBezTo>
                  <a:pt x="22241" y="4148"/>
                  <a:pt x="22296" y="4379"/>
                  <a:pt x="22448" y="4465"/>
                </a:cubicBezTo>
                <a:cubicBezTo>
                  <a:pt x="22637" y="4573"/>
                  <a:pt x="22815" y="4486"/>
                  <a:pt x="22820" y="4266"/>
                </a:cubicBezTo>
                <a:cubicBezTo>
                  <a:pt x="22823" y="4128"/>
                  <a:pt x="22734" y="4007"/>
                  <a:pt x="22671" y="3894"/>
                </a:cubicBezTo>
              </a:path>
              <a:path w="18381" h="2904">
                <a:moveTo>
                  <a:pt x="23044" y="3944"/>
                </a:moveTo>
                <a:cubicBezTo>
                  <a:pt x="22900" y="4052"/>
                  <a:pt x="22817" y="4143"/>
                  <a:pt x="22845" y="4341"/>
                </a:cubicBezTo>
                <a:cubicBezTo>
                  <a:pt x="22865" y="4482"/>
                  <a:pt x="22984" y="4710"/>
                  <a:pt x="23168" y="4589"/>
                </a:cubicBezTo>
                <a:cubicBezTo>
                  <a:pt x="23315" y="4492"/>
                  <a:pt x="23413" y="4276"/>
                  <a:pt x="23292" y="4118"/>
                </a:cubicBezTo>
                <a:cubicBezTo>
                  <a:pt x="23196" y="4046"/>
                  <a:pt x="23167" y="4023"/>
                  <a:pt x="23093" y="3994"/>
                </a:cubicBezTo>
              </a:path>
              <a:path w="18381" h="2904">
                <a:moveTo>
                  <a:pt x="18703" y="4366"/>
                </a:moveTo>
                <a:cubicBezTo>
                  <a:pt x="18673" y="4366"/>
                  <a:pt x="18579" y="4370"/>
                  <a:pt x="18579" y="4415"/>
                </a:cubicBezTo>
                <a:cubicBezTo>
                  <a:pt x="18579" y="4437"/>
                  <a:pt x="19085" y="4392"/>
                  <a:pt x="19100" y="4390"/>
                </a:cubicBezTo>
                <a:cubicBezTo>
                  <a:pt x="19226" y="4376"/>
                  <a:pt x="19347" y="4350"/>
                  <a:pt x="19472" y="4341"/>
                </a:cubicBezTo>
                <a:cubicBezTo>
                  <a:pt x="19597" y="4341"/>
                  <a:pt x="19274" y="4383"/>
                  <a:pt x="19149" y="4390"/>
                </a:cubicBezTo>
                <a:cubicBezTo>
                  <a:pt x="18968" y="4400"/>
                  <a:pt x="18838" y="4368"/>
                  <a:pt x="18678" y="4465"/>
                </a:cubicBezTo>
                <a:cubicBezTo>
                  <a:pt x="18580" y="4524"/>
                  <a:pt x="18813" y="4573"/>
                  <a:pt x="18926" y="4589"/>
                </a:cubicBezTo>
                <a:cubicBezTo>
                  <a:pt x="19017" y="4589"/>
                  <a:pt x="19025" y="4589"/>
                  <a:pt x="19075" y="4589"/>
                </a:cubicBezTo>
                <a:cubicBezTo>
                  <a:pt x="18922" y="4550"/>
                  <a:pt x="18837" y="4537"/>
                  <a:pt x="18678" y="4564"/>
                </a:cubicBezTo>
                <a:cubicBezTo>
                  <a:pt x="18802" y="4564"/>
                  <a:pt x="18926" y="4564"/>
                  <a:pt x="19050" y="4564"/>
                </a:cubicBezTo>
              </a:path>
              <a:path w="18381" h="2904">
                <a:moveTo>
                  <a:pt x="19199" y="5581"/>
                </a:moveTo>
                <a:cubicBezTo>
                  <a:pt x="19191" y="5581"/>
                  <a:pt x="19182" y="5581"/>
                  <a:pt x="19174" y="5581"/>
                </a:cubicBezTo>
                <a:cubicBezTo>
                  <a:pt x="19193" y="5637"/>
                  <a:pt x="19324" y="5769"/>
                  <a:pt x="19372" y="5829"/>
                </a:cubicBezTo>
                <a:cubicBezTo>
                  <a:pt x="19432" y="5904"/>
                  <a:pt x="19537" y="6079"/>
                  <a:pt x="19621" y="6127"/>
                </a:cubicBezTo>
                <a:cubicBezTo>
                  <a:pt x="19656" y="6147"/>
                  <a:pt x="19645" y="6169"/>
                  <a:pt x="19645" y="6102"/>
                </a:cubicBezTo>
              </a:path>
              <a:path w="18381" h="2904">
                <a:moveTo>
                  <a:pt x="19819" y="5482"/>
                </a:moveTo>
                <a:cubicBezTo>
                  <a:pt x="19673" y="5627"/>
                  <a:pt x="19527" y="5768"/>
                  <a:pt x="19397" y="5928"/>
                </a:cubicBezTo>
                <a:cubicBezTo>
                  <a:pt x="19353" y="5983"/>
                  <a:pt x="19311" y="6014"/>
                  <a:pt x="19298" y="6052"/>
                </a:cubicBezTo>
              </a:path>
              <a:path w="18381" h="2904">
                <a:moveTo>
                  <a:pt x="20737" y="5209"/>
                </a:moveTo>
                <a:cubicBezTo>
                  <a:pt x="20737" y="5149"/>
                  <a:pt x="20665" y="5325"/>
                  <a:pt x="20662" y="5333"/>
                </a:cubicBezTo>
                <a:cubicBezTo>
                  <a:pt x="20593" y="5523"/>
                  <a:pt x="20613" y="5731"/>
                  <a:pt x="20613" y="5928"/>
                </a:cubicBezTo>
                <a:cubicBezTo>
                  <a:pt x="20613" y="5986"/>
                  <a:pt x="20613" y="5995"/>
                  <a:pt x="20613" y="6028"/>
                </a:cubicBezTo>
              </a:path>
              <a:path w="18381" h="2904">
                <a:moveTo>
                  <a:pt x="21233" y="5283"/>
                </a:moveTo>
                <a:cubicBezTo>
                  <a:pt x="21096" y="5243"/>
                  <a:pt x="20961" y="5288"/>
                  <a:pt x="20886" y="5432"/>
                </a:cubicBezTo>
                <a:cubicBezTo>
                  <a:pt x="20772" y="5650"/>
                  <a:pt x="20834" y="5906"/>
                  <a:pt x="21010" y="6052"/>
                </a:cubicBezTo>
                <a:cubicBezTo>
                  <a:pt x="21136" y="6157"/>
                  <a:pt x="21297" y="6034"/>
                  <a:pt x="21357" y="5904"/>
                </a:cubicBezTo>
                <a:cubicBezTo>
                  <a:pt x="21465" y="5669"/>
                  <a:pt x="21316" y="5529"/>
                  <a:pt x="21208" y="5333"/>
                </a:cubicBezTo>
                <a:cubicBezTo>
                  <a:pt x="21171" y="5260"/>
                  <a:pt x="21183" y="5227"/>
                  <a:pt x="21134" y="5234"/>
                </a:cubicBezTo>
              </a:path>
              <a:path w="18381" h="2904">
                <a:moveTo>
                  <a:pt x="21605" y="5383"/>
                </a:moveTo>
                <a:cubicBezTo>
                  <a:pt x="21464" y="5484"/>
                  <a:pt x="21364" y="5642"/>
                  <a:pt x="21357" y="5829"/>
                </a:cubicBezTo>
                <a:cubicBezTo>
                  <a:pt x="21349" y="6036"/>
                  <a:pt x="21527" y="6115"/>
                  <a:pt x="21704" y="6102"/>
                </a:cubicBezTo>
                <a:cubicBezTo>
                  <a:pt x="21917" y="6086"/>
                  <a:pt x="21937" y="5922"/>
                  <a:pt x="21977" y="5755"/>
                </a:cubicBezTo>
                <a:cubicBezTo>
                  <a:pt x="22018" y="5583"/>
                  <a:pt x="21957" y="5460"/>
                  <a:pt x="21878" y="5308"/>
                </a:cubicBezTo>
                <a:cubicBezTo>
                  <a:pt x="21847" y="5248"/>
                  <a:pt x="21797" y="5216"/>
                  <a:pt x="21729" y="5209"/>
                </a:cubicBezTo>
                <a:cubicBezTo>
                  <a:pt x="21689" y="5209"/>
                  <a:pt x="21670" y="5198"/>
                  <a:pt x="21654" y="51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7840" y="2455920"/>
            <a:ext cx="1152360" cy="268200"/>
          </a:xfrm>
          <a:custGeom>
            <a:avLst/>
            <a:gdLst/>
            <a:ahLst/>
            <a:rect l="l" t="t" r="r" b="b"/>
            <a:pathLst>
              <a:path w="3200" h="745">
                <a:moveTo>
                  <a:pt x="3770" y="7144"/>
                </a:moveTo>
                <a:cubicBezTo>
                  <a:pt x="3748" y="7097"/>
                  <a:pt x="3746" y="7126"/>
                  <a:pt x="3746" y="7169"/>
                </a:cubicBezTo>
                <a:cubicBezTo>
                  <a:pt x="3746" y="7278"/>
                  <a:pt x="3762" y="7364"/>
                  <a:pt x="3770" y="7466"/>
                </a:cubicBezTo>
                <a:cubicBezTo>
                  <a:pt x="3770" y="7499"/>
                  <a:pt x="3770" y="7516"/>
                  <a:pt x="3770" y="7541"/>
                </a:cubicBezTo>
                <a:cubicBezTo>
                  <a:pt x="3770" y="7442"/>
                  <a:pt x="3746" y="7389"/>
                  <a:pt x="3770" y="7293"/>
                </a:cubicBezTo>
                <a:cubicBezTo>
                  <a:pt x="3781" y="7250"/>
                  <a:pt x="3853" y="7055"/>
                  <a:pt x="3919" y="7069"/>
                </a:cubicBezTo>
                <a:cubicBezTo>
                  <a:pt x="4074" y="7102"/>
                  <a:pt x="4101" y="7261"/>
                  <a:pt x="4142" y="7392"/>
                </a:cubicBezTo>
                <a:cubicBezTo>
                  <a:pt x="4142" y="7417"/>
                  <a:pt x="4142" y="7425"/>
                  <a:pt x="4167" y="7417"/>
                </a:cubicBezTo>
                <a:cubicBezTo>
                  <a:pt x="4167" y="7367"/>
                  <a:pt x="4158" y="7332"/>
                  <a:pt x="4192" y="7293"/>
                </a:cubicBezTo>
                <a:cubicBezTo>
                  <a:pt x="4262" y="7213"/>
                  <a:pt x="4326" y="7133"/>
                  <a:pt x="4415" y="7069"/>
                </a:cubicBezTo>
                <a:cubicBezTo>
                  <a:pt x="4484" y="7019"/>
                  <a:pt x="4576" y="6998"/>
                  <a:pt x="4638" y="7069"/>
                </a:cubicBezTo>
                <a:cubicBezTo>
                  <a:pt x="4705" y="7146"/>
                  <a:pt x="4748" y="7295"/>
                  <a:pt x="4812" y="7342"/>
                </a:cubicBezTo>
              </a:path>
              <a:path w="3200" h="745">
                <a:moveTo>
                  <a:pt x="5234" y="6921"/>
                </a:moveTo>
                <a:cubicBezTo>
                  <a:pt x="5192" y="7023"/>
                  <a:pt x="5041" y="7133"/>
                  <a:pt x="5135" y="7268"/>
                </a:cubicBezTo>
                <a:cubicBezTo>
                  <a:pt x="5263" y="7451"/>
                  <a:pt x="5557" y="7367"/>
                  <a:pt x="5457" y="7119"/>
                </a:cubicBezTo>
                <a:cubicBezTo>
                  <a:pt x="5372" y="7013"/>
                  <a:pt x="5352" y="6991"/>
                  <a:pt x="5308" y="6921"/>
                </a:cubicBezTo>
              </a:path>
              <a:path w="3200" h="745">
                <a:moveTo>
                  <a:pt x="5531" y="6921"/>
                </a:moveTo>
                <a:cubicBezTo>
                  <a:pt x="5606" y="7010"/>
                  <a:pt x="5650" y="7107"/>
                  <a:pt x="5730" y="7193"/>
                </a:cubicBezTo>
                <a:cubicBezTo>
                  <a:pt x="5817" y="7287"/>
                  <a:pt x="5856" y="7345"/>
                  <a:pt x="5953" y="7218"/>
                </a:cubicBezTo>
                <a:cubicBezTo>
                  <a:pt x="6044" y="7100"/>
                  <a:pt x="6083" y="6960"/>
                  <a:pt x="6201" y="6871"/>
                </a:cubicBezTo>
              </a:path>
              <a:path w="3200" h="745">
                <a:moveTo>
                  <a:pt x="6548" y="7169"/>
                </a:moveTo>
                <a:cubicBezTo>
                  <a:pt x="6678" y="7115"/>
                  <a:pt x="6775" y="7040"/>
                  <a:pt x="6722" y="6871"/>
                </a:cubicBezTo>
                <a:cubicBezTo>
                  <a:pt x="6705" y="6854"/>
                  <a:pt x="6689" y="6838"/>
                  <a:pt x="6672" y="6821"/>
                </a:cubicBezTo>
                <a:cubicBezTo>
                  <a:pt x="6491" y="6849"/>
                  <a:pt x="6367" y="6936"/>
                  <a:pt x="6350" y="7144"/>
                </a:cubicBezTo>
                <a:cubicBezTo>
                  <a:pt x="6331" y="7373"/>
                  <a:pt x="6547" y="7559"/>
                  <a:pt x="6772" y="7541"/>
                </a:cubicBezTo>
                <a:cubicBezTo>
                  <a:pt x="6882" y="7497"/>
                  <a:pt x="6915" y="7492"/>
                  <a:pt x="6945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1955880"/>
            <a:ext cx="241200" cy="3571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8161" y="6052"/>
                </a:moveTo>
                <a:cubicBezTo>
                  <a:pt x="8126" y="5972"/>
                  <a:pt x="7969" y="5905"/>
                  <a:pt x="7863" y="5978"/>
                </a:cubicBezTo>
                <a:cubicBezTo>
                  <a:pt x="7717" y="6080"/>
                  <a:pt x="7748" y="6207"/>
                  <a:pt x="7764" y="6350"/>
                </a:cubicBezTo>
                <a:cubicBezTo>
                  <a:pt x="8018" y="6368"/>
                  <a:pt x="8102" y="6159"/>
                  <a:pt x="8186" y="5928"/>
                </a:cubicBezTo>
                <a:cubicBezTo>
                  <a:pt x="8244" y="5769"/>
                  <a:pt x="8420" y="5330"/>
                  <a:pt x="8285" y="5432"/>
                </a:cubicBezTo>
                <a:cubicBezTo>
                  <a:pt x="8277" y="5449"/>
                  <a:pt x="8268" y="5465"/>
                  <a:pt x="8260" y="5482"/>
                </a:cubicBezTo>
                <a:cubicBezTo>
                  <a:pt x="8227" y="5746"/>
                  <a:pt x="8239" y="5972"/>
                  <a:pt x="8334" y="6226"/>
                </a:cubicBezTo>
                <a:cubicBezTo>
                  <a:pt x="8364" y="6307"/>
                  <a:pt x="8399" y="6344"/>
                  <a:pt x="8409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59080" y="2098800"/>
            <a:ext cx="1090800" cy="517320"/>
          </a:xfrm>
          <a:custGeom>
            <a:avLst/>
            <a:gdLst/>
            <a:ahLst/>
            <a:rect l="l" t="t" r="r" b="b"/>
            <a:pathLst>
              <a:path w="3027" h="1440">
                <a:moveTo>
                  <a:pt x="9823" y="6772"/>
                </a:moveTo>
                <a:cubicBezTo>
                  <a:pt x="9768" y="6683"/>
                  <a:pt x="9692" y="6620"/>
                  <a:pt x="9575" y="6623"/>
                </a:cubicBezTo>
                <a:cubicBezTo>
                  <a:pt x="9391" y="6628"/>
                  <a:pt x="9123" y="6797"/>
                  <a:pt x="9054" y="6970"/>
                </a:cubicBezTo>
                <a:cubicBezTo>
                  <a:pt x="9005" y="7093"/>
                  <a:pt x="9118" y="7268"/>
                  <a:pt x="9252" y="7268"/>
                </a:cubicBezTo>
                <a:cubicBezTo>
                  <a:pt x="9417" y="7268"/>
                  <a:pt x="9589" y="7052"/>
                  <a:pt x="9649" y="6921"/>
                </a:cubicBezTo>
                <a:cubicBezTo>
                  <a:pt x="9759" y="6682"/>
                  <a:pt x="9748" y="6431"/>
                  <a:pt x="9748" y="6176"/>
                </a:cubicBezTo>
                <a:cubicBezTo>
                  <a:pt x="9748" y="6118"/>
                  <a:pt x="9705" y="6132"/>
                  <a:pt x="9723" y="6077"/>
                </a:cubicBezTo>
                <a:cubicBezTo>
                  <a:pt x="9749" y="5995"/>
                  <a:pt x="9804" y="5899"/>
                  <a:pt x="9847" y="5829"/>
                </a:cubicBezTo>
                <a:cubicBezTo>
                  <a:pt x="9795" y="5956"/>
                  <a:pt x="9769" y="6082"/>
                  <a:pt x="9748" y="6226"/>
                </a:cubicBezTo>
                <a:cubicBezTo>
                  <a:pt x="9712" y="6475"/>
                  <a:pt x="9733" y="6721"/>
                  <a:pt x="9699" y="6970"/>
                </a:cubicBezTo>
                <a:cubicBezTo>
                  <a:pt x="9677" y="7103"/>
                  <a:pt x="9672" y="7137"/>
                  <a:pt x="9649" y="7218"/>
                </a:cubicBezTo>
              </a:path>
              <a:path w="3027" h="1440">
                <a:moveTo>
                  <a:pt x="10244" y="7045"/>
                </a:moveTo>
                <a:cubicBezTo>
                  <a:pt x="10379" y="7003"/>
                  <a:pt x="10516" y="6962"/>
                  <a:pt x="10641" y="6896"/>
                </a:cubicBezTo>
                <a:cubicBezTo>
                  <a:pt x="10738" y="6845"/>
                  <a:pt x="10718" y="6801"/>
                  <a:pt x="10740" y="6697"/>
                </a:cubicBezTo>
                <a:cubicBezTo>
                  <a:pt x="10600" y="6671"/>
                  <a:pt x="10448" y="6643"/>
                  <a:pt x="10443" y="6846"/>
                </a:cubicBezTo>
                <a:cubicBezTo>
                  <a:pt x="10440" y="6980"/>
                  <a:pt x="10515" y="7053"/>
                  <a:pt x="10592" y="7144"/>
                </a:cubicBezTo>
              </a:path>
              <a:path w="3027" h="1440">
                <a:moveTo>
                  <a:pt x="11509" y="6648"/>
                </a:moveTo>
                <a:cubicBezTo>
                  <a:pt x="11376" y="6648"/>
                  <a:pt x="11337" y="6655"/>
                  <a:pt x="11237" y="6747"/>
                </a:cubicBezTo>
                <a:cubicBezTo>
                  <a:pt x="11118" y="6856"/>
                  <a:pt x="11145" y="6967"/>
                  <a:pt x="11261" y="7069"/>
                </a:cubicBezTo>
                <a:cubicBezTo>
                  <a:pt x="11370" y="7165"/>
                  <a:pt x="11453" y="7142"/>
                  <a:pt x="11584" y="7119"/>
                </a:cubicBezTo>
              </a:path>
              <a:path w="3027" h="1440">
                <a:moveTo>
                  <a:pt x="11931" y="6747"/>
                </a:moveTo>
                <a:cubicBezTo>
                  <a:pt x="11990" y="6767"/>
                  <a:pt x="11978" y="6882"/>
                  <a:pt x="11981" y="6945"/>
                </a:cubicBezTo>
                <a:cubicBezTo>
                  <a:pt x="11981" y="6962"/>
                  <a:pt x="11981" y="6978"/>
                  <a:pt x="11981" y="6995"/>
                </a:cubicBezTo>
              </a:path>
              <a:path w="3027" h="1440">
                <a:moveTo>
                  <a:pt x="12055" y="6350"/>
                </a:moveTo>
                <a:cubicBezTo>
                  <a:pt x="12055" y="6325"/>
                  <a:pt x="12055" y="6317"/>
                  <a:pt x="12080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178000"/>
            <a:ext cx="749160" cy="420840"/>
          </a:xfrm>
          <a:custGeom>
            <a:avLst/>
            <a:gdLst/>
            <a:ahLst/>
            <a:rect l="l" t="t" r="r" b="b"/>
            <a:pathLst>
              <a:path w="2084" h="1167">
                <a:moveTo>
                  <a:pt x="12601" y="6548"/>
                </a:moveTo>
                <a:cubicBezTo>
                  <a:pt x="12601" y="6693"/>
                  <a:pt x="12603" y="6827"/>
                  <a:pt x="12626" y="6970"/>
                </a:cubicBezTo>
                <a:cubicBezTo>
                  <a:pt x="12646" y="7071"/>
                  <a:pt x="12643" y="7091"/>
                  <a:pt x="12675" y="7144"/>
                </a:cubicBezTo>
                <a:cubicBezTo>
                  <a:pt x="12692" y="7011"/>
                  <a:pt x="12726" y="6895"/>
                  <a:pt x="12824" y="6796"/>
                </a:cubicBezTo>
                <a:cubicBezTo>
                  <a:pt x="12895" y="6749"/>
                  <a:pt x="12917" y="6733"/>
                  <a:pt x="12973" y="6722"/>
                </a:cubicBezTo>
                <a:cubicBezTo>
                  <a:pt x="13061" y="6793"/>
                  <a:pt x="13064" y="6902"/>
                  <a:pt x="13072" y="7020"/>
                </a:cubicBezTo>
                <a:cubicBezTo>
                  <a:pt x="13110" y="6957"/>
                  <a:pt x="13169" y="6828"/>
                  <a:pt x="13246" y="6796"/>
                </a:cubicBezTo>
                <a:cubicBezTo>
                  <a:pt x="13362" y="6748"/>
                  <a:pt x="13396" y="6889"/>
                  <a:pt x="13419" y="6970"/>
                </a:cubicBezTo>
                <a:cubicBezTo>
                  <a:pt x="13444" y="7059"/>
                  <a:pt x="13441" y="7135"/>
                  <a:pt x="13469" y="7218"/>
                </a:cubicBezTo>
              </a:path>
              <a:path w="2084" h="1167">
                <a:moveTo>
                  <a:pt x="14188" y="6896"/>
                </a:moveTo>
                <a:cubicBezTo>
                  <a:pt x="14206" y="6847"/>
                  <a:pt x="14222" y="6794"/>
                  <a:pt x="14238" y="6747"/>
                </a:cubicBezTo>
                <a:cubicBezTo>
                  <a:pt x="14102" y="6717"/>
                  <a:pt x="13990" y="6789"/>
                  <a:pt x="13915" y="6921"/>
                </a:cubicBezTo>
                <a:cubicBezTo>
                  <a:pt x="13826" y="7079"/>
                  <a:pt x="14024" y="7180"/>
                  <a:pt x="14139" y="7069"/>
                </a:cubicBezTo>
                <a:cubicBezTo>
                  <a:pt x="14186" y="6973"/>
                  <a:pt x="14203" y="6944"/>
                  <a:pt x="14188" y="6871"/>
                </a:cubicBezTo>
                <a:cubicBezTo>
                  <a:pt x="14174" y="6958"/>
                  <a:pt x="14150" y="7047"/>
                  <a:pt x="14238" y="7119"/>
                </a:cubicBezTo>
                <a:cubicBezTo>
                  <a:pt x="14427" y="7274"/>
                  <a:pt x="14544" y="6990"/>
                  <a:pt x="14585" y="6871"/>
                </a:cubicBezTo>
                <a:cubicBezTo>
                  <a:pt x="14654" y="6671"/>
                  <a:pt x="14727" y="6436"/>
                  <a:pt x="14660" y="6226"/>
                </a:cubicBezTo>
                <a:cubicBezTo>
                  <a:pt x="14620" y="6101"/>
                  <a:pt x="14544" y="6094"/>
                  <a:pt x="14436" y="6052"/>
                </a:cubicBezTo>
                <a:cubicBezTo>
                  <a:pt x="14289" y="6181"/>
                  <a:pt x="14302" y="6358"/>
                  <a:pt x="14337" y="6548"/>
                </a:cubicBezTo>
                <a:cubicBezTo>
                  <a:pt x="14374" y="6751"/>
                  <a:pt x="14511" y="6917"/>
                  <a:pt x="14610" y="7094"/>
                </a:cubicBezTo>
                <a:cubicBezTo>
                  <a:pt x="14630" y="7135"/>
                  <a:pt x="14639" y="7141"/>
                  <a:pt x="14635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53120" y="221472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7239" y="6325"/>
                </a:moveTo>
                <a:cubicBezTo>
                  <a:pt x="17310" y="6239"/>
                  <a:pt x="17480" y="6152"/>
                  <a:pt x="17611" y="6152"/>
                </a:cubicBezTo>
                <a:cubicBezTo>
                  <a:pt x="17681" y="6152"/>
                  <a:pt x="17703" y="6342"/>
                  <a:pt x="17686" y="6375"/>
                </a:cubicBezTo>
                <a:cubicBezTo>
                  <a:pt x="17574" y="6585"/>
                  <a:pt x="17300" y="6711"/>
                  <a:pt x="17115" y="6846"/>
                </a:cubicBezTo>
                <a:cubicBezTo>
                  <a:pt x="17092" y="6869"/>
                  <a:pt x="17084" y="6873"/>
                  <a:pt x="17090" y="6896"/>
                </a:cubicBezTo>
                <a:cubicBezTo>
                  <a:pt x="17220" y="7010"/>
                  <a:pt x="17357" y="7048"/>
                  <a:pt x="17537" y="7045"/>
                </a:cubicBezTo>
                <a:cubicBezTo>
                  <a:pt x="17635" y="7044"/>
                  <a:pt x="17756" y="7025"/>
                  <a:pt x="17859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16840" y="2367000"/>
            <a:ext cx="1197000" cy="330120"/>
          </a:xfrm>
          <a:custGeom>
            <a:avLst/>
            <a:gdLst/>
            <a:ahLst/>
            <a:rect l="l" t="t" r="r" b="b"/>
            <a:pathLst>
              <a:path w="3325" h="919">
                <a:moveTo>
                  <a:pt x="20141" y="6623"/>
                </a:moveTo>
                <a:cubicBezTo>
                  <a:pt x="20012" y="6535"/>
                  <a:pt x="19933" y="6589"/>
                  <a:pt x="19794" y="6623"/>
                </a:cubicBezTo>
                <a:cubicBezTo>
                  <a:pt x="19786" y="6623"/>
                  <a:pt x="19777" y="6623"/>
                  <a:pt x="19769" y="6623"/>
                </a:cubicBezTo>
                <a:cubicBezTo>
                  <a:pt x="19897" y="6674"/>
                  <a:pt x="20145" y="6741"/>
                  <a:pt x="20191" y="6896"/>
                </a:cubicBezTo>
                <a:cubicBezTo>
                  <a:pt x="20224" y="7008"/>
                  <a:pt x="20002" y="7124"/>
                  <a:pt x="19943" y="6995"/>
                </a:cubicBezTo>
                <a:cubicBezTo>
                  <a:pt x="19943" y="6962"/>
                  <a:pt x="19943" y="6929"/>
                  <a:pt x="19943" y="6896"/>
                </a:cubicBezTo>
              </a:path>
              <a:path w="3325" h="919">
                <a:moveTo>
                  <a:pt x="20464" y="6796"/>
                </a:moveTo>
                <a:cubicBezTo>
                  <a:pt x="20464" y="6971"/>
                  <a:pt x="20486" y="7142"/>
                  <a:pt x="20489" y="7317"/>
                </a:cubicBezTo>
                <a:cubicBezTo>
                  <a:pt x="20489" y="7358"/>
                  <a:pt x="20489" y="7400"/>
                  <a:pt x="20489" y="7441"/>
                </a:cubicBezTo>
                <a:cubicBezTo>
                  <a:pt x="20489" y="7538"/>
                  <a:pt x="20503" y="7129"/>
                  <a:pt x="20538" y="7045"/>
                </a:cubicBezTo>
                <a:cubicBezTo>
                  <a:pt x="20559" y="6995"/>
                  <a:pt x="20731" y="6790"/>
                  <a:pt x="20811" y="6846"/>
                </a:cubicBezTo>
                <a:cubicBezTo>
                  <a:pt x="20852" y="6875"/>
                  <a:pt x="20885" y="6974"/>
                  <a:pt x="20910" y="7020"/>
                </a:cubicBezTo>
                <a:cubicBezTo>
                  <a:pt x="20791" y="7043"/>
                  <a:pt x="20685" y="7045"/>
                  <a:pt x="20563" y="7045"/>
                </a:cubicBezTo>
              </a:path>
              <a:path w="3325" h="919">
                <a:moveTo>
                  <a:pt x="21382" y="6921"/>
                </a:moveTo>
                <a:cubicBezTo>
                  <a:pt x="21361" y="6859"/>
                  <a:pt x="21256" y="6836"/>
                  <a:pt x="21183" y="6871"/>
                </a:cubicBezTo>
                <a:cubicBezTo>
                  <a:pt x="21106" y="6908"/>
                  <a:pt x="21062" y="7078"/>
                  <a:pt x="21158" y="7119"/>
                </a:cubicBezTo>
                <a:cubicBezTo>
                  <a:pt x="21259" y="7163"/>
                  <a:pt x="21312" y="7030"/>
                  <a:pt x="21357" y="6970"/>
                </a:cubicBezTo>
                <a:cubicBezTo>
                  <a:pt x="21408" y="6987"/>
                  <a:pt x="21363" y="7041"/>
                  <a:pt x="21431" y="7094"/>
                </a:cubicBezTo>
                <a:cubicBezTo>
                  <a:pt x="21535" y="7146"/>
                  <a:pt x="21573" y="7162"/>
                  <a:pt x="21654" y="7119"/>
                </a:cubicBezTo>
              </a:path>
              <a:path w="3325" h="919">
                <a:moveTo>
                  <a:pt x="21952" y="6896"/>
                </a:moveTo>
                <a:cubicBezTo>
                  <a:pt x="21891" y="6881"/>
                  <a:pt x="21848" y="6849"/>
                  <a:pt x="21779" y="6896"/>
                </a:cubicBezTo>
                <a:cubicBezTo>
                  <a:pt x="21655" y="6980"/>
                  <a:pt x="21730" y="7080"/>
                  <a:pt x="21803" y="7169"/>
                </a:cubicBezTo>
                <a:cubicBezTo>
                  <a:pt x="21891" y="7277"/>
                  <a:pt x="22031" y="7250"/>
                  <a:pt x="22151" y="7218"/>
                </a:cubicBezTo>
                <a:cubicBezTo>
                  <a:pt x="22316" y="7175"/>
                  <a:pt x="22452" y="7122"/>
                  <a:pt x="22498" y="6945"/>
                </a:cubicBezTo>
                <a:cubicBezTo>
                  <a:pt x="22520" y="6862"/>
                  <a:pt x="22387" y="6883"/>
                  <a:pt x="22349" y="6896"/>
                </a:cubicBezTo>
                <a:cubicBezTo>
                  <a:pt x="22338" y="7040"/>
                  <a:pt x="22421" y="7173"/>
                  <a:pt x="22597" y="7193"/>
                </a:cubicBezTo>
                <a:cubicBezTo>
                  <a:pt x="22630" y="7185"/>
                  <a:pt x="22663" y="7177"/>
                  <a:pt x="22696" y="7169"/>
                </a:cubicBezTo>
              </a:path>
              <a:path w="3325" h="919">
                <a:moveTo>
                  <a:pt x="23093" y="6921"/>
                </a:moveTo>
                <a:cubicBezTo>
                  <a:pt x="23004" y="6899"/>
                  <a:pt x="22909" y="6877"/>
                  <a:pt x="22820" y="6921"/>
                </a:cubicBezTo>
                <a:cubicBezTo>
                  <a:pt x="22812" y="6929"/>
                  <a:pt x="22804" y="6937"/>
                  <a:pt x="22796" y="6945"/>
                </a:cubicBezTo>
                <a:cubicBezTo>
                  <a:pt x="22862" y="7039"/>
                  <a:pt x="23008" y="7104"/>
                  <a:pt x="23044" y="7218"/>
                </a:cubicBezTo>
                <a:cubicBezTo>
                  <a:pt x="23054" y="7248"/>
                  <a:pt x="23014" y="7370"/>
                  <a:pt x="22969" y="7367"/>
                </a:cubicBezTo>
                <a:cubicBezTo>
                  <a:pt x="22953" y="7359"/>
                  <a:pt x="22936" y="7350"/>
                  <a:pt x="22920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25920" y="2867040"/>
            <a:ext cx="473040" cy="231840"/>
          </a:xfrm>
          <a:custGeom>
            <a:avLst/>
            <a:gdLst/>
            <a:ahLst/>
            <a:rect l="l" t="t" r="r" b="b"/>
            <a:pathLst>
              <a:path w="1315" h="646">
                <a:moveTo>
                  <a:pt x="10071" y="8384"/>
                </a:moveTo>
                <a:cubicBezTo>
                  <a:pt x="10227" y="8362"/>
                  <a:pt x="10385" y="8334"/>
                  <a:pt x="10542" y="8310"/>
                </a:cubicBezTo>
                <a:cubicBezTo>
                  <a:pt x="10632" y="8296"/>
                  <a:pt x="10738" y="8287"/>
                  <a:pt x="10790" y="8235"/>
                </a:cubicBezTo>
              </a:path>
              <a:path w="1315" h="646">
                <a:moveTo>
                  <a:pt x="10517" y="7962"/>
                </a:moveTo>
                <a:cubicBezTo>
                  <a:pt x="10465" y="8145"/>
                  <a:pt x="10488" y="8293"/>
                  <a:pt x="10492" y="8483"/>
                </a:cubicBezTo>
                <a:cubicBezTo>
                  <a:pt x="10492" y="8524"/>
                  <a:pt x="10492" y="8566"/>
                  <a:pt x="10492" y="8607"/>
                </a:cubicBezTo>
              </a:path>
              <a:path w="1315" h="646">
                <a:moveTo>
                  <a:pt x="11112" y="8111"/>
                </a:moveTo>
                <a:cubicBezTo>
                  <a:pt x="11031" y="8193"/>
                  <a:pt x="10907" y="8361"/>
                  <a:pt x="11013" y="8483"/>
                </a:cubicBezTo>
                <a:cubicBezTo>
                  <a:pt x="11137" y="8626"/>
                  <a:pt x="11337" y="8493"/>
                  <a:pt x="11385" y="8384"/>
                </a:cubicBezTo>
                <a:cubicBezTo>
                  <a:pt x="11321" y="8319"/>
                  <a:pt x="11256" y="8266"/>
                  <a:pt x="111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4800" y="2714760"/>
            <a:ext cx="768240" cy="428400"/>
          </a:xfrm>
          <a:custGeom>
            <a:avLst/>
            <a:gdLst/>
            <a:ahLst/>
            <a:rect l="l" t="t" r="r" b="b"/>
            <a:pathLst>
              <a:path w="2134" h="1191">
                <a:moveTo>
                  <a:pt x="12179" y="8458"/>
                </a:moveTo>
                <a:cubicBezTo>
                  <a:pt x="12487" y="8458"/>
                  <a:pt x="12714" y="8509"/>
                  <a:pt x="12923" y="8285"/>
                </a:cubicBezTo>
              </a:path>
              <a:path w="2134" h="1191">
                <a:moveTo>
                  <a:pt x="12378" y="7962"/>
                </a:moveTo>
                <a:cubicBezTo>
                  <a:pt x="12411" y="8169"/>
                  <a:pt x="12383" y="8374"/>
                  <a:pt x="12402" y="8582"/>
                </a:cubicBezTo>
                <a:cubicBezTo>
                  <a:pt x="12407" y="8641"/>
                  <a:pt x="12427" y="8765"/>
                  <a:pt x="12427" y="8706"/>
                </a:cubicBezTo>
              </a:path>
              <a:path w="2134" h="1191">
                <a:moveTo>
                  <a:pt x="12799" y="7541"/>
                </a:moveTo>
                <a:cubicBezTo>
                  <a:pt x="12883" y="7849"/>
                  <a:pt x="12872" y="8118"/>
                  <a:pt x="12849" y="8434"/>
                </a:cubicBezTo>
                <a:cubicBezTo>
                  <a:pt x="12849" y="8459"/>
                  <a:pt x="12849" y="8483"/>
                  <a:pt x="12849" y="8508"/>
                </a:cubicBezTo>
                <a:cubicBezTo>
                  <a:pt x="12893" y="8412"/>
                  <a:pt x="12949" y="8320"/>
                  <a:pt x="13022" y="8235"/>
                </a:cubicBezTo>
                <a:cubicBezTo>
                  <a:pt x="13069" y="8189"/>
                  <a:pt x="13081" y="8175"/>
                  <a:pt x="13122" y="8161"/>
                </a:cubicBezTo>
                <a:cubicBezTo>
                  <a:pt x="13227" y="8279"/>
                  <a:pt x="13242" y="8349"/>
                  <a:pt x="13246" y="8508"/>
                </a:cubicBezTo>
                <a:cubicBezTo>
                  <a:pt x="13249" y="8655"/>
                  <a:pt x="13258" y="8711"/>
                  <a:pt x="13419" y="8731"/>
                </a:cubicBezTo>
                <a:cubicBezTo>
                  <a:pt x="13610" y="8755"/>
                  <a:pt x="13697" y="8622"/>
                  <a:pt x="13742" y="8458"/>
                </a:cubicBezTo>
                <a:cubicBezTo>
                  <a:pt x="13764" y="8330"/>
                  <a:pt x="13783" y="8297"/>
                  <a:pt x="13717" y="8235"/>
                </a:cubicBezTo>
                <a:cubicBezTo>
                  <a:pt x="13602" y="8246"/>
                  <a:pt x="13594" y="8216"/>
                  <a:pt x="13568" y="8359"/>
                </a:cubicBezTo>
                <a:cubicBezTo>
                  <a:pt x="13550" y="8458"/>
                  <a:pt x="13621" y="8569"/>
                  <a:pt x="13692" y="8632"/>
                </a:cubicBezTo>
                <a:cubicBezTo>
                  <a:pt x="13752" y="8686"/>
                  <a:pt x="13965" y="8710"/>
                  <a:pt x="14039" y="8706"/>
                </a:cubicBezTo>
                <a:cubicBezTo>
                  <a:pt x="14162" y="8700"/>
                  <a:pt x="14223" y="8651"/>
                  <a:pt x="14312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2000" y="2857680"/>
            <a:ext cx="1135080" cy="465120"/>
          </a:xfrm>
          <a:custGeom>
            <a:avLst/>
            <a:gdLst/>
            <a:ahLst/>
            <a:rect l="l" t="t" r="r" b="b"/>
            <a:pathLst>
              <a:path w="3152" h="1290">
                <a:moveTo>
                  <a:pt x="15974" y="8186"/>
                </a:moveTo>
                <a:cubicBezTo>
                  <a:pt x="15974" y="8143"/>
                  <a:pt x="15945" y="8217"/>
                  <a:pt x="15949" y="8260"/>
                </a:cubicBezTo>
                <a:cubicBezTo>
                  <a:pt x="15955" y="8321"/>
                  <a:pt x="15974" y="8369"/>
                  <a:pt x="15974" y="8434"/>
                </a:cubicBezTo>
                <a:cubicBezTo>
                  <a:pt x="15949" y="8351"/>
                  <a:pt x="15895" y="8191"/>
                  <a:pt x="16024" y="8161"/>
                </a:cubicBezTo>
                <a:cubicBezTo>
                  <a:pt x="16149" y="8132"/>
                  <a:pt x="16273" y="8161"/>
                  <a:pt x="16371" y="8210"/>
                </a:cubicBezTo>
              </a:path>
              <a:path w="3152" h="1290">
                <a:moveTo>
                  <a:pt x="16644" y="8235"/>
                </a:moveTo>
                <a:cubicBezTo>
                  <a:pt x="16701" y="8358"/>
                  <a:pt x="16704" y="8593"/>
                  <a:pt x="16818" y="8682"/>
                </a:cubicBezTo>
                <a:cubicBezTo>
                  <a:pt x="16826" y="8674"/>
                  <a:pt x="16834" y="8665"/>
                  <a:pt x="16842" y="8657"/>
                </a:cubicBezTo>
              </a:path>
              <a:path w="3152" h="1290">
                <a:moveTo>
                  <a:pt x="16917" y="8111"/>
                </a:moveTo>
                <a:lnTo>
                  <a:pt x="16917" y="8111"/>
                </a:lnTo>
                <a:lnTo>
                  <a:pt x="16917" y="8111"/>
                </a:lnTo>
              </a:path>
              <a:path w="3152" h="1290">
                <a:moveTo>
                  <a:pt x="16917" y="8111"/>
                </a:moveTo>
                <a:lnTo>
                  <a:pt x="16917" y="8111"/>
                </a:lnTo>
              </a:path>
              <a:path w="3152" h="1290">
                <a:moveTo>
                  <a:pt x="17413" y="8334"/>
                </a:moveTo>
                <a:cubicBezTo>
                  <a:pt x="17413" y="8272"/>
                  <a:pt x="17401" y="8207"/>
                  <a:pt x="17314" y="8235"/>
                </a:cubicBezTo>
                <a:cubicBezTo>
                  <a:pt x="17196" y="8273"/>
                  <a:pt x="17071" y="8513"/>
                  <a:pt x="17289" y="8508"/>
                </a:cubicBezTo>
                <a:cubicBezTo>
                  <a:pt x="17427" y="8505"/>
                  <a:pt x="17468" y="8437"/>
                  <a:pt x="17512" y="8334"/>
                </a:cubicBezTo>
                <a:cubicBezTo>
                  <a:pt x="17447" y="8495"/>
                  <a:pt x="17482" y="8570"/>
                  <a:pt x="17537" y="8731"/>
                </a:cubicBezTo>
                <a:cubicBezTo>
                  <a:pt x="17599" y="8911"/>
                  <a:pt x="17590" y="9107"/>
                  <a:pt x="17388" y="9203"/>
                </a:cubicBezTo>
                <a:cubicBezTo>
                  <a:pt x="17272" y="9225"/>
                  <a:pt x="17239" y="9235"/>
                  <a:pt x="17165" y="9203"/>
                </a:cubicBezTo>
              </a:path>
              <a:path w="3152" h="1290">
                <a:moveTo>
                  <a:pt x="17810" y="7938"/>
                </a:moveTo>
                <a:cubicBezTo>
                  <a:pt x="17833" y="8115"/>
                  <a:pt x="17856" y="8278"/>
                  <a:pt x="17859" y="8458"/>
                </a:cubicBezTo>
                <a:cubicBezTo>
                  <a:pt x="17859" y="8582"/>
                  <a:pt x="17859" y="8607"/>
                  <a:pt x="17859" y="8682"/>
                </a:cubicBezTo>
                <a:cubicBezTo>
                  <a:pt x="17975" y="8630"/>
                  <a:pt x="18057" y="8486"/>
                  <a:pt x="18182" y="8409"/>
                </a:cubicBezTo>
                <a:cubicBezTo>
                  <a:pt x="18190" y="8409"/>
                  <a:pt x="18199" y="8409"/>
                  <a:pt x="18207" y="8409"/>
                </a:cubicBezTo>
                <a:cubicBezTo>
                  <a:pt x="18255" y="8546"/>
                  <a:pt x="18277" y="8697"/>
                  <a:pt x="18331" y="8830"/>
                </a:cubicBezTo>
                <a:cubicBezTo>
                  <a:pt x="18360" y="8860"/>
                  <a:pt x="18374" y="8865"/>
                  <a:pt x="18405" y="8830"/>
                </a:cubicBezTo>
              </a:path>
              <a:path w="3152" h="1290">
                <a:moveTo>
                  <a:pt x="18653" y="8632"/>
                </a:moveTo>
                <a:cubicBezTo>
                  <a:pt x="18815" y="8655"/>
                  <a:pt x="18978" y="8688"/>
                  <a:pt x="19100" y="8607"/>
                </a:cubicBezTo>
              </a:path>
              <a:path w="3152" h="1290">
                <a:moveTo>
                  <a:pt x="18926" y="8186"/>
                </a:moveTo>
                <a:cubicBezTo>
                  <a:pt x="18891" y="8370"/>
                  <a:pt x="18900" y="8568"/>
                  <a:pt x="18926" y="8756"/>
                </a:cubicBezTo>
                <a:cubicBezTo>
                  <a:pt x="18936" y="8827"/>
                  <a:pt x="18951" y="8863"/>
                  <a:pt x="18951" y="8930"/>
                </a:cubicBezTo>
                <a:cubicBezTo>
                  <a:pt x="18951" y="8966"/>
                  <a:pt x="18984" y="8993"/>
                  <a:pt x="18976" y="9029"/>
                </a:cubicBezTo>
                <a:cubicBezTo>
                  <a:pt x="18936" y="9069"/>
                  <a:pt x="18906" y="9077"/>
                  <a:pt x="18852" y="90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8800" y="3973680"/>
            <a:ext cx="571320" cy="27756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2604" y="11584"/>
                </a:moveTo>
                <a:cubicBezTo>
                  <a:pt x="2593" y="11617"/>
                  <a:pt x="2559" y="11609"/>
                  <a:pt x="2604" y="11683"/>
                </a:cubicBezTo>
                <a:cubicBezTo>
                  <a:pt x="2670" y="11791"/>
                  <a:pt x="2800" y="11799"/>
                  <a:pt x="2902" y="11782"/>
                </a:cubicBezTo>
                <a:cubicBezTo>
                  <a:pt x="3029" y="11761"/>
                  <a:pt x="3088" y="11672"/>
                  <a:pt x="3175" y="11584"/>
                </a:cubicBezTo>
                <a:cubicBezTo>
                  <a:pt x="3287" y="11471"/>
                  <a:pt x="3348" y="11320"/>
                  <a:pt x="3373" y="11162"/>
                </a:cubicBezTo>
                <a:cubicBezTo>
                  <a:pt x="3373" y="11145"/>
                  <a:pt x="3373" y="11129"/>
                  <a:pt x="3373" y="11112"/>
                </a:cubicBezTo>
                <a:cubicBezTo>
                  <a:pt x="3414" y="11181"/>
                  <a:pt x="3415" y="11279"/>
                  <a:pt x="3448" y="11361"/>
                </a:cubicBezTo>
                <a:cubicBezTo>
                  <a:pt x="3468" y="11413"/>
                  <a:pt x="3527" y="11456"/>
                  <a:pt x="3547" y="11485"/>
                </a:cubicBezTo>
                <a:cubicBezTo>
                  <a:pt x="3567" y="11514"/>
                  <a:pt x="3630" y="11600"/>
                  <a:pt x="3671" y="11609"/>
                </a:cubicBezTo>
                <a:cubicBezTo>
                  <a:pt x="3725" y="11620"/>
                  <a:pt x="3930" y="11569"/>
                  <a:pt x="3969" y="11534"/>
                </a:cubicBezTo>
                <a:cubicBezTo>
                  <a:pt x="4025" y="11484"/>
                  <a:pt x="4114" y="11358"/>
                  <a:pt x="4142" y="11286"/>
                </a:cubicBezTo>
                <a:cubicBezTo>
                  <a:pt x="4174" y="11203"/>
                  <a:pt x="4167" y="11124"/>
                  <a:pt x="4167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4920" y="3776760"/>
            <a:ext cx="1170000" cy="430200"/>
          </a:xfrm>
          <a:custGeom>
            <a:avLst/>
            <a:gdLst/>
            <a:ahLst/>
            <a:rect l="l" t="t" r="r" b="b"/>
            <a:pathLst>
              <a:path w="3250" h="1192">
                <a:moveTo>
                  <a:pt x="6598" y="10765"/>
                </a:moveTo>
                <a:cubicBezTo>
                  <a:pt x="6733" y="10765"/>
                  <a:pt x="6861" y="10768"/>
                  <a:pt x="6995" y="10740"/>
                </a:cubicBezTo>
                <a:cubicBezTo>
                  <a:pt x="7136" y="10710"/>
                  <a:pt x="7276" y="10672"/>
                  <a:pt x="7417" y="10641"/>
                </a:cubicBezTo>
                <a:cubicBezTo>
                  <a:pt x="7359" y="10775"/>
                  <a:pt x="7273" y="10885"/>
                  <a:pt x="7193" y="11013"/>
                </a:cubicBezTo>
                <a:cubicBezTo>
                  <a:pt x="7072" y="11208"/>
                  <a:pt x="7003" y="11379"/>
                  <a:pt x="6921" y="11584"/>
                </a:cubicBezTo>
                <a:cubicBezTo>
                  <a:pt x="6893" y="11612"/>
                  <a:pt x="6884" y="11616"/>
                  <a:pt x="6896" y="11559"/>
                </a:cubicBezTo>
              </a:path>
              <a:path w="3250" h="1192">
                <a:moveTo>
                  <a:pt x="7838" y="10492"/>
                </a:moveTo>
                <a:cubicBezTo>
                  <a:pt x="7830" y="10608"/>
                  <a:pt x="7802" y="10655"/>
                  <a:pt x="7764" y="10765"/>
                </a:cubicBezTo>
                <a:cubicBezTo>
                  <a:pt x="7743" y="10849"/>
                  <a:pt x="7741" y="10868"/>
                  <a:pt x="7714" y="10914"/>
                </a:cubicBezTo>
                <a:cubicBezTo>
                  <a:pt x="7812" y="10963"/>
                  <a:pt x="7925" y="10957"/>
                  <a:pt x="8037" y="10988"/>
                </a:cubicBezTo>
                <a:cubicBezTo>
                  <a:pt x="8179" y="11028"/>
                  <a:pt x="8352" y="11119"/>
                  <a:pt x="8285" y="11286"/>
                </a:cubicBezTo>
                <a:cubicBezTo>
                  <a:pt x="8200" y="11496"/>
                  <a:pt x="8024" y="11593"/>
                  <a:pt x="7813" y="11485"/>
                </a:cubicBezTo>
                <a:cubicBezTo>
                  <a:pt x="7685" y="11382"/>
                  <a:pt x="7643" y="11343"/>
                  <a:pt x="7665" y="11212"/>
                </a:cubicBezTo>
              </a:path>
              <a:path w="3250" h="1192">
                <a:moveTo>
                  <a:pt x="7764" y="10691"/>
                </a:moveTo>
                <a:cubicBezTo>
                  <a:pt x="7896" y="10656"/>
                  <a:pt x="8024" y="10604"/>
                  <a:pt x="8161" y="10592"/>
                </a:cubicBezTo>
                <a:cubicBezTo>
                  <a:pt x="8293" y="10581"/>
                  <a:pt x="8425" y="10567"/>
                  <a:pt x="8558" y="10567"/>
                </a:cubicBezTo>
              </a:path>
              <a:path w="3250" h="1192">
                <a:moveTo>
                  <a:pt x="9054" y="10914"/>
                </a:moveTo>
                <a:cubicBezTo>
                  <a:pt x="8966" y="10880"/>
                  <a:pt x="8896" y="10854"/>
                  <a:pt x="8806" y="10840"/>
                </a:cubicBezTo>
                <a:cubicBezTo>
                  <a:pt x="8743" y="10933"/>
                  <a:pt x="8724" y="11063"/>
                  <a:pt x="8880" y="11112"/>
                </a:cubicBezTo>
                <a:cubicBezTo>
                  <a:pt x="8957" y="11136"/>
                  <a:pt x="9248" y="11060"/>
                  <a:pt x="9153" y="10939"/>
                </a:cubicBezTo>
                <a:cubicBezTo>
                  <a:pt x="9129" y="10908"/>
                  <a:pt x="9095" y="10908"/>
                  <a:pt x="9054" y="10889"/>
                </a:cubicBezTo>
                <a:cubicBezTo>
                  <a:pt x="9153" y="10889"/>
                  <a:pt x="9252" y="10889"/>
                  <a:pt x="9351" y="10889"/>
                </a:cubicBezTo>
                <a:cubicBezTo>
                  <a:pt x="9325" y="11074"/>
                  <a:pt x="9215" y="11187"/>
                  <a:pt x="9153" y="11361"/>
                </a:cubicBezTo>
                <a:cubicBezTo>
                  <a:pt x="9112" y="11476"/>
                  <a:pt x="9086" y="11583"/>
                  <a:pt x="9153" y="11683"/>
                </a:cubicBezTo>
                <a:cubicBezTo>
                  <a:pt x="9300" y="11664"/>
                  <a:pt x="9457" y="11617"/>
                  <a:pt x="9525" y="11460"/>
                </a:cubicBezTo>
                <a:cubicBezTo>
                  <a:pt x="9538" y="11429"/>
                  <a:pt x="9500" y="11418"/>
                  <a:pt x="9500" y="11385"/>
                </a:cubicBezTo>
                <a:cubicBezTo>
                  <a:pt x="9415" y="11459"/>
                  <a:pt x="9406" y="11567"/>
                  <a:pt x="9550" y="11609"/>
                </a:cubicBezTo>
                <a:cubicBezTo>
                  <a:pt x="9647" y="11637"/>
                  <a:pt x="9813" y="11592"/>
                  <a:pt x="9847" y="11485"/>
                </a:cubicBezTo>
                <a:cubicBezTo>
                  <a:pt x="9872" y="11405"/>
                  <a:pt x="9796" y="11271"/>
                  <a:pt x="9748" y="11212"/>
                </a:cubicBezTo>
                <a:cubicBezTo>
                  <a:pt x="9702" y="11156"/>
                  <a:pt x="9737" y="11165"/>
                  <a:pt x="9748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0680" y="4991040"/>
            <a:ext cx="804600" cy="349200"/>
          </a:xfrm>
          <a:custGeom>
            <a:avLst/>
            <a:gdLst/>
            <a:ahLst/>
            <a:rect l="l" t="t" r="r" b="b"/>
            <a:pathLst>
              <a:path w="2234" h="968">
                <a:moveTo>
                  <a:pt x="7863" y="14015"/>
                </a:moveTo>
                <a:cubicBezTo>
                  <a:pt x="7922" y="14053"/>
                  <a:pt x="7874" y="14143"/>
                  <a:pt x="7863" y="14213"/>
                </a:cubicBezTo>
                <a:cubicBezTo>
                  <a:pt x="7863" y="14263"/>
                  <a:pt x="7863" y="14279"/>
                  <a:pt x="7863" y="14312"/>
                </a:cubicBezTo>
                <a:cubicBezTo>
                  <a:pt x="8003" y="14312"/>
                  <a:pt x="8113" y="14293"/>
                  <a:pt x="8235" y="14213"/>
                </a:cubicBezTo>
                <a:cubicBezTo>
                  <a:pt x="8260" y="14188"/>
                  <a:pt x="8285" y="14164"/>
                  <a:pt x="8310" y="14139"/>
                </a:cubicBezTo>
              </a:path>
              <a:path w="2234" h="968">
                <a:moveTo>
                  <a:pt x="8458" y="13891"/>
                </a:moveTo>
                <a:cubicBezTo>
                  <a:pt x="8410" y="14038"/>
                  <a:pt x="8375" y="14187"/>
                  <a:pt x="8334" y="14337"/>
                </a:cubicBezTo>
                <a:cubicBezTo>
                  <a:pt x="8322" y="14379"/>
                  <a:pt x="8260" y="14688"/>
                  <a:pt x="8260" y="14660"/>
                </a:cubicBezTo>
              </a:path>
              <a:path w="2234" h="968">
                <a:moveTo>
                  <a:pt x="9079" y="13866"/>
                </a:moveTo>
                <a:cubicBezTo>
                  <a:pt x="8925" y="13961"/>
                  <a:pt x="8773" y="14085"/>
                  <a:pt x="8756" y="14288"/>
                </a:cubicBezTo>
                <a:cubicBezTo>
                  <a:pt x="8744" y="14429"/>
                  <a:pt x="8877" y="14575"/>
                  <a:pt x="9004" y="14610"/>
                </a:cubicBezTo>
                <a:cubicBezTo>
                  <a:pt x="9116" y="14641"/>
                  <a:pt x="9257" y="14484"/>
                  <a:pt x="9277" y="14387"/>
                </a:cubicBezTo>
                <a:cubicBezTo>
                  <a:pt x="9316" y="14193"/>
                  <a:pt x="9226" y="14105"/>
                  <a:pt x="9103" y="13990"/>
                </a:cubicBezTo>
                <a:cubicBezTo>
                  <a:pt x="9095" y="13982"/>
                  <a:pt x="9087" y="13973"/>
                  <a:pt x="9079" y="13965"/>
                </a:cubicBezTo>
              </a:path>
              <a:path w="2234" h="968">
                <a:moveTo>
                  <a:pt x="9475" y="13891"/>
                </a:moveTo>
                <a:cubicBezTo>
                  <a:pt x="9359" y="13973"/>
                  <a:pt x="9393" y="14022"/>
                  <a:pt x="9475" y="14114"/>
                </a:cubicBezTo>
                <a:cubicBezTo>
                  <a:pt x="9511" y="14098"/>
                  <a:pt x="9662" y="14028"/>
                  <a:pt x="9649" y="13965"/>
                </a:cubicBezTo>
                <a:cubicBezTo>
                  <a:pt x="9641" y="13925"/>
                  <a:pt x="9603" y="13911"/>
                  <a:pt x="9748" y="13891"/>
                </a:cubicBezTo>
                <a:cubicBezTo>
                  <a:pt x="9806" y="13891"/>
                  <a:pt x="9814" y="13891"/>
                  <a:pt x="9847" y="13891"/>
                </a:cubicBezTo>
                <a:cubicBezTo>
                  <a:pt x="9847" y="14009"/>
                  <a:pt x="9824" y="14116"/>
                  <a:pt x="9748" y="14213"/>
                </a:cubicBezTo>
                <a:cubicBezTo>
                  <a:pt x="9638" y="14354"/>
                  <a:pt x="9549" y="14423"/>
                  <a:pt x="9525" y="14610"/>
                </a:cubicBezTo>
                <a:cubicBezTo>
                  <a:pt x="9521" y="14638"/>
                  <a:pt x="9537" y="14770"/>
                  <a:pt x="9575" y="14759"/>
                </a:cubicBezTo>
                <a:cubicBezTo>
                  <a:pt x="9651" y="14737"/>
                  <a:pt x="9708" y="14686"/>
                  <a:pt x="9773" y="14660"/>
                </a:cubicBezTo>
                <a:cubicBezTo>
                  <a:pt x="9781" y="14660"/>
                  <a:pt x="9790" y="14660"/>
                  <a:pt x="9798" y="14660"/>
                </a:cubicBezTo>
                <a:cubicBezTo>
                  <a:pt x="9778" y="14747"/>
                  <a:pt x="9790" y="14829"/>
                  <a:pt x="9922" y="14833"/>
                </a:cubicBezTo>
                <a:cubicBezTo>
                  <a:pt x="10025" y="14836"/>
                  <a:pt x="10089" y="14747"/>
                  <a:pt x="10096" y="14660"/>
                </a:cubicBezTo>
                <a:cubicBezTo>
                  <a:pt x="10102" y="14589"/>
                  <a:pt x="10099" y="14523"/>
                  <a:pt x="10071" y="14486"/>
                </a:cubicBezTo>
                <a:cubicBezTo>
                  <a:pt x="10063" y="14478"/>
                  <a:pt x="10054" y="14469"/>
                  <a:pt x="10046" y="14461"/>
                </a:cubicBezTo>
                <a:cubicBezTo>
                  <a:pt x="9952" y="14442"/>
                  <a:pt x="9959" y="14462"/>
                  <a:pt x="9872" y="14511"/>
                </a:cubicBezTo>
                <a:cubicBezTo>
                  <a:pt x="9809" y="14546"/>
                  <a:pt x="9823" y="14578"/>
                  <a:pt x="9798" y="14635"/>
                </a:cubicBezTo>
                <a:cubicBezTo>
                  <a:pt x="9778" y="14675"/>
                  <a:pt x="9769" y="14681"/>
                  <a:pt x="9773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55800" y="5000760"/>
            <a:ext cx="581040" cy="44748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2679" y="14734"/>
                </a:moveTo>
                <a:cubicBezTo>
                  <a:pt x="2665" y="14758"/>
                  <a:pt x="2656" y="14756"/>
                  <a:pt x="2654" y="14808"/>
                </a:cubicBezTo>
                <a:cubicBezTo>
                  <a:pt x="2651" y="14879"/>
                  <a:pt x="2671" y="14896"/>
                  <a:pt x="2704" y="14957"/>
                </a:cubicBezTo>
                <a:cubicBezTo>
                  <a:pt x="2737" y="15019"/>
                  <a:pt x="2788" y="15076"/>
                  <a:pt x="2853" y="15106"/>
                </a:cubicBezTo>
                <a:cubicBezTo>
                  <a:pt x="2973" y="15161"/>
                  <a:pt x="3074" y="15105"/>
                  <a:pt x="3175" y="15032"/>
                </a:cubicBezTo>
                <a:cubicBezTo>
                  <a:pt x="3252" y="14976"/>
                  <a:pt x="3306" y="14866"/>
                  <a:pt x="3349" y="14784"/>
                </a:cubicBezTo>
                <a:cubicBezTo>
                  <a:pt x="3374" y="14735"/>
                  <a:pt x="3403" y="14684"/>
                  <a:pt x="3423" y="14660"/>
                </a:cubicBezTo>
                <a:cubicBezTo>
                  <a:pt x="3430" y="14713"/>
                  <a:pt x="3445" y="14755"/>
                  <a:pt x="3448" y="14808"/>
                </a:cubicBezTo>
                <a:cubicBezTo>
                  <a:pt x="3451" y="14855"/>
                  <a:pt x="3484" y="14946"/>
                  <a:pt x="3522" y="14982"/>
                </a:cubicBezTo>
                <a:cubicBezTo>
                  <a:pt x="3569" y="15025"/>
                  <a:pt x="3634" y="15053"/>
                  <a:pt x="3696" y="15056"/>
                </a:cubicBezTo>
                <a:cubicBezTo>
                  <a:pt x="3775" y="15060"/>
                  <a:pt x="3846" y="15009"/>
                  <a:pt x="3919" y="14982"/>
                </a:cubicBezTo>
                <a:cubicBezTo>
                  <a:pt x="4018" y="14945"/>
                  <a:pt x="4067" y="14883"/>
                  <a:pt x="4142" y="14808"/>
                </a:cubicBezTo>
                <a:cubicBezTo>
                  <a:pt x="4190" y="14760"/>
                  <a:pt x="4271" y="14689"/>
                  <a:pt x="4266" y="14610"/>
                </a:cubicBezTo>
                <a:cubicBezTo>
                  <a:pt x="4263" y="14556"/>
                  <a:pt x="4253" y="14615"/>
                  <a:pt x="4242" y="14536"/>
                </a:cubicBezTo>
              </a:path>
              <a:path w="1613" h="1241">
                <a:moveTo>
                  <a:pt x="3820" y="13940"/>
                </a:moveTo>
                <a:cubicBezTo>
                  <a:pt x="3771" y="13952"/>
                  <a:pt x="3698" y="14017"/>
                  <a:pt x="3671" y="14064"/>
                </a:cubicBezTo>
                <a:cubicBezTo>
                  <a:pt x="3630" y="14136"/>
                  <a:pt x="3575" y="14229"/>
                  <a:pt x="3572" y="14312"/>
                </a:cubicBezTo>
                <a:cubicBezTo>
                  <a:pt x="3568" y="14418"/>
                  <a:pt x="3536" y="14591"/>
                  <a:pt x="3597" y="14684"/>
                </a:cubicBezTo>
                <a:cubicBezTo>
                  <a:pt x="3635" y="14741"/>
                  <a:pt x="3673" y="14813"/>
                  <a:pt x="3746" y="14833"/>
                </a:cubicBezTo>
                <a:cubicBezTo>
                  <a:pt x="3866" y="14866"/>
                  <a:pt x="3923" y="14613"/>
                  <a:pt x="3944" y="14536"/>
                </a:cubicBezTo>
                <a:cubicBezTo>
                  <a:pt x="3976" y="14420"/>
                  <a:pt x="3969" y="14307"/>
                  <a:pt x="3969" y="14188"/>
                </a:cubicBezTo>
                <a:cubicBezTo>
                  <a:pt x="3969" y="14150"/>
                  <a:pt x="3969" y="14044"/>
                  <a:pt x="3944" y="14015"/>
                </a:cubicBezTo>
                <a:cubicBezTo>
                  <a:pt x="3899" y="13963"/>
                  <a:pt x="3914" y="14011"/>
                  <a:pt x="3845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percentage to a fra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89080" y="1955880"/>
            <a:ext cx="1760760" cy="598320"/>
          </a:xfrm>
          <a:custGeom>
            <a:avLst/>
            <a:gdLst/>
            <a:ahLst/>
            <a:rect l="l" t="t" r="r" b="b"/>
            <a:pathLst>
              <a:path w="4888" h="1663">
                <a:moveTo>
                  <a:pt x="6921" y="5556"/>
                </a:moveTo>
                <a:cubicBezTo>
                  <a:pt x="7011" y="5544"/>
                  <a:pt x="7102" y="5542"/>
                  <a:pt x="7193" y="5531"/>
                </a:cubicBezTo>
                <a:cubicBezTo>
                  <a:pt x="7443" y="5501"/>
                  <a:pt x="7687" y="5521"/>
                  <a:pt x="7938" y="5507"/>
                </a:cubicBezTo>
                <a:cubicBezTo>
                  <a:pt x="8252" y="5489"/>
                  <a:pt x="8565" y="5462"/>
                  <a:pt x="8880" y="5457"/>
                </a:cubicBezTo>
                <a:cubicBezTo>
                  <a:pt x="9098" y="5453"/>
                  <a:pt x="9309" y="5473"/>
                  <a:pt x="9525" y="5482"/>
                </a:cubicBezTo>
                <a:cubicBezTo>
                  <a:pt x="9743" y="5491"/>
                  <a:pt x="9957" y="5477"/>
                  <a:pt x="10170" y="5457"/>
                </a:cubicBezTo>
                <a:cubicBezTo>
                  <a:pt x="10255" y="5449"/>
                  <a:pt x="10332" y="5435"/>
                  <a:pt x="10418" y="5432"/>
                </a:cubicBezTo>
                <a:cubicBezTo>
                  <a:pt x="10507" y="5429"/>
                  <a:pt x="10625" y="5432"/>
                  <a:pt x="10691" y="5432"/>
                </a:cubicBezTo>
              </a:path>
              <a:path w="4888" h="1663">
                <a:moveTo>
                  <a:pt x="6102" y="6375"/>
                </a:moveTo>
                <a:lnTo>
                  <a:pt x="6102" y="6375"/>
                </a:lnTo>
              </a:path>
              <a:path w="4888" h="1663">
                <a:moveTo>
                  <a:pt x="6052" y="6400"/>
                </a:moveTo>
                <a:cubicBezTo>
                  <a:pt x="5951" y="6467"/>
                  <a:pt x="5876" y="6485"/>
                  <a:pt x="5829" y="6623"/>
                </a:cubicBezTo>
                <a:cubicBezTo>
                  <a:pt x="5778" y="6773"/>
                  <a:pt x="5766" y="6989"/>
                  <a:pt x="5978" y="6995"/>
                </a:cubicBezTo>
                <a:cubicBezTo>
                  <a:pt x="6119" y="6999"/>
                  <a:pt x="6163" y="6865"/>
                  <a:pt x="6152" y="6747"/>
                </a:cubicBezTo>
                <a:cubicBezTo>
                  <a:pt x="6146" y="6681"/>
                  <a:pt x="6104" y="6608"/>
                  <a:pt x="6077" y="6548"/>
                </a:cubicBezTo>
              </a:path>
              <a:path w="4888" h="1663">
                <a:moveTo>
                  <a:pt x="6524" y="6325"/>
                </a:moveTo>
                <a:cubicBezTo>
                  <a:pt x="6524" y="6474"/>
                  <a:pt x="6491" y="6656"/>
                  <a:pt x="6548" y="6796"/>
                </a:cubicBezTo>
                <a:cubicBezTo>
                  <a:pt x="6594" y="6910"/>
                  <a:pt x="6666" y="6974"/>
                  <a:pt x="6772" y="6871"/>
                </a:cubicBezTo>
                <a:cubicBezTo>
                  <a:pt x="6878" y="6769"/>
                  <a:pt x="6913" y="6638"/>
                  <a:pt x="6921" y="6499"/>
                </a:cubicBezTo>
                <a:cubicBezTo>
                  <a:pt x="6921" y="6491"/>
                  <a:pt x="6921" y="6482"/>
                  <a:pt x="6921" y="6474"/>
                </a:cubicBezTo>
                <a:cubicBezTo>
                  <a:pt x="6985" y="6523"/>
                  <a:pt x="7027" y="6682"/>
                  <a:pt x="7069" y="6772"/>
                </a:cubicBezTo>
              </a:path>
              <a:path w="4888" h="1663">
                <a:moveTo>
                  <a:pt x="7367" y="6524"/>
                </a:moveTo>
                <a:cubicBezTo>
                  <a:pt x="7556" y="6461"/>
                  <a:pt x="7722" y="6408"/>
                  <a:pt x="7888" y="6300"/>
                </a:cubicBezTo>
              </a:path>
              <a:path w="4888" h="1663">
                <a:moveTo>
                  <a:pt x="7590" y="5928"/>
                </a:moveTo>
                <a:cubicBezTo>
                  <a:pt x="7535" y="6124"/>
                  <a:pt x="7527" y="6320"/>
                  <a:pt x="7541" y="6524"/>
                </a:cubicBezTo>
                <a:cubicBezTo>
                  <a:pt x="7553" y="6707"/>
                  <a:pt x="7582" y="6887"/>
                  <a:pt x="7590" y="7069"/>
                </a:cubicBezTo>
                <a:cubicBezTo>
                  <a:pt x="7590" y="7094"/>
                  <a:pt x="7590" y="7102"/>
                  <a:pt x="7615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6040" y="1401840"/>
            <a:ext cx="1197000" cy="563400"/>
          </a:xfrm>
          <a:custGeom>
            <a:avLst/>
            <a:gdLst/>
            <a:ahLst/>
            <a:rect l="l" t="t" r="r" b="b"/>
            <a:pathLst>
              <a:path w="3325" h="1564">
                <a:moveTo>
                  <a:pt x="14709" y="5432"/>
                </a:moveTo>
                <a:cubicBezTo>
                  <a:pt x="14902" y="5381"/>
                  <a:pt x="15129" y="5330"/>
                  <a:pt x="15329" y="5333"/>
                </a:cubicBezTo>
                <a:cubicBezTo>
                  <a:pt x="15584" y="5337"/>
                  <a:pt x="15841" y="5358"/>
                  <a:pt x="16098" y="5358"/>
                </a:cubicBezTo>
                <a:cubicBezTo>
                  <a:pt x="16340" y="5358"/>
                  <a:pt x="16579" y="5347"/>
                  <a:pt x="16818" y="5383"/>
                </a:cubicBezTo>
                <a:cubicBezTo>
                  <a:pt x="16976" y="5407"/>
                  <a:pt x="17133" y="5409"/>
                  <a:pt x="17289" y="5432"/>
                </a:cubicBezTo>
                <a:cubicBezTo>
                  <a:pt x="17384" y="5446"/>
                  <a:pt x="17466" y="5457"/>
                  <a:pt x="17562" y="5457"/>
                </a:cubicBezTo>
              </a:path>
              <a:path w="3325" h="1564">
                <a:moveTo>
                  <a:pt x="14238" y="3894"/>
                </a:moveTo>
                <a:lnTo>
                  <a:pt x="14238" y="3894"/>
                </a:lnTo>
                <a:lnTo>
                  <a:pt x="14238" y="3894"/>
                </a:lnTo>
                <a:lnTo>
                  <a:pt x="14238" y="389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95800" y="2000160"/>
            <a:ext cx="490320" cy="536760"/>
          </a:xfrm>
          <a:custGeom>
            <a:avLst/>
            <a:gdLst/>
            <a:ahLst/>
            <a:rect l="l" t="t" r="r" b="b"/>
            <a:pathLst>
              <a:path w="1365" h="1490">
                <a:moveTo>
                  <a:pt x="9401" y="6524"/>
                </a:moveTo>
                <a:cubicBezTo>
                  <a:pt x="9307" y="6575"/>
                  <a:pt x="9167" y="6649"/>
                  <a:pt x="9153" y="6772"/>
                </a:cubicBezTo>
                <a:cubicBezTo>
                  <a:pt x="9136" y="6921"/>
                  <a:pt x="9336" y="7095"/>
                  <a:pt x="9475" y="7020"/>
                </a:cubicBezTo>
                <a:cubicBezTo>
                  <a:pt x="9632" y="6936"/>
                  <a:pt x="9632" y="6748"/>
                  <a:pt x="9500" y="6648"/>
                </a:cubicBezTo>
                <a:cubicBezTo>
                  <a:pt x="9457" y="6648"/>
                  <a:pt x="9454" y="6631"/>
                  <a:pt x="9500" y="6573"/>
                </a:cubicBezTo>
              </a:path>
              <a:path w="1365" h="1490">
                <a:moveTo>
                  <a:pt x="10517" y="5829"/>
                </a:moveTo>
                <a:cubicBezTo>
                  <a:pt x="10437" y="5659"/>
                  <a:pt x="10412" y="5566"/>
                  <a:pt x="10220" y="5581"/>
                </a:cubicBezTo>
                <a:cubicBezTo>
                  <a:pt x="10086" y="5817"/>
                  <a:pt x="10202" y="6027"/>
                  <a:pt x="10244" y="6300"/>
                </a:cubicBezTo>
                <a:cubicBezTo>
                  <a:pt x="10271" y="6473"/>
                  <a:pt x="10296" y="6720"/>
                  <a:pt x="10170" y="6871"/>
                </a:cubicBezTo>
                <a:cubicBezTo>
                  <a:pt x="10170" y="6863"/>
                  <a:pt x="10170" y="6854"/>
                  <a:pt x="10170" y="6846"/>
                </a:cubicBezTo>
              </a:path>
              <a:path w="1365" h="1490">
                <a:moveTo>
                  <a:pt x="10046" y="6648"/>
                </a:moveTo>
                <a:cubicBezTo>
                  <a:pt x="10211" y="6624"/>
                  <a:pt x="10260" y="6616"/>
                  <a:pt x="1036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0080" y="2170080"/>
            <a:ext cx="7920" cy="258840"/>
          </a:xfrm>
          <a:custGeom>
            <a:avLst/>
            <a:gdLst/>
            <a:ahLst/>
            <a:rect l="l" t="t" r="r" b="b"/>
            <a:pathLst>
              <a:path w="26" h="720">
                <a:moveTo>
                  <a:pt x="12551" y="6028"/>
                </a:moveTo>
                <a:cubicBezTo>
                  <a:pt x="12541" y="6236"/>
                  <a:pt x="12526" y="6439"/>
                  <a:pt x="12526" y="6648"/>
                </a:cubicBezTo>
                <a:cubicBezTo>
                  <a:pt x="12526" y="6722"/>
                  <a:pt x="12501" y="6755"/>
                  <a:pt x="12551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4920" y="2205000"/>
            <a:ext cx="438120" cy="250920"/>
          </a:xfrm>
          <a:custGeom>
            <a:avLst/>
            <a:gdLst/>
            <a:ahLst/>
            <a:rect l="l" t="t" r="r" b="b"/>
            <a:pathLst>
              <a:path w="1216" h="695">
                <a:moveTo>
                  <a:pt x="13246" y="6127"/>
                </a:moveTo>
                <a:cubicBezTo>
                  <a:pt x="13116" y="6277"/>
                  <a:pt x="13050" y="6413"/>
                  <a:pt x="13097" y="6623"/>
                </a:cubicBezTo>
                <a:cubicBezTo>
                  <a:pt x="13137" y="6799"/>
                  <a:pt x="13361" y="6855"/>
                  <a:pt x="13494" y="6747"/>
                </a:cubicBezTo>
                <a:cubicBezTo>
                  <a:pt x="13667" y="6607"/>
                  <a:pt x="13612" y="6310"/>
                  <a:pt x="13469" y="6176"/>
                </a:cubicBezTo>
                <a:cubicBezTo>
                  <a:pt x="13388" y="6136"/>
                  <a:pt x="13375" y="6120"/>
                  <a:pt x="13320" y="6127"/>
                </a:cubicBezTo>
              </a:path>
              <a:path w="1216" h="695">
                <a:moveTo>
                  <a:pt x="13767" y="6226"/>
                </a:moveTo>
                <a:cubicBezTo>
                  <a:pt x="13720" y="6346"/>
                  <a:pt x="13619" y="6512"/>
                  <a:pt x="13667" y="6648"/>
                </a:cubicBezTo>
                <a:cubicBezTo>
                  <a:pt x="13733" y="6835"/>
                  <a:pt x="13947" y="6825"/>
                  <a:pt x="14089" y="6772"/>
                </a:cubicBezTo>
                <a:cubicBezTo>
                  <a:pt x="14234" y="6718"/>
                  <a:pt x="14312" y="6553"/>
                  <a:pt x="14312" y="6400"/>
                </a:cubicBezTo>
                <a:cubicBezTo>
                  <a:pt x="14312" y="6263"/>
                  <a:pt x="14203" y="6219"/>
                  <a:pt x="14114" y="6152"/>
                </a:cubicBezTo>
                <a:cubicBezTo>
                  <a:pt x="14073" y="6121"/>
                  <a:pt x="14041" y="6127"/>
                  <a:pt x="13990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7280" y="3544920"/>
            <a:ext cx="731880" cy="260280"/>
          </a:xfrm>
          <a:custGeom>
            <a:avLst/>
            <a:gdLst/>
            <a:ahLst/>
            <a:rect l="l" t="t" r="r" b="b"/>
            <a:pathLst>
              <a:path w="2035" h="721">
                <a:moveTo>
                  <a:pt x="6548" y="10021"/>
                </a:moveTo>
                <a:cubicBezTo>
                  <a:pt x="6663" y="9998"/>
                  <a:pt x="6772" y="9996"/>
                  <a:pt x="6896" y="9996"/>
                </a:cubicBezTo>
                <a:cubicBezTo>
                  <a:pt x="6983" y="9996"/>
                  <a:pt x="7191" y="10027"/>
                  <a:pt x="7268" y="9971"/>
                </a:cubicBezTo>
                <a:cubicBezTo>
                  <a:pt x="7268" y="9963"/>
                  <a:pt x="7268" y="9955"/>
                  <a:pt x="7268" y="9947"/>
                </a:cubicBezTo>
                <a:cubicBezTo>
                  <a:pt x="7228" y="10093"/>
                  <a:pt x="7143" y="10241"/>
                  <a:pt x="7094" y="10393"/>
                </a:cubicBezTo>
                <a:cubicBezTo>
                  <a:pt x="7088" y="10412"/>
                  <a:pt x="7018" y="10643"/>
                  <a:pt x="7094" y="10517"/>
                </a:cubicBezTo>
              </a:path>
              <a:path w="2035" h="721">
                <a:moveTo>
                  <a:pt x="7689" y="9897"/>
                </a:moveTo>
                <a:cubicBezTo>
                  <a:pt x="7673" y="9946"/>
                  <a:pt x="7607" y="10018"/>
                  <a:pt x="7590" y="10096"/>
                </a:cubicBezTo>
                <a:cubicBezTo>
                  <a:pt x="7590" y="10112"/>
                  <a:pt x="7590" y="10129"/>
                  <a:pt x="7590" y="10145"/>
                </a:cubicBezTo>
                <a:cubicBezTo>
                  <a:pt x="7735" y="10190"/>
                  <a:pt x="7864" y="10203"/>
                  <a:pt x="7987" y="10294"/>
                </a:cubicBezTo>
                <a:cubicBezTo>
                  <a:pt x="8069" y="10355"/>
                  <a:pt x="8109" y="10476"/>
                  <a:pt x="7987" y="10517"/>
                </a:cubicBezTo>
                <a:cubicBezTo>
                  <a:pt x="7765" y="10591"/>
                  <a:pt x="7775" y="10535"/>
                  <a:pt x="7714" y="10368"/>
                </a:cubicBezTo>
              </a:path>
              <a:path w="2035" h="721">
                <a:moveTo>
                  <a:pt x="7714" y="9922"/>
                </a:moveTo>
                <a:cubicBezTo>
                  <a:pt x="7843" y="9857"/>
                  <a:pt x="7918" y="9847"/>
                  <a:pt x="8062" y="9847"/>
                </a:cubicBezTo>
                <a:cubicBezTo>
                  <a:pt x="8218" y="9847"/>
                  <a:pt x="8352" y="9862"/>
                  <a:pt x="8508" y="9847"/>
                </a:cubicBezTo>
                <a:cubicBezTo>
                  <a:pt x="8533" y="9847"/>
                  <a:pt x="8557" y="9847"/>
                  <a:pt x="8582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4000" y="3544920"/>
            <a:ext cx="1892160" cy="768240"/>
          </a:xfrm>
          <a:custGeom>
            <a:avLst/>
            <a:gdLst/>
            <a:ahLst/>
            <a:rect l="l" t="t" r="r" b="b"/>
            <a:pathLst>
              <a:path w="5259" h="2135">
                <a:moveTo>
                  <a:pt x="6772" y="10864"/>
                </a:moveTo>
                <a:cubicBezTo>
                  <a:pt x="6930" y="10891"/>
                  <a:pt x="7078" y="10855"/>
                  <a:pt x="7243" y="10864"/>
                </a:cubicBezTo>
                <a:cubicBezTo>
                  <a:pt x="7451" y="10875"/>
                  <a:pt x="7633" y="10873"/>
                  <a:pt x="7838" y="10864"/>
                </a:cubicBezTo>
                <a:cubicBezTo>
                  <a:pt x="7904" y="10864"/>
                  <a:pt x="7937" y="10864"/>
                  <a:pt x="7987" y="10864"/>
                </a:cubicBezTo>
              </a:path>
              <a:path w="5259" h="2135">
                <a:moveTo>
                  <a:pt x="6672" y="11509"/>
                </a:moveTo>
                <a:cubicBezTo>
                  <a:pt x="6636" y="11644"/>
                  <a:pt x="6648" y="11788"/>
                  <a:pt x="6648" y="11931"/>
                </a:cubicBezTo>
                <a:cubicBezTo>
                  <a:pt x="6648" y="11994"/>
                  <a:pt x="6655" y="12000"/>
                  <a:pt x="6697" y="11906"/>
                </a:cubicBezTo>
              </a:path>
              <a:path w="5259" h="2135">
                <a:moveTo>
                  <a:pt x="7367" y="11063"/>
                </a:moveTo>
                <a:cubicBezTo>
                  <a:pt x="7242" y="11079"/>
                  <a:pt x="7203" y="11161"/>
                  <a:pt x="7169" y="11286"/>
                </a:cubicBezTo>
                <a:cubicBezTo>
                  <a:pt x="7126" y="11445"/>
                  <a:pt x="7121" y="11629"/>
                  <a:pt x="7243" y="11757"/>
                </a:cubicBezTo>
                <a:cubicBezTo>
                  <a:pt x="7350" y="11869"/>
                  <a:pt x="7453" y="11828"/>
                  <a:pt x="7565" y="11782"/>
                </a:cubicBezTo>
                <a:cubicBezTo>
                  <a:pt x="7675" y="11737"/>
                  <a:pt x="7738" y="11589"/>
                  <a:pt x="7714" y="11460"/>
                </a:cubicBezTo>
                <a:cubicBezTo>
                  <a:pt x="7686" y="11314"/>
                  <a:pt x="7544" y="11200"/>
                  <a:pt x="7441" y="11112"/>
                </a:cubicBezTo>
                <a:cubicBezTo>
                  <a:pt x="7433" y="11104"/>
                  <a:pt x="7425" y="11096"/>
                  <a:pt x="7417" y="11088"/>
                </a:cubicBezTo>
              </a:path>
              <a:path w="5259" h="2135">
                <a:moveTo>
                  <a:pt x="7838" y="11187"/>
                </a:moveTo>
                <a:cubicBezTo>
                  <a:pt x="7818" y="11286"/>
                  <a:pt x="7813" y="11379"/>
                  <a:pt x="7813" y="11485"/>
                </a:cubicBezTo>
                <a:cubicBezTo>
                  <a:pt x="7813" y="11602"/>
                  <a:pt x="7848" y="11728"/>
                  <a:pt x="7962" y="11782"/>
                </a:cubicBezTo>
                <a:cubicBezTo>
                  <a:pt x="8060" y="11829"/>
                  <a:pt x="8108" y="11839"/>
                  <a:pt x="8210" y="11807"/>
                </a:cubicBezTo>
                <a:cubicBezTo>
                  <a:pt x="8320" y="11773"/>
                  <a:pt x="8386" y="11711"/>
                  <a:pt x="8434" y="11609"/>
                </a:cubicBezTo>
                <a:cubicBezTo>
                  <a:pt x="8505" y="11458"/>
                  <a:pt x="8468" y="11313"/>
                  <a:pt x="8409" y="11162"/>
                </a:cubicBezTo>
                <a:cubicBezTo>
                  <a:pt x="8374" y="11073"/>
                  <a:pt x="8305" y="11063"/>
                  <a:pt x="8235" y="11038"/>
                </a:cubicBezTo>
                <a:cubicBezTo>
                  <a:pt x="8159" y="11011"/>
                  <a:pt x="8168" y="11006"/>
                  <a:pt x="8111" y="11063"/>
                </a:cubicBezTo>
                <a:cubicBezTo>
                  <a:pt x="8075" y="11099"/>
                  <a:pt x="8031" y="11164"/>
                  <a:pt x="8012" y="11212"/>
                </a:cubicBezTo>
                <a:cubicBezTo>
                  <a:pt x="8012" y="11220"/>
                  <a:pt x="8012" y="11229"/>
                  <a:pt x="8012" y="11237"/>
                </a:cubicBezTo>
              </a:path>
              <a:path w="5259" h="2135">
                <a:moveTo>
                  <a:pt x="8905" y="10344"/>
                </a:moveTo>
                <a:cubicBezTo>
                  <a:pt x="9028" y="10323"/>
                  <a:pt x="9101" y="10335"/>
                  <a:pt x="9227" y="10344"/>
                </a:cubicBezTo>
                <a:cubicBezTo>
                  <a:pt x="9382" y="10355"/>
                  <a:pt x="9520" y="10325"/>
                  <a:pt x="9649" y="10244"/>
                </a:cubicBezTo>
              </a:path>
              <a:path w="5259" h="2135">
                <a:moveTo>
                  <a:pt x="9475" y="10021"/>
                </a:moveTo>
                <a:cubicBezTo>
                  <a:pt x="9467" y="10029"/>
                  <a:pt x="9459" y="10038"/>
                  <a:pt x="9451" y="10046"/>
                </a:cubicBezTo>
              </a:path>
              <a:path w="5259" h="2135">
                <a:moveTo>
                  <a:pt x="9277" y="10641"/>
                </a:moveTo>
                <a:cubicBezTo>
                  <a:pt x="9303" y="10676"/>
                  <a:pt x="9302" y="10672"/>
                  <a:pt x="9302" y="10716"/>
                </a:cubicBezTo>
              </a:path>
              <a:path w="5259" h="2135">
                <a:moveTo>
                  <a:pt x="9996" y="9971"/>
                </a:moveTo>
                <a:cubicBezTo>
                  <a:pt x="10080" y="9992"/>
                  <a:pt x="10066" y="10046"/>
                  <a:pt x="10046" y="10120"/>
                </a:cubicBezTo>
                <a:cubicBezTo>
                  <a:pt x="10029" y="10181"/>
                  <a:pt x="10021" y="10191"/>
                  <a:pt x="10021" y="10244"/>
                </a:cubicBezTo>
                <a:cubicBezTo>
                  <a:pt x="10161" y="10279"/>
                  <a:pt x="10294" y="10288"/>
                  <a:pt x="10418" y="10344"/>
                </a:cubicBezTo>
                <a:cubicBezTo>
                  <a:pt x="10478" y="10371"/>
                  <a:pt x="10512" y="10527"/>
                  <a:pt x="10393" y="10517"/>
                </a:cubicBezTo>
                <a:cubicBezTo>
                  <a:pt x="10299" y="10455"/>
                  <a:pt x="10256" y="10424"/>
                  <a:pt x="10195" y="10368"/>
                </a:cubicBezTo>
              </a:path>
              <a:path w="5259" h="2135">
                <a:moveTo>
                  <a:pt x="10195" y="10021"/>
                </a:moveTo>
                <a:cubicBezTo>
                  <a:pt x="10342" y="9957"/>
                  <a:pt x="10487" y="9916"/>
                  <a:pt x="10641" y="9872"/>
                </a:cubicBezTo>
                <a:cubicBezTo>
                  <a:pt x="10706" y="9850"/>
                  <a:pt x="10721" y="9842"/>
                  <a:pt x="10765" y="9847"/>
                </a:cubicBezTo>
              </a:path>
              <a:path w="5259" h="2135">
                <a:moveTo>
                  <a:pt x="9674" y="11212"/>
                </a:moveTo>
                <a:cubicBezTo>
                  <a:pt x="9818" y="11154"/>
                  <a:pt x="9976" y="11163"/>
                  <a:pt x="10120" y="11112"/>
                </a:cubicBezTo>
                <a:cubicBezTo>
                  <a:pt x="10145" y="11096"/>
                  <a:pt x="10170" y="11079"/>
                  <a:pt x="10195" y="11063"/>
                </a:cubicBezTo>
              </a:path>
              <a:path w="5259" h="2135">
                <a:moveTo>
                  <a:pt x="9847" y="10740"/>
                </a:moveTo>
                <a:cubicBezTo>
                  <a:pt x="9855" y="10748"/>
                  <a:pt x="9864" y="10757"/>
                  <a:pt x="9872" y="10765"/>
                </a:cubicBezTo>
              </a:path>
              <a:path w="5259" h="2135">
                <a:moveTo>
                  <a:pt x="9773" y="11584"/>
                </a:moveTo>
                <a:cubicBezTo>
                  <a:pt x="9800" y="11647"/>
                  <a:pt x="9782" y="11660"/>
                  <a:pt x="9823" y="11633"/>
                </a:cubicBezTo>
              </a:path>
              <a:path w="5259" h="2135">
                <a:moveTo>
                  <a:pt x="10765" y="10964"/>
                </a:moveTo>
                <a:cubicBezTo>
                  <a:pt x="10790" y="11012"/>
                  <a:pt x="10745" y="11071"/>
                  <a:pt x="10716" y="11137"/>
                </a:cubicBezTo>
                <a:cubicBezTo>
                  <a:pt x="10794" y="11190"/>
                  <a:pt x="10923" y="11156"/>
                  <a:pt x="10988" y="11212"/>
                </a:cubicBezTo>
                <a:cubicBezTo>
                  <a:pt x="11007" y="11228"/>
                  <a:pt x="11031" y="11446"/>
                  <a:pt x="11013" y="11460"/>
                </a:cubicBezTo>
                <a:cubicBezTo>
                  <a:pt x="10867" y="11578"/>
                  <a:pt x="10745" y="11403"/>
                  <a:pt x="10666" y="11311"/>
                </a:cubicBezTo>
              </a:path>
              <a:path w="5259" h="2135">
                <a:moveTo>
                  <a:pt x="10716" y="10964"/>
                </a:moveTo>
                <a:cubicBezTo>
                  <a:pt x="10819" y="10917"/>
                  <a:pt x="10899" y="10893"/>
                  <a:pt x="11013" y="10889"/>
                </a:cubicBezTo>
                <a:cubicBezTo>
                  <a:pt x="11071" y="10887"/>
                  <a:pt x="11129" y="10889"/>
                  <a:pt x="11187" y="10889"/>
                </a:cubicBezTo>
              </a:path>
              <a:path w="5259" h="2135">
                <a:moveTo>
                  <a:pt x="11584" y="10641"/>
                </a:moveTo>
                <a:cubicBezTo>
                  <a:pt x="11636" y="10712"/>
                  <a:pt x="11759" y="10712"/>
                  <a:pt x="11857" y="10716"/>
                </a:cubicBezTo>
                <a:cubicBezTo>
                  <a:pt x="11873" y="10716"/>
                  <a:pt x="11890" y="10716"/>
                  <a:pt x="11906" y="10716"/>
                </a:cubicBezTo>
              </a:path>
              <a:path w="5259" h="2135">
                <a:moveTo>
                  <a:pt x="11435" y="11088"/>
                </a:moveTo>
                <a:cubicBezTo>
                  <a:pt x="11572" y="11113"/>
                  <a:pt x="11671" y="11114"/>
                  <a:pt x="11807" y="11088"/>
                </a:cubicBezTo>
              </a:path>
              <a:path w="5259" h="2135">
                <a:moveTo>
                  <a:pt x="9252" y="10195"/>
                </a:moveTo>
                <a:cubicBezTo>
                  <a:pt x="9318" y="10179"/>
                  <a:pt x="9380" y="10122"/>
                  <a:pt x="9451" y="10096"/>
                </a:cubicBezTo>
                <a:cubicBezTo>
                  <a:pt x="9535" y="10065"/>
                  <a:pt x="9668" y="10042"/>
                  <a:pt x="9748" y="10096"/>
                </a:cubicBezTo>
                <a:cubicBezTo>
                  <a:pt x="9798" y="10130"/>
                  <a:pt x="9854" y="10231"/>
                  <a:pt x="9823" y="10294"/>
                </a:cubicBezTo>
                <a:cubicBezTo>
                  <a:pt x="9780" y="10380"/>
                  <a:pt x="9657" y="10441"/>
                  <a:pt x="9599" y="10517"/>
                </a:cubicBezTo>
                <a:cubicBezTo>
                  <a:pt x="9563" y="10563"/>
                  <a:pt x="9557" y="10612"/>
                  <a:pt x="9550" y="10666"/>
                </a:cubicBezTo>
                <a:cubicBezTo>
                  <a:pt x="9655" y="10687"/>
                  <a:pt x="9713" y="10653"/>
                  <a:pt x="9823" y="10641"/>
                </a:cubicBezTo>
                <a:cubicBezTo>
                  <a:pt x="9939" y="10628"/>
                  <a:pt x="9893" y="10616"/>
                  <a:pt x="9971" y="10616"/>
                </a:cubicBezTo>
                <a:cubicBezTo>
                  <a:pt x="10013" y="10616"/>
                  <a:pt x="10009" y="10626"/>
                  <a:pt x="10021" y="10592"/>
                </a:cubicBezTo>
              </a:path>
              <a:path w="5259" h="2135">
                <a:moveTo>
                  <a:pt x="10071" y="10939"/>
                </a:moveTo>
                <a:cubicBezTo>
                  <a:pt x="10175" y="10939"/>
                  <a:pt x="10271" y="10931"/>
                  <a:pt x="10368" y="10964"/>
                </a:cubicBezTo>
                <a:cubicBezTo>
                  <a:pt x="10352" y="11130"/>
                  <a:pt x="10271" y="11163"/>
                  <a:pt x="10170" y="11286"/>
                </a:cubicBezTo>
                <a:cubicBezTo>
                  <a:pt x="10119" y="11349"/>
                  <a:pt x="10066" y="11431"/>
                  <a:pt x="10046" y="11509"/>
                </a:cubicBezTo>
                <a:cubicBezTo>
                  <a:pt x="10046" y="11517"/>
                  <a:pt x="10046" y="11526"/>
                  <a:pt x="10046" y="11534"/>
                </a:cubicBezTo>
                <a:cubicBezTo>
                  <a:pt x="10135" y="11544"/>
                  <a:pt x="10230" y="11565"/>
                  <a:pt x="10319" y="11534"/>
                </a:cubicBezTo>
                <a:cubicBezTo>
                  <a:pt x="10344" y="11509"/>
                  <a:pt x="10352" y="11501"/>
                  <a:pt x="10368" y="114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0840" y="3625920"/>
            <a:ext cx="376200" cy="652320"/>
          </a:xfrm>
          <a:custGeom>
            <a:avLst/>
            <a:gdLst/>
            <a:ahLst/>
            <a:rect l="l" t="t" r="r" b="b"/>
            <a:pathLst>
              <a:path w="1043" h="1811">
                <a:moveTo>
                  <a:pt x="13593" y="10195"/>
                </a:moveTo>
                <a:cubicBezTo>
                  <a:pt x="13593" y="10104"/>
                  <a:pt x="13705" y="10083"/>
                  <a:pt x="13791" y="10071"/>
                </a:cubicBezTo>
                <a:cubicBezTo>
                  <a:pt x="13932" y="10071"/>
                  <a:pt x="13975" y="10070"/>
                  <a:pt x="14064" y="10096"/>
                </a:cubicBezTo>
                <a:cubicBezTo>
                  <a:pt x="14064" y="10209"/>
                  <a:pt x="14058" y="10269"/>
                  <a:pt x="13940" y="10319"/>
                </a:cubicBezTo>
                <a:cubicBezTo>
                  <a:pt x="13932" y="10319"/>
                  <a:pt x="13923" y="10319"/>
                  <a:pt x="13915" y="10319"/>
                </a:cubicBezTo>
                <a:cubicBezTo>
                  <a:pt x="13985" y="10331"/>
                  <a:pt x="14101" y="10346"/>
                  <a:pt x="14139" y="10418"/>
                </a:cubicBezTo>
                <a:cubicBezTo>
                  <a:pt x="14193" y="10521"/>
                  <a:pt x="14031" y="10581"/>
                  <a:pt x="13965" y="10592"/>
                </a:cubicBezTo>
                <a:cubicBezTo>
                  <a:pt x="13929" y="10598"/>
                  <a:pt x="13718" y="10593"/>
                  <a:pt x="13692" y="10567"/>
                </a:cubicBezTo>
                <a:cubicBezTo>
                  <a:pt x="13673" y="10548"/>
                  <a:pt x="13649" y="10538"/>
                  <a:pt x="13618" y="10517"/>
                </a:cubicBezTo>
                <a:cubicBezTo>
                  <a:pt x="13581" y="10492"/>
                  <a:pt x="13552" y="10468"/>
                  <a:pt x="13519" y="10443"/>
                </a:cubicBezTo>
              </a:path>
              <a:path w="1043" h="1811">
                <a:moveTo>
                  <a:pt x="13419" y="10864"/>
                </a:moveTo>
                <a:cubicBezTo>
                  <a:pt x="13686" y="10864"/>
                  <a:pt x="13949" y="10869"/>
                  <a:pt x="14213" y="10889"/>
                </a:cubicBezTo>
                <a:cubicBezTo>
                  <a:pt x="14297" y="10895"/>
                  <a:pt x="14545" y="10905"/>
                  <a:pt x="14461" y="10914"/>
                </a:cubicBezTo>
                <a:cubicBezTo>
                  <a:pt x="14436" y="10914"/>
                  <a:pt x="14412" y="10914"/>
                  <a:pt x="14387" y="10914"/>
                </a:cubicBezTo>
              </a:path>
              <a:path w="1043" h="1811">
                <a:moveTo>
                  <a:pt x="13618" y="11112"/>
                </a:moveTo>
                <a:cubicBezTo>
                  <a:pt x="13645" y="11077"/>
                  <a:pt x="13635" y="11074"/>
                  <a:pt x="13667" y="11063"/>
                </a:cubicBezTo>
                <a:cubicBezTo>
                  <a:pt x="13655" y="11101"/>
                  <a:pt x="13598" y="11160"/>
                  <a:pt x="13568" y="11212"/>
                </a:cubicBezTo>
                <a:cubicBezTo>
                  <a:pt x="13527" y="11283"/>
                  <a:pt x="13519" y="11328"/>
                  <a:pt x="13519" y="11410"/>
                </a:cubicBezTo>
                <a:cubicBezTo>
                  <a:pt x="13519" y="11455"/>
                  <a:pt x="13494" y="11487"/>
                  <a:pt x="13494" y="11534"/>
                </a:cubicBezTo>
                <a:cubicBezTo>
                  <a:pt x="13568" y="11534"/>
                  <a:pt x="13622" y="11513"/>
                  <a:pt x="13692" y="11509"/>
                </a:cubicBezTo>
                <a:cubicBezTo>
                  <a:pt x="13747" y="11506"/>
                  <a:pt x="13791" y="11505"/>
                  <a:pt x="13841" y="11485"/>
                </a:cubicBezTo>
                <a:cubicBezTo>
                  <a:pt x="13881" y="11469"/>
                  <a:pt x="13898" y="11446"/>
                  <a:pt x="13940" y="11435"/>
                </a:cubicBezTo>
                <a:cubicBezTo>
                  <a:pt x="14012" y="11415"/>
                  <a:pt x="14113" y="11435"/>
                  <a:pt x="14188" y="11435"/>
                </a:cubicBezTo>
                <a:cubicBezTo>
                  <a:pt x="14188" y="11383"/>
                  <a:pt x="14189" y="11365"/>
                  <a:pt x="14213" y="11336"/>
                </a:cubicBezTo>
              </a:path>
              <a:path w="1043" h="1811">
                <a:moveTo>
                  <a:pt x="14139" y="10988"/>
                </a:moveTo>
                <a:cubicBezTo>
                  <a:pt x="14095" y="11046"/>
                  <a:pt x="14084" y="11137"/>
                  <a:pt x="14064" y="11212"/>
                </a:cubicBezTo>
                <a:cubicBezTo>
                  <a:pt x="14031" y="11332"/>
                  <a:pt x="13986" y="11462"/>
                  <a:pt x="13965" y="11584"/>
                </a:cubicBezTo>
                <a:cubicBezTo>
                  <a:pt x="13955" y="11640"/>
                  <a:pt x="13945" y="11703"/>
                  <a:pt x="13940" y="11757"/>
                </a:cubicBezTo>
                <a:cubicBezTo>
                  <a:pt x="13936" y="11798"/>
                  <a:pt x="13940" y="11840"/>
                  <a:pt x="13940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2880" y="4402080"/>
            <a:ext cx="803160" cy="812880"/>
          </a:xfrm>
          <a:custGeom>
            <a:avLst/>
            <a:gdLst/>
            <a:ahLst/>
            <a:rect l="l" t="t" r="r" b="b"/>
            <a:pathLst>
              <a:path w="2233" h="2258">
                <a:moveTo>
                  <a:pt x="9079" y="12254"/>
                </a:moveTo>
                <a:cubicBezTo>
                  <a:pt x="9079" y="12204"/>
                  <a:pt x="9079" y="12303"/>
                  <a:pt x="9079" y="12353"/>
                </a:cubicBezTo>
                <a:cubicBezTo>
                  <a:pt x="9079" y="12471"/>
                  <a:pt x="9054" y="12582"/>
                  <a:pt x="9054" y="12700"/>
                </a:cubicBezTo>
                <a:cubicBezTo>
                  <a:pt x="9054" y="12708"/>
                  <a:pt x="9054" y="12717"/>
                  <a:pt x="9054" y="12725"/>
                </a:cubicBezTo>
                <a:cubicBezTo>
                  <a:pt x="9219" y="12743"/>
                  <a:pt x="9337" y="12736"/>
                  <a:pt x="9500" y="12700"/>
                </a:cubicBezTo>
                <a:cubicBezTo>
                  <a:pt x="9575" y="12683"/>
                  <a:pt x="9609" y="12695"/>
                  <a:pt x="9624" y="12650"/>
                </a:cubicBezTo>
              </a:path>
              <a:path w="2233" h="2258">
                <a:moveTo>
                  <a:pt x="9525" y="12303"/>
                </a:moveTo>
                <a:cubicBezTo>
                  <a:pt x="9525" y="12463"/>
                  <a:pt x="9539" y="12616"/>
                  <a:pt x="9550" y="12774"/>
                </a:cubicBezTo>
                <a:cubicBezTo>
                  <a:pt x="9557" y="12879"/>
                  <a:pt x="9567" y="12973"/>
                  <a:pt x="9575" y="13072"/>
                </a:cubicBezTo>
                <a:cubicBezTo>
                  <a:pt x="9575" y="13112"/>
                  <a:pt x="9586" y="13110"/>
                  <a:pt x="9624" y="13047"/>
                </a:cubicBezTo>
              </a:path>
              <a:path w="2233" h="2258">
                <a:moveTo>
                  <a:pt x="10244" y="12303"/>
                </a:moveTo>
                <a:cubicBezTo>
                  <a:pt x="10069" y="12406"/>
                  <a:pt x="10054" y="12523"/>
                  <a:pt x="10046" y="12725"/>
                </a:cubicBezTo>
                <a:cubicBezTo>
                  <a:pt x="10040" y="12864"/>
                  <a:pt x="10096" y="13015"/>
                  <a:pt x="10220" y="13097"/>
                </a:cubicBezTo>
                <a:cubicBezTo>
                  <a:pt x="10382" y="13204"/>
                  <a:pt x="10528" y="12973"/>
                  <a:pt x="10567" y="12849"/>
                </a:cubicBezTo>
                <a:cubicBezTo>
                  <a:pt x="10636" y="12631"/>
                  <a:pt x="10529" y="12367"/>
                  <a:pt x="10269" y="12378"/>
                </a:cubicBezTo>
                <a:cubicBezTo>
                  <a:pt x="10165" y="12419"/>
                  <a:pt x="10138" y="12421"/>
                  <a:pt x="10096" y="12477"/>
                </a:cubicBezTo>
              </a:path>
              <a:path w="2233" h="2258">
                <a:moveTo>
                  <a:pt x="8930" y="13370"/>
                </a:moveTo>
                <a:cubicBezTo>
                  <a:pt x="8834" y="13344"/>
                  <a:pt x="8842" y="13337"/>
                  <a:pt x="8756" y="13370"/>
                </a:cubicBezTo>
                <a:cubicBezTo>
                  <a:pt x="8987" y="13331"/>
                  <a:pt x="9216" y="13312"/>
                  <a:pt x="9451" y="13295"/>
                </a:cubicBezTo>
                <a:cubicBezTo>
                  <a:pt x="9748" y="13273"/>
                  <a:pt x="10048" y="13230"/>
                  <a:pt x="10344" y="13221"/>
                </a:cubicBezTo>
                <a:cubicBezTo>
                  <a:pt x="10446" y="13218"/>
                  <a:pt x="10508" y="13212"/>
                  <a:pt x="10517" y="13221"/>
                </a:cubicBezTo>
              </a:path>
              <a:path w="2233" h="2258">
                <a:moveTo>
                  <a:pt x="9426" y="13667"/>
                </a:moveTo>
                <a:cubicBezTo>
                  <a:pt x="9390" y="13691"/>
                  <a:pt x="9340" y="13908"/>
                  <a:pt x="9327" y="13965"/>
                </a:cubicBezTo>
                <a:cubicBezTo>
                  <a:pt x="9288" y="14136"/>
                  <a:pt x="9125" y="14573"/>
                  <a:pt x="9277" y="14486"/>
                </a:cubicBezTo>
                <a:cubicBezTo>
                  <a:pt x="9285" y="14461"/>
                  <a:pt x="9294" y="14437"/>
                  <a:pt x="9302" y="14412"/>
                </a:cubicBezTo>
              </a:path>
              <a:path w="2233" h="2258">
                <a:moveTo>
                  <a:pt x="9947" y="13692"/>
                </a:moveTo>
                <a:cubicBezTo>
                  <a:pt x="9803" y="13772"/>
                  <a:pt x="9745" y="13870"/>
                  <a:pt x="9723" y="14039"/>
                </a:cubicBezTo>
                <a:cubicBezTo>
                  <a:pt x="9702" y="14197"/>
                  <a:pt x="9831" y="14405"/>
                  <a:pt x="10021" y="14362"/>
                </a:cubicBezTo>
                <a:cubicBezTo>
                  <a:pt x="10201" y="14321"/>
                  <a:pt x="10346" y="14088"/>
                  <a:pt x="10319" y="13915"/>
                </a:cubicBezTo>
                <a:cubicBezTo>
                  <a:pt x="10295" y="13756"/>
                  <a:pt x="10129" y="13718"/>
                  <a:pt x="10046" y="13593"/>
                </a:cubicBezTo>
              </a:path>
              <a:path w="2233" h="2258">
                <a:moveTo>
                  <a:pt x="10567" y="13618"/>
                </a:moveTo>
                <a:cubicBezTo>
                  <a:pt x="10507" y="13737"/>
                  <a:pt x="10396" y="13852"/>
                  <a:pt x="10393" y="13990"/>
                </a:cubicBezTo>
                <a:cubicBezTo>
                  <a:pt x="10391" y="14115"/>
                  <a:pt x="10472" y="14356"/>
                  <a:pt x="10641" y="14337"/>
                </a:cubicBezTo>
                <a:cubicBezTo>
                  <a:pt x="10787" y="14321"/>
                  <a:pt x="10910" y="14161"/>
                  <a:pt x="10964" y="14039"/>
                </a:cubicBezTo>
                <a:cubicBezTo>
                  <a:pt x="11034" y="13881"/>
                  <a:pt x="10961" y="13787"/>
                  <a:pt x="10840" y="13692"/>
                </a:cubicBezTo>
                <a:cubicBezTo>
                  <a:pt x="10746" y="13618"/>
                  <a:pt x="10740" y="13616"/>
                  <a:pt x="10740" y="13494"/>
                </a:cubicBezTo>
                <a:cubicBezTo>
                  <a:pt x="10740" y="13452"/>
                  <a:pt x="10701" y="13469"/>
                  <a:pt x="10666" y="13469"/>
                </a:cubicBezTo>
                <a:cubicBezTo>
                  <a:pt x="10641" y="13469"/>
                  <a:pt x="10617" y="13469"/>
                  <a:pt x="10592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21080" y="4446720"/>
            <a:ext cx="1913040" cy="974520"/>
          </a:xfrm>
          <a:custGeom>
            <a:avLst/>
            <a:gdLst/>
            <a:ahLst/>
            <a:rect l="l" t="t" r="r" b="b"/>
            <a:pathLst>
              <a:path w="5310" h="2704">
                <a:moveTo>
                  <a:pt x="12005" y="13271"/>
                </a:moveTo>
                <a:cubicBezTo>
                  <a:pt x="12132" y="13317"/>
                  <a:pt x="12308" y="13317"/>
                  <a:pt x="12452" y="13320"/>
                </a:cubicBezTo>
                <a:cubicBezTo>
                  <a:pt x="12555" y="13322"/>
                  <a:pt x="12593" y="13340"/>
                  <a:pt x="12650" y="13271"/>
                </a:cubicBezTo>
              </a:path>
              <a:path w="5310" h="2704">
                <a:moveTo>
                  <a:pt x="12328" y="13022"/>
                </a:moveTo>
                <a:cubicBezTo>
                  <a:pt x="12288" y="13022"/>
                  <a:pt x="12269" y="13033"/>
                  <a:pt x="12254" y="13072"/>
                </a:cubicBezTo>
              </a:path>
              <a:path w="5310" h="2704">
                <a:moveTo>
                  <a:pt x="12254" y="13816"/>
                </a:moveTo>
                <a:cubicBezTo>
                  <a:pt x="12278" y="13816"/>
                  <a:pt x="12287" y="13816"/>
                  <a:pt x="12303" y="13816"/>
                </a:cubicBezTo>
              </a:path>
              <a:path w="5310" h="2704">
                <a:moveTo>
                  <a:pt x="12948" y="13221"/>
                </a:moveTo>
                <a:cubicBezTo>
                  <a:pt x="13038" y="13221"/>
                  <a:pt x="13109" y="13220"/>
                  <a:pt x="13196" y="13246"/>
                </a:cubicBezTo>
                <a:cubicBezTo>
                  <a:pt x="13333" y="13287"/>
                  <a:pt x="13375" y="13329"/>
                  <a:pt x="13295" y="13469"/>
                </a:cubicBezTo>
                <a:cubicBezTo>
                  <a:pt x="13240" y="13566"/>
                  <a:pt x="13157" y="13648"/>
                  <a:pt x="13097" y="13742"/>
                </a:cubicBezTo>
                <a:cubicBezTo>
                  <a:pt x="13189" y="13816"/>
                  <a:pt x="13340" y="13793"/>
                  <a:pt x="13469" y="13767"/>
                </a:cubicBezTo>
                <a:cubicBezTo>
                  <a:pt x="13561" y="13744"/>
                  <a:pt x="13586" y="13738"/>
                  <a:pt x="13643" y="13717"/>
                </a:cubicBezTo>
              </a:path>
              <a:path w="5310" h="2704">
                <a:moveTo>
                  <a:pt x="14114" y="13246"/>
                </a:moveTo>
                <a:cubicBezTo>
                  <a:pt x="14257" y="13246"/>
                  <a:pt x="14393" y="13224"/>
                  <a:pt x="14536" y="13221"/>
                </a:cubicBezTo>
                <a:cubicBezTo>
                  <a:pt x="14618" y="13219"/>
                  <a:pt x="14744" y="13182"/>
                  <a:pt x="14660" y="13246"/>
                </a:cubicBezTo>
              </a:path>
              <a:path w="5310" h="2704">
                <a:moveTo>
                  <a:pt x="14064" y="13568"/>
                </a:moveTo>
                <a:cubicBezTo>
                  <a:pt x="14196" y="13640"/>
                  <a:pt x="14285" y="13643"/>
                  <a:pt x="14436" y="13643"/>
                </a:cubicBezTo>
                <a:cubicBezTo>
                  <a:pt x="14502" y="13643"/>
                  <a:pt x="14519" y="13643"/>
                  <a:pt x="14560" y="13643"/>
                </a:cubicBezTo>
              </a:path>
              <a:path w="5310" h="2704">
                <a:moveTo>
                  <a:pt x="15652" y="12799"/>
                </a:moveTo>
                <a:cubicBezTo>
                  <a:pt x="15796" y="12761"/>
                  <a:pt x="15972" y="12703"/>
                  <a:pt x="16123" y="12725"/>
                </a:cubicBezTo>
                <a:cubicBezTo>
                  <a:pt x="16163" y="12745"/>
                  <a:pt x="16170" y="12754"/>
                  <a:pt x="16197" y="12750"/>
                </a:cubicBezTo>
                <a:cubicBezTo>
                  <a:pt x="16171" y="12923"/>
                  <a:pt x="16079" y="12964"/>
                  <a:pt x="15974" y="13097"/>
                </a:cubicBezTo>
                <a:cubicBezTo>
                  <a:pt x="15966" y="13113"/>
                  <a:pt x="15957" y="13130"/>
                  <a:pt x="15949" y="13146"/>
                </a:cubicBezTo>
                <a:cubicBezTo>
                  <a:pt x="16031" y="13256"/>
                  <a:pt x="16109" y="13265"/>
                  <a:pt x="16247" y="13271"/>
                </a:cubicBezTo>
                <a:cubicBezTo>
                  <a:pt x="16289" y="13271"/>
                  <a:pt x="16305" y="13279"/>
                  <a:pt x="16297" y="13246"/>
                </a:cubicBezTo>
              </a:path>
              <a:path w="5310" h="2704">
                <a:moveTo>
                  <a:pt x="15354" y="13519"/>
                </a:moveTo>
                <a:cubicBezTo>
                  <a:pt x="15433" y="13576"/>
                  <a:pt x="15527" y="13566"/>
                  <a:pt x="15627" y="13568"/>
                </a:cubicBezTo>
                <a:cubicBezTo>
                  <a:pt x="15902" y="13573"/>
                  <a:pt x="16174" y="13575"/>
                  <a:pt x="16446" y="13593"/>
                </a:cubicBezTo>
                <a:cubicBezTo>
                  <a:pt x="16450" y="13593"/>
                  <a:pt x="16747" y="13618"/>
                  <a:pt x="16669" y="13618"/>
                </a:cubicBezTo>
              </a:path>
              <a:path w="5310" h="2704">
                <a:moveTo>
                  <a:pt x="15751" y="13816"/>
                </a:moveTo>
                <a:cubicBezTo>
                  <a:pt x="15701" y="13871"/>
                  <a:pt x="15644" y="13921"/>
                  <a:pt x="15627" y="13990"/>
                </a:cubicBezTo>
                <a:cubicBezTo>
                  <a:pt x="15775" y="13990"/>
                  <a:pt x="15931" y="13989"/>
                  <a:pt x="16073" y="14039"/>
                </a:cubicBezTo>
                <a:cubicBezTo>
                  <a:pt x="16148" y="14065"/>
                  <a:pt x="16270" y="14111"/>
                  <a:pt x="16247" y="14213"/>
                </a:cubicBezTo>
                <a:cubicBezTo>
                  <a:pt x="16226" y="14306"/>
                  <a:pt x="16147" y="14387"/>
                  <a:pt x="16049" y="14387"/>
                </a:cubicBezTo>
                <a:cubicBezTo>
                  <a:pt x="15921" y="14387"/>
                  <a:pt x="15852" y="14225"/>
                  <a:pt x="15776" y="14139"/>
                </a:cubicBezTo>
              </a:path>
              <a:path w="5310" h="2704">
                <a:moveTo>
                  <a:pt x="15776" y="13767"/>
                </a:moveTo>
                <a:cubicBezTo>
                  <a:pt x="15892" y="13715"/>
                  <a:pt x="15931" y="13731"/>
                  <a:pt x="16049" y="13742"/>
                </a:cubicBezTo>
                <a:cubicBezTo>
                  <a:pt x="16192" y="13756"/>
                  <a:pt x="16329" y="13724"/>
                  <a:pt x="16470" y="13717"/>
                </a:cubicBezTo>
                <a:cubicBezTo>
                  <a:pt x="16495" y="13717"/>
                  <a:pt x="16503" y="13717"/>
                  <a:pt x="16520" y="13717"/>
                </a:cubicBezTo>
              </a:path>
              <a:path w="5310" h="2704">
                <a:moveTo>
                  <a:pt x="17239" y="13246"/>
                </a:moveTo>
                <a:cubicBezTo>
                  <a:pt x="17330" y="13045"/>
                  <a:pt x="17337" y="12948"/>
                  <a:pt x="17214" y="12750"/>
                </a:cubicBezTo>
                <a:cubicBezTo>
                  <a:pt x="17103" y="12571"/>
                  <a:pt x="16955" y="12429"/>
                  <a:pt x="16743" y="12378"/>
                </a:cubicBezTo>
                <a:cubicBezTo>
                  <a:pt x="16408" y="12298"/>
                  <a:pt x="16107" y="12474"/>
                  <a:pt x="15875" y="12700"/>
                </a:cubicBezTo>
                <a:cubicBezTo>
                  <a:pt x="15560" y="13006"/>
                  <a:pt x="15367" y="13339"/>
                  <a:pt x="15205" y="13742"/>
                </a:cubicBezTo>
                <a:cubicBezTo>
                  <a:pt x="15111" y="13976"/>
                  <a:pt x="15052" y="14261"/>
                  <a:pt x="15131" y="14511"/>
                </a:cubicBezTo>
                <a:cubicBezTo>
                  <a:pt x="15187" y="14689"/>
                  <a:pt x="15316" y="14861"/>
                  <a:pt x="15453" y="14982"/>
                </a:cubicBezTo>
                <a:cubicBezTo>
                  <a:pt x="15626" y="15135"/>
                  <a:pt x="15967" y="14996"/>
                  <a:pt x="16148" y="14908"/>
                </a:cubicBezTo>
                <a:cubicBezTo>
                  <a:pt x="16475" y="14749"/>
                  <a:pt x="16643" y="14518"/>
                  <a:pt x="16818" y="14213"/>
                </a:cubicBezTo>
                <a:cubicBezTo>
                  <a:pt x="16988" y="13918"/>
                  <a:pt x="16973" y="13703"/>
                  <a:pt x="16917" y="13370"/>
                </a:cubicBezTo>
                <a:cubicBezTo>
                  <a:pt x="16892" y="13225"/>
                  <a:pt x="16846" y="12906"/>
                  <a:pt x="16718" y="12799"/>
                </a:cubicBezTo>
                <a:cubicBezTo>
                  <a:pt x="16683" y="12799"/>
                  <a:pt x="16666" y="12794"/>
                  <a:pt x="16644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a percentage to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1040" y="2160720"/>
            <a:ext cx="3008160" cy="1598400"/>
          </a:xfrm>
          <a:custGeom>
            <a:avLst/>
            <a:gdLst/>
            <a:ahLst/>
            <a:rect l="l" t="t" r="r" b="b"/>
            <a:pathLst>
              <a:path w="8360" h="4441">
                <a:moveTo>
                  <a:pt x="8409" y="6176"/>
                </a:moveTo>
                <a:cubicBezTo>
                  <a:pt x="8692" y="6176"/>
                  <a:pt x="8971" y="6163"/>
                  <a:pt x="9252" y="6152"/>
                </a:cubicBezTo>
                <a:cubicBezTo>
                  <a:pt x="9592" y="6139"/>
                  <a:pt x="9930" y="6072"/>
                  <a:pt x="10269" y="6028"/>
                </a:cubicBezTo>
                <a:cubicBezTo>
                  <a:pt x="10446" y="6005"/>
                  <a:pt x="10635" y="5984"/>
                  <a:pt x="10815" y="6003"/>
                </a:cubicBezTo>
                <a:cubicBezTo>
                  <a:pt x="10990" y="6021"/>
                  <a:pt x="11162" y="6049"/>
                  <a:pt x="11336" y="6077"/>
                </a:cubicBezTo>
                <a:cubicBezTo>
                  <a:pt x="11518" y="6106"/>
                  <a:pt x="11747" y="6163"/>
                  <a:pt x="11931" y="6152"/>
                </a:cubicBezTo>
                <a:cubicBezTo>
                  <a:pt x="11983" y="6149"/>
                  <a:pt x="12049" y="6131"/>
                  <a:pt x="12105" y="6127"/>
                </a:cubicBezTo>
              </a:path>
              <a:path w="8360" h="4441">
                <a:moveTo>
                  <a:pt x="4887" y="7590"/>
                </a:moveTo>
                <a:cubicBezTo>
                  <a:pt x="4826" y="7610"/>
                  <a:pt x="4878" y="7737"/>
                  <a:pt x="4887" y="7789"/>
                </a:cubicBezTo>
                <a:cubicBezTo>
                  <a:pt x="4905" y="7898"/>
                  <a:pt x="4911" y="7977"/>
                  <a:pt x="4911" y="8086"/>
                </a:cubicBezTo>
                <a:cubicBezTo>
                  <a:pt x="4925" y="7936"/>
                  <a:pt x="4941" y="7790"/>
                  <a:pt x="5035" y="7665"/>
                </a:cubicBezTo>
                <a:cubicBezTo>
                  <a:pt x="5107" y="7593"/>
                  <a:pt x="5102" y="7559"/>
                  <a:pt x="5159" y="7565"/>
                </a:cubicBezTo>
                <a:cubicBezTo>
                  <a:pt x="5219" y="7677"/>
                  <a:pt x="5248" y="7807"/>
                  <a:pt x="5308" y="7913"/>
                </a:cubicBezTo>
                <a:cubicBezTo>
                  <a:pt x="5340" y="7798"/>
                  <a:pt x="5387" y="7711"/>
                  <a:pt x="5482" y="7640"/>
                </a:cubicBezTo>
                <a:cubicBezTo>
                  <a:pt x="5614" y="7659"/>
                  <a:pt x="5650" y="7764"/>
                  <a:pt x="5680" y="7888"/>
                </a:cubicBezTo>
                <a:cubicBezTo>
                  <a:pt x="5688" y="7938"/>
                  <a:pt x="5697" y="7987"/>
                  <a:pt x="5705" y="8037"/>
                </a:cubicBezTo>
              </a:path>
              <a:path w="8360" h="4441">
                <a:moveTo>
                  <a:pt x="6226" y="7590"/>
                </a:moveTo>
                <a:cubicBezTo>
                  <a:pt x="6085" y="7660"/>
                  <a:pt x="5946" y="7863"/>
                  <a:pt x="6077" y="8037"/>
                </a:cubicBezTo>
                <a:cubicBezTo>
                  <a:pt x="6236" y="8247"/>
                  <a:pt x="6569" y="8164"/>
                  <a:pt x="6474" y="7863"/>
                </a:cubicBezTo>
                <a:cubicBezTo>
                  <a:pt x="6433" y="7805"/>
                  <a:pt x="6391" y="7747"/>
                  <a:pt x="6350" y="7689"/>
                </a:cubicBezTo>
              </a:path>
              <a:path w="8360" h="4441">
                <a:moveTo>
                  <a:pt x="6623" y="7615"/>
                </a:moveTo>
                <a:cubicBezTo>
                  <a:pt x="6679" y="7728"/>
                  <a:pt x="6778" y="7823"/>
                  <a:pt x="6871" y="7913"/>
                </a:cubicBezTo>
                <a:cubicBezTo>
                  <a:pt x="6896" y="7938"/>
                  <a:pt x="6920" y="7962"/>
                  <a:pt x="6945" y="7987"/>
                </a:cubicBezTo>
                <a:cubicBezTo>
                  <a:pt x="7013" y="7863"/>
                  <a:pt x="7074" y="7737"/>
                  <a:pt x="7144" y="7615"/>
                </a:cubicBezTo>
              </a:path>
              <a:path w="8360" h="4441">
                <a:moveTo>
                  <a:pt x="7367" y="7913"/>
                </a:moveTo>
                <a:cubicBezTo>
                  <a:pt x="7460" y="7959"/>
                  <a:pt x="7556" y="8002"/>
                  <a:pt x="7615" y="7863"/>
                </a:cubicBezTo>
                <a:cubicBezTo>
                  <a:pt x="7637" y="7755"/>
                  <a:pt x="7650" y="7729"/>
                  <a:pt x="7615" y="7665"/>
                </a:cubicBezTo>
                <a:cubicBezTo>
                  <a:pt x="7469" y="7642"/>
                  <a:pt x="7330" y="7666"/>
                  <a:pt x="7367" y="7863"/>
                </a:cubicBezTo>
                <a:cubicBezTo>
                  <a:pt x="7388" y="7973"/>
                  <a:pt x="7523" y="8177"/>
                  <a:pt x="7640" y="8210"/>
                </a:cubicBezTo>
                <a:cubicBezTo>
                  <a:pt x="7810" y="8257"/>
                  <a:pt x="7980" y="8147"/>
                  <a:pt x="8111" y="8062"/>
                </a:cubicBezTo>
              </a:path>
              <a:path w="8360" h="4441">
                <a:moveTo>
                  <a:pt x="9649" y="7640"/>
                </a:moveTo>
                <a:lnTo>
                  <a:pt x="9649" y="7640"/>
                </a:lnTo>
              </a:path>
              <a:path w="8360" h="4441">
                <a:moveTo>
                  <a:pt x="9649" y="7640"/>
                </a:moveTo>
                <a:cubicBezTo>
                  <a:pt x="9608" y="7581"/>
                  <a:pt x="9600" y="7589"/>
                  <a:pt x="9525" y="7565"/>
                </a:cubicBezTo>
                <a:cubicBezTo>
                  <a:pt x="9474" y="7549"/>
                  <a:pt x="9374" y="7508"/>
                  <a:pt x="9327" y="7565"/>
                </a:cubicBezTo>
                <a:cubicBezTo>
                  <a:pt x="9281" y="7620"/>
                  <a:pt x="9191" y="7758"/>
                  <a:pt x="9227" y="7838"/>
                </a:cubicBezTo>
                <a:cubicBezTo>
                  <a:pt x="9252" y="7863"/>
                  <a:pt x="9260" y="7871"/>
                  <a:pt x="9277" y="7888"/>
                </a:cubicBezTo>
                <a:cubicBezTo>
                  <a:pt x="9443" y="7874"/>
                  <a:pt x="9473" y="7813"/>
                  <a:pt x="9550" y="7665"/>
                </a:cubicBezTo>
                <a:cubicBezTo>
                  <a:pt x="9643" y="7488"/>
                  <a:pt x="9674" y="7316"/>
                  <a:pt x="9674" y="7119"/>
                </a:cubicBezTo>
                <a:cubicBezTo>
                  <a:pt x="9674" y="7111"/>
                  <a:pt x="9674" y="7102"/>
                  <a:pt x="9674" y="7094"/>
                </a:cubicBezTo>
                <a:cubicBezTo>
                  <a:pt x="9664" y="7192"/>
                  <a:pt x="9622" y="7294"/>
                  <a:pt x="9624" y="7392"/>
                </a:cubicBezTo>
                <a:cubicBezTo>
                  <a:pt x="9627" y="7549"/>
                  <a:pt x="9650" y="7737"/>
                  <a:pt x="9699" y="7888"/>
                </a:cubicBezTo>
                <a:cubicBezTo>
                  <a:pt x="9741" y="8015"/>
                  <a:pt x="9836" y="8031"/>
                  <a:pt x="9947" y="8012"/>
                </a:cubicBezTo>
                <a:cubicBezTo>
                  <a:pt x="10131" y="7980"/>
                  <a:pt x="10207" y="7841"/>
                  <a:pt x="10244" y="7665"/>
                </a:cubicBezTo>
                <a:cubicBezTo>
                  <a:pt x="10272" y="7530"/>
                  <a:pt x="10250" y="7512"/>
                  <a:pt x="10170" y="7466"/>
                </a:cubicBezTo>
                <a:cubicBezTo>
                  <a:pt x="10065" y="7492"/>
                  <a:pt x="10011" y="7593"/>
                  <a:pt x="10046" y="7714"/>
                </a:cubicBezTo>
                <a:cubicBezTo>
                  <a:pt x="10076" y="7816"/>
                  <a:pt x="10185" y="7913"/>
                  <a:pt x="10294" y="7913"/>
                </a:cubicBezTo>
                <a:cubicBezTo>
                  <a:pt x="10444" y="7913"/>
                  <a:pt x="10505" y="7826"/>
                  <a:pt x="10592" y="7714"/>
                </a:cubicBezTo>
                <a:cubicBezTo>
                  <a:pt x="10632" y="7662"/>
                  <a:pt x="10722" y="7466"/>
                  <a:pt x="10790" y="7441"/>
                </a:cubicBezTo>
                <a:cubicBezTo>
                  <a:pt x="10864" y="7441"/>
                  <a:pt x="10889" y="7441"/>
                  <a:pt x="10939" y="7441"/>
                </a:cubicBezTo>
                <a:cubicBezTo>
                  <a:pt x="10974" y="7516"/>
                  <a:pt x="10903" y="7428"/>
                  <a:pt x="10765" y="7466"/>
                </a:cubicBezTo>
                <a:cubicBezTo>
                  <a:pt x="10697" y="7485"/>
                  <a:pt x="10636" y="7574"/>
                  <a:pt x="10641" y="7640"/>
                </a:cubicBezTo>
                <a:cubicBezTo>
                  <a:pt x="10649" y="7735"/>
                  <a:pt x="10721" y="7823"/>
                  <a:pt x="10815" y="7838"/>
                </a:cubicBezTo>
                <a:cubicBezTo>
                  <a:pt x="10922" y="7855"/>
                  <a:pt x="11055" y="7806"/>
                  <a:pt x="11137" y="7739"/>
                </a:cubicBezTo>
                <a:cubicBezTo>
                  <a:pt x="11177" y="7707"/>
                  <a:pt x="11275" y="7497"/>
                  <a:pt x="11286" y="7491"/>
                </a:cubicBezTo>
                <a:cubicBezTo>
                  <a:pt x="11334" y="7467"/>
                  <a:pt x="11311" y="7643"/>
                  <a:pt x="11311" y="7665"/>
                </a:cubicBezTo>
                <a:cubicBezTo>
                  <a:pt x="11311" y="7681"/>
                  <a:pt x="11311" y="7698"/>
                  <a:pt x="11311" y="7714"/>
                </a:cubicBezTo>
              </a:path>
              <a:path w="8360" h="4441">
                <a:moveTo>
                  <a:pt x="11336" y="7169"/>
                </a:moveTo>
                <a:cubicBezTo>
                  <a:pt x="11336" y="7161"/>
                  <a:pt x="11336" y="7152"/>
                  <a:pt x="11336" y="7144"/>
                </a:cubicBezTo>
              </a:path>
              <a:path w="8360" h="4441">
                <a:moveTo>
                  <a:pt x="11584" y="7590"/>
                </a:moveTo>
                <a:cubicBezTo>
                  <a:pt x="11605" y="7674"/>
                  <a:pt x="11625" y="7753"/>
                  <a:pt x="11633" y="7838"/>
                </a:cubicBezTo>
                <a:cubicBezTo>
                  <a:pt x="11690" y="7763"/>
                  <a:pt x="11663" y="7650"/>
                  <a:pt x="11708" y="7565"/>
                </a:cubicBezTo>
                <a:cubicBezTo>
                  <a:pt x="11716" y="7565"/>
                  <a:pt x="11725" y="7565"/>
                  <a:pt x="11733" y="7565"/>
                </a:cubicBezTo>
                <a:cubicBezTo>
                  <a:pt x="11748" y="7577"/>
                  <a:pt x="11872" y="7718"/>
                  <a:pt x="11881" y="7714"/>
                </a:cubicBezTo>
                <a:cubicBezTo>
                  <a:pt x="11959" y="7679"/>
                  <a:pt x="12061" y="7468"/>
                  <a:pt x="12154" y="7565"/>
                </a:cubicBezTo>
                <a:cubicBezTo>
                  <a:pt x="12291" y="7708"/>
                  <a:pt x="12190" y="7844"/>
                  <a:pt x="12353" y="7764"/>
                </a:cubicBezTo>
              </a:path>
              <a:path w="8360" h="4441">
                <a:moveTo>
                  <a:pt x="12774" y="7491"/>
                </a:moveTo>
                <a:cubicBezTo>
                  <a:pt x="12756" y="7378"/>
                  <a:pt x="12613" y="7436"/>
                  <a:pt x="12576" y="7541"/>
                </a:cubicBezTo>
                <a:cubicBezTo>
                  <a:pt x="12576" y="7661"/>
                  <a:pt x="12574" y="7698"/>
                  <a:pt x="12626" y="7764"/>
                </a:cubicBezTo>
                <a:cubicBezTo>
                  <a:pt x="12717" y="7711"/>
                  <a:pt x="12743" y="7694"/>
                  <a:pt x="12774" y="7590"/>
                </a:cubicBezTo>
                <a:cubicBezTo>
                  <a:pt x="12754" y="7715"/>
                  <a:pt x="12732" y="7864"/>
                  <a:pt x="12849" y="7962"/>
                </a:cubicBezTo>
                <a:cubicBezTo>
                  <a:pt x="12993" y="8083"/>
                  <a:pt x="13150" y="7434"/>
                  <a:pt x="13171" y="7367"/>
                </a:cubicBezTo>
                <a:cubicBezTo>
                  <a:pt x="13218" y="7216"/>
                  <a:pt x="13275" y="7141"/>
                  <a:pt x="13146" y="7069"/>
                </a:cubicBezTo>
                <a:cubicBezTo>
                  <a:pt x="12989" y="7106"/>
                  <a:pt x="12947" y="7231"/>
                  <a:pt x="12998" y="7417"/>
                </a:cubicBezTo>
                <a:cubicBezTo>
                  <a:pt x="13046" y="7592"/>
                  <a:pt x="13173" y="7732"/>
                  <a:pt x="13196" y="7913"/>
                </a:cubicBezTo>
                <a:cubicBezTo>
                  <a:pt x="13196" y="7921"/>
                  <a:pt x="13196" y="7930"/>
                  <a:pt x="13196" y="7938"/>
                </a:cubicBezTo>
              </a:path>
              <a:path w="8360" h="4441">
                <a:moveTo>
                  <a:pt x="8657" y="9823"/>
                </a:moveTo>
                <a:cubicBezTo>
                  <a:pt x="8749" y="9841"/>
                  <a:pt x="8829" y="9858"/>
                  <a:pt x="8930" y="9847"/>
                </a:cubicBezTo>
                <a:cubicBezTo>
                  <a:pt x="9007" y="9838"/>
                  <a:pt x="9181" y="9813"/>
                  <a:pt x="9227" y="9748"/>
                </a:cubicBezTo>
                <a:cubicBezTo>
                  <a:pt x="9227" y="9740"/>
                  <a:pt x="9227" y="9731"/>
                  <a:pt x="9227" y="9723"/>
                </a:cubicBezTo>
                <a:cubicBezTo>
                  <a:pt x="9189" y="9857"/>
                  <a:pt x="9097" y="9973"/>
                  <a:pt x="9029" y="10096"/>
                </a:cubicBezTo>
                <a:cubicBezTo>
                  <a:pt x="9014" y="10123"/>
                  <a:pt x="8917" y="10397"/>
                  <a:pt x="8954" y="10244"/>
                </a:cubicBezTo>
              </a:path>
              <a:path w="8360" h="4441">
                <a:moveTo>
                  <a:pt x="9525" y="9748"/>
                </a:moveTo>
                <a:cubicBezTo>
                  <a:pt x="9506" y="9822"/>
                  <a:pt x="9498" y="9829"/>
                  <a:pt x="9500" y="9872"/>
                </a:cubicBezTo>
                <a:cubicBezTo>
                  <a:pt x="9590" y="9908"/>
                  <a:pt x="9684" y="9929"/>
                  <a:pt x="9773" y="9971"/>
                </a:cubicBezTo>
                <a:cubicBezTo>
                  <a:pt x="9817" y="9993"/>
                  <a:pt x="9828" y="9996"/>
                  <a:pt x="9847" y="10021"/>
                </a:cubicBezTo>
                <a:cubicBezTo>
                  <a:pt x="9804" y="10061"/>
                  <a:pt x="9629" y="10243"/>
                  <a:pt x="9550" y="10170"/>
                </a:cubicBezTo>
                <a:cubicBezTo>
                  <a:pt x="9542" y="10145"/>
                  <a:pt x="9533" y="10121"/>
                  <a:pt x="9525" y="10096"/>
                </a:cubicBezTo>
              </a:path>
              <a:path w="8360" h="4441">
                <a:moveTo>
                  <a:pt x="9327" y="9624"/>
                </a:moveTo>
                <a:cubicBezTo>
                  <a:pt x="9428" y="9590"/>
                  <a:pt x="9498" y="9593"/>
                  <a:pt x="9599" y="9599"/>
                </a:cubicBezTo>
                <a:cubicBezTo>
                  <a:pt x="9682" y="9604"/>
                  <a:pt x="9744" y="9575"/>
                  <a:pt x="9823" y="9575"/>
                </a:cubicBezTo>
                <a:cubicBezTo>
                  <a:pt x="9856" y="9575"/>
                  <a:pt x="9889" y="9575"/>
                  <a:pt x="9922" y="9575"/>
                </a:cubicBezTo>
              </a:path>
              <a:path w="8360" h="4441">
                <a:moveTo>
                  <a:pt x="8483" y="10418"/>
                </a:moveTo>
                <a:cubicBezTo>
                  <a:pt x="8442" y="10418"/>
                  <a:pt x="8450" y="10418"/>
                  <a:pt x="8409" y="10418"/>
                </a:cubicBezTo>
                <a:cubicBezTo>
                  <a:pt x="8301" y="10418"/>
                  <a:pt x="8425" y="10491"/>
                  <a:pt x="8409" y="10393"/>
                </a:cubicBezTo>
                <a:cubicBezTo>
                  <a:pt x="8401" y="10393"/>
                  <a:pt x="8392" y="10393"/>
                  <a:pt x="8384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05240" y="2633760"/>
            <a:ext cx="1465560" cy="314280"/>
          </a:xfrm>
          <a:custGeom>
            <a:avLst/>
            <a:gdLst/>
            <a:ahLst/>
            <a:rect l="l" t="t" r="r" b="b"/>
            <a:pathLst>
              <a:path w="4069" h="870">
                <a:moveTo>
                  <a:pt x="14461" y="7392"/>
                </a:moveTo>
                <a:cubicBezTo>
                  <a:pt x="14608" y="7350"/>
                  <a:pt x="14757" y="7295"/>
                  <a:pt x="14908" y="7342"/>
                </a:cubicBezTo>
                <a:cubicBezTo>
                  <a:pt x="14916" y="7350"/>
                  <a:pt x="14924" y="7359"/>
                  <a:pt x="14932" y="7367"/>
                </a:cubicBezTo>
                <a:cubicBezTo>
                  <a:pt x="14874" y="7552"/>
                  <a:pt x="14756" y="7710"/>
                  <a:pt x="14709" y="7888"/>
                </a:cubicBezTo>
                <a:cubicBezTo>
                  <a:pt x="14891" y="7986"/>
                  <a:pt x="15031" y="7967"/>
                  <a:pt x="15230" y="7913"/>
                </a:cubicBezTo>
              </a:path>
              <a:path w="4069" h="870">
                <a:moveTo>
                  <a:pt x="16197" y="7714"/>
                </a:moveTo>
                <a:cubicBezTo>
                  <a:pt x="16077" y="7722"/>
                  <a:pt x="16029" y="7732"/>
                  <a:pt x="15925" y="7789"/>
                </a:cubicBezTo>
                <a:cubicBezTo>
                  <a:pt x="15997" y="7843"/>
                  <a:pt x="16291" y="7920"/>
                  <a:pt x="16321" y="7987"/>
                </a:cubicBezTo>
                <a:cubicBezTo>
                  <a:pt x="16263" y="8047"/>
                  <a:pt x="16234" y="8069"/>
                  <a:pt x="16173" y="8086"/>
                </a:cubicBezTo>
              </a:path>
              <a:path w="4069" h="870">
                <a:moveTo>
                  <a:pt x="16421" y="7962"/>
                </a:moveTo>
                <a:cubicBezTo>
                  <a:pt x="16443" y="8011"/>
                  <a:pt x="16554" y="8191"/>
                  <a:pt x="16495" y="8161"/>
                </a:cubicBezTo>
                <a:cubicBezTo>
                  <a:pt x="16488" y="8076"/>
                  <a:pt x="16413" y="7867"/>
                  <a:pt x="16545" y="7838"/>
                </a:cubicBezTo>
                <a:cubicBezTo>
                  <a:pt x="16599" y="7826"/>
                  <a:pt x="16865" y="7896"/>
                  <a:pt x="16694" y="7962"/>
                </a:cubicBezTo>
                <a:cubicBezTo>
                  <a:pt x="16578" y="7985"/>
                  <a:pt x="16544" y="7996"/>
                  <a:pt x="16470" y="7962"/>
                </a:cubicBezTo>
              </a:path>
              <a:path w="4069" h="870">
                <a:moveTo>
                  <a:pt x="17115" y="7863"/>
                </a:moveTo>
                <a:cubicBezTo>
                  <a:pt x="17067" y="7863"/>
                  <a:pt x="16957" y="7865"/>
                  <a:pt x="17016" y="7962"/>
                </a:cubicBezTo>
                <a:cubicBezTo>
                  <a:pt x="17064" y="8042"/>
                  <a:pt x="17155" y="7940"/>
                  <a:pt x="17190" y="7913"/>
                </a:cubicBezTo>
                <a:cubicBezTo>
                  <a:pt x="17258" y="7981"/>
                  <a:pt x="17274" y="8003"/>
                  <a:pt x="17338" y="8012"/>
                </a:cubicBezTo>
              </a:path>
              <a:path w="4069" h="870">
                <a:moveTo>
                  <a:pt x="17537" y="7838"/>
                </a:moveTo>
                <a:cubicBezTo>
                  <a:pt x="17513" y="7765"/>
                  <a:pt x="17475" y="7867"/>
                  <a:pt x="17487" y="7913"/>
                </a:cubicBezTo>
                <a:cubicBezTo>
                  <a:pt x="17521" y="8041"/>
                  <a:pt x="17720" y="7982"/>
                  <a:pt x="17785" y="7938"/>
                </a:cubicBezTo>
                <a:cubicBezTo>
                  <a:pt x="17853" y="7892"/>
                  <a:pt x="17884" y="7840"/>
                  <a:pt x="17884" y="7764"/>
                </a:cubicBezTo>
                <a:cubicBezTo>
                  <a:pt x="17810" y="7801"/>
                  <a:pt x="17810" y="7839"/>
                  <a:pt x="17859" y="7888"/>
                </a:cubicBezTo>
                <a:cubicBezTo>
                  <a:pt x="17898" y="7927"/>
                  <a:pt x="17925" y="7956"/>
                  <a:pt x="17983" y="7962"/>
                </a:cubicBezTo>
                <a:cubicBezTo>
                  <a:pt x="18076" y="7971"/>
                  <a:pt x="18093" y="7948"/>
                  <a:pt x="18182" y="7913"/>
                </a:cubicBezTo>
              </a:path>
              <a:path w="4069" h="870">
                <a:moveTo>
                  <a:pt x="18405" y="7739"/>
                </a:moveTo>
                <a:cubicBezTo>
                  <a:pt x="18340" y="7739"/>
                  <a:pt x="18286" y="7740"/>
                  <a:pt x="18231" y="7764"/>
                </a:cubicBezTo>
                <a:cubicBezTo>
                  <a:pt x="18291" y="7839"/>
                  <a:pt x="18426" y="7860"/>
                  <a:pt x="18504" y="7938"/>
                </a:cubicBezTo>
                <a:cubicBezTo>
                  <a:pt x="18562" y="7996"/>
                  <a:pt x="18432" y="7988"/>
                  <a:pt x="18355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70840" y="2625840"/>
            <a:ext cx="581040" cy="34740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19943" y="7441"/>
                </a:moveTo>
                <a:cubicBezTo>
                  <a:pt x="20023" y="7312"/>
                  <a:pt x="19919" y="7652"/>
                  <a:pt x="19918" y="7665"/>
                </a:cubicBezTo>
                <a:cubicBezTo>
                  <a:pt x="19910" y="7772"/>
                  <a:pt x="19897" y="8045"/>
                  <a:pt x="20067" y="8062"/>
                </a:cubicBezTo>
                <a:cubicBezTo>
                  <a:pt x="20242" y="8079"/>
                  <a:pt x="20336" y="7895"/>
                  <a:pt x="20389" y="7764"/>
                </a:cubicBezTo>
                <a:cubicBezTo>
                  <a:pt x="20389" y="7756"/>
                  <a:pt x="20389" y="7747"/>
                  <a:pt x="20389" y="7739"/>
                </a:cubicBezTo>
                <a:cubicBezTo>
                  <a:pt x="20322" y="7747"/>
                  <a:pt x="20202" y="7772"/>
                  <a:pt x="20191" y="7863"/>
                </a:cubicBezTo>
                <a:cubicBezTo>
                  <a:pt x="20178" y="7973"/>
                  <a:pt x="20281" y="8075"/>
                  <a:pt x="20365" y="8111"/>
                </a:cubicBezTo>
                <a:cubicBezTo>
                  <a:pt x="20466" y="8154"/>
                  <a:pt x="20536" y="8130"/>
                  <a:pt x="20638" y="8111"/>
                </a:cubicBezTo>
              </a:path>
              <a:path w="1613" h="968">
                <a:moveTo>
                  <a:pt x="21158" y="7516"/>
                </a:moveTo>
                <a:cubicBezTo>
                  <a:pt x="21104" y="7414"/>
                  <a:pt x="21072" y="7361"/>
                  <a:pt x="20985" y="7293"/>
                </a:cubicBezTo>
                <a:cubicBezTo>
                  <a:pt x="20942" y="7460"/>
                  <a:pt x="20935" y="7586"/>
                  <a:pt x="20935" y="7764"/>
                </a:cubicBezTo>
                <a:cubicBezTo>
                  <a:pt x="20935" y="7913"/>
                  <a:pt x="20935" y="7946"/>
                  <a:pt x="20935" y="8037"/>
                </a:cubicBezTo>
              </a:path>
              <a:path w="1613" h="968">
                <a:moveTo>
                  <a:pt x="20638" y="7888"/>
                </a:moveTo>
                <a:cubicBezTo>
                  <a:pt x="20778" y="7916"/>
                  <a:pt x="20835" y="7927"/>
                  <a:pt x="20935" y="7938"/>
                </a:cubicBezTo>
              </a:path>
              <a:path w="1613" h="968">
                <a:moveTo>
                  <a:pt x="20985" y="8012"/>
                </a:moveTo>
                <a:cubicBezTo>
                  <a:pt x="21168" y="8003"/>
                  <a:pt x="21349" y="7988"/>
                  <a:pt x="21530" y="7962"/>
                </a:cubicBezTo>
              </a:path>
              <a:path w="1613" h="968">
                <a:moveTo>
                  <a:pt x="21158" y="7739"/>
                </a:moveTo>
                <a:cubicBezTo>
                  <a:pt x="21142" y="7805"/>
                  <a:pt x="21134" y="7860"/>
                  <a:pt x="21134" y="7938"/>
                </a:cubicBezTo>
                <a:cubicBezTo>
                  <a:pt x="21134" y="8029"/>
                  <a:pt x="21111" y="8156"/>
                  <a:pt x="21158" y="8235"/>
                </a:cubicBezTo>
                <a:cubicBezTo>
                  <a:pt x="21166" y="8243"/>
                  <a:pt x="21175" y="8252"/>
                  <a:pt x="21183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97360" y="2241720"/>
            <a:ext cx="1054440" cy="71280"/>
          </a:xfrm>
          <a:custGeom>
            <a:avLst/>
            <a:gdLst/>
            <a:ahLst/>
            <a:rect l="l" t="t" r="r" b="b"/>
            <a:pathLst>
              <a:path w="2928" h="199">
                <a:moveTo>
                  <a:pt x="15825" y="6226"/>
                </a:moveTo>
                <a:cubicBezTo>
                  <a:pt x="16016" y="6239"/>
                  <a:pt x="16206" y="6254"/>
                  <a:pt x="16396" y="6276"/>
                </a:cubicBezTo>
                <a:cubicBezTo>
                  <a:pt x="16626" y="6303"/>
                  <a:pt x="16859" y="6362"/>
                  <a:pt x="17090" y="6375"/>
                </a:cubicBezTo>
                <a:cubicBezTo>
                  <a:pt x="17330" y="6388"/>
                  <a:pt x="17547" y="6387"/>
                  <a:pt x="17785" y="6375"/>
                </a:cubicBezTo>
                <a:cubicBezTo>
                  <a:pt x="17995" y="6365"/>
                  <a:pt x="18199" y="6385"/>
                  <a:pt x="18405" y="6400"/>
                </a:cubicBezTo>
                <a:cubicBezTo>
                  <a:pt x="18524" y="6409"/>
                  <a:pt x="18635" y="6407"/>
                  <a:pt x="18752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3160" y="3652920"/>
            <a:ext cx="974880" cy="392040"/>
          </a:xfrm>
          <a:custGeom>
            <a:avLst/>
            <a:gdLst/>
            <a:ahLst/>
            <a:rect l="l" t="t" r="r" b="b"/>
            <a:pathLst>
              <a:path w="2705" h="1093">
                <a:moveTo>
                  <a:pt x="3721" y="10145"/>
                </a:moveTo>
                <a:cubicBezTo>
                  <a:pt x="3780" y="10198"/>
                  <a:pt x="3883" y="10298"/>
                  <a:pt x="3969" y="10344"/>
                </a:cubicBezTo>
                <a:cubicBezTo>
                  <a:pt x="4190" y="10461"/>
                  <a:pt x="4384" y="10595"/>
                  <a:pt x="4589" y="10740"/>
                </a:cubicBezTo>
                <a:cubicBezTo>
                  <a:pt x="4648" y="10782"/>
                  <a:pt x="4719" y="10854"/>
                  <a:pt x="4787" y="10864"/>
                </a:cubicBezTo>
                <a:cubicBezTo>
                  <a:pt x="4840" y="10872"/>
                  <a:pt x="4936" y="10942"/>
                  <a:pt x="4936" y="10889"/>
                </a:cubicBezTo>
                <a:cubicBezTo>
                  <a:pt x="4928" y="10864"/>
                  <a:pt x="4919" y="10840"/>
                  <a:pt x="4911" y="10815"/>
                </a:cubicBezTo>
              </a:path>
              <a:path w="2705" h="1093">
                <a:moveTo>
                  <a:pt x="3497" y="10815"/>
                </a:moveTo>
                <a:cubicBezTo>
                  <a:pt x="3479" y="10839"/>
                  <a:pt x="3481" y="10816"/>
                  <a:pt x="3473" y="10864"/>
                </a:cubicBezTo>
                <a:cubicBezTo>
                  <a:pt x="3493" y="10848"/>
                  <a:pt x="3525" y="10849"/>
                  <a:pt x="3547" y="10815"/>
                </a:cubicBezTo>
                <a:cubicBezTo>
                  <a:pt x="3563" y="10790"/>
                  <a:pt x="3613" y="10703"/>
                  <a:pt x="3597" y="10740"/>
                </a:cubicBezTo>
                <a:cubicBezTo>
                  <a:pt x="3572" y="10795"/>
                  <a:pt x="3570" y="10812"/>
                  <a:pt x="3522" y="10864"/>
                </a:cubicBezTo>
                <a:cubicBezTo>
                  <a:pt x="3444" y="10948"/>
                  <a:pt x="3286" y="10997"/>
                  <a:pt x="3175" y="10988"/>
                </a:cubicBezTo>
                <a:cubicBezTo>
                  <a:pt x="3096" y="10981"/>
                  <a:pt x="3013" y="10964"/>
                  <a:pt x="2927" y="10964"/>
                </a:cubicBezTo>
                <a:cubicBezTo>
                  <a:pt x="2879" y="10964"/>
                  <a:pt x="2866" y="10953"/>
                  <a:pt x="2828" y="10939"/>
                </a:cubicBezTo>
                <a:cubicBezTo>
                  <a:pt x="2859" y="11021"/>
                  <a:pt x="2863" y="11078"/>
                  <a:pt x="2828" y="11162"/>
                </a:cubicBezTo>
                <a:cubicBezTo>
                  <a:pt x="2807" y="11211"/>
                  <a:pt x="2763" y="11255"/>
                  <a:pt x="2704" y="11237"/>
                </a:cubicBezTo>
                <a:cubicBezTo>
                  <a:pt x="2654" y="11222"/>
                  <a:pt x="2544" y="11145"/>
                  <a:pt x="2505" y="11112"/>
                </a:cubicBezTo>
                <a:cubicBezTo>
                  <a:pt x="2417" y="11038"/>
                  <a:pt x="2342" y="10961"/>
                  <a:pt x="2307" y="10864"/>
                </a:cubicBezTo>
                <a:cubicBezTo>
                  <a:pt x="2265" y="10746"/>
                  <a:pt x="2236" y="10789"/>
                  <a:pt x="2257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6160" y="4911840"/>
            <a:ext cx="598680" cy="241200"/>
          </a:xfrm>
          <a:custGeom>
            <a:avLst/>
            <a:gdLst/>
            <a:ahLst/>
            <a:rect l="l" t="t" r="r" b="b"/>
            <a:pathLst>
              <a:path w="1663" h="670">
                <a:moveTo>
                  <a:pt x="3770" y="13816"/>
                </a:moveTo>
                <a:cubicBezTo>
                  <a:pt x="3730" y="13816"/>
                  <a:pt x="3690" y="13822"/>
                  <a:pt x="3671" y="13866"/>
                </a:cubicBezTo>
                <a:cubicBezTo>
                  <a:pt x="3652" y="13909"/>
                  <a:pt x="3698" y="13929"/>
                  <a:pt x="3721" y="13940"/>
                </a:cubicBezTo>
                <a:cubicBezTo>
                  <a:pt x="3721" y="13870"/>
                  <a:pt x="3717" y="13905"/>
                  <a:pt x="3696" y="13915"/>
                </a:cubicBezTo>
                <a:cubicBezTo>
                  <a:pt x="3668" y="13915"/>
                  <a:pt x="3662" y="13917"/>
                  <a:pt x="3696" y="13940"/>
                </a:cubicBezTo>
                <a:cubicBezTo>
                  <a:pt x="3696" y="13929"/>
                  <a:pt x="3696" y="13824"/>
                  <a:pt x="3696" y="13891"/>
                </a:cubicBezTo>
              </a:path>
              <a:path w="1663" h="670">
                <a:moveTo>
                  <a:pt x="3820" y="14015"/>
                </a:moveTo>
                <a:cubicBezTo>
                  <a:pt x="3749" y="14071"/>
                  <a:pt x="3685" y="14108"/>
                  <a:pt x="3597" y="14139"/>
                </a:cubicBezTo>
                <a:cubicBezTo>
                  <a:pt x="3531" y="14162"/>
                  <a:pt x="3470" y="14153"/>
                  <a:pt x="3398" y="14139"/>
                </a:cubicBezTo>
                <a:cubicBezTo>
                  <a:pt x="3298" y="14120"/>
                  <a:pt x="3191" y="14062"/>
                  <a:pt x="3101" y="14039"/>
                </a:cubicBezTo>
                <a:cubicBezTo>
                  <a:pt x="3007" y="14015"/>
                  <a:pt x="3043" y="14006"/>
                  <a:pt x="3001" y="13915"/>
                </a:cubicBezTo>
                <a:cubicBezTo>
                  <a:pt x="2993" y="13907"/>
                  <a:pt x="2985" y="13899"/>
                  <a:pt x="2977" y="13891"/>
                </a:cubicBezTo>
                <a:cubicBezTo>
                  <a:pt x="2959" y="13988"/>
                  <a:pt x="2962" y="14063"/>
                  <a:pt x="2902" y="14139"/>
                </a:cubicBezTo>
                <a:cubicBezTo>
                  <a:pt x="2836" y="14222"/>
                  <a:pt x="2657" y="14255"/>
                  <a:pt x="2555" y="14288"/>
                </a:cubicBezTo>
                <a:cubicBezTo>
                  <a:pt x="2515" y="14301"/>
                  <a:pt x="2424" y="14325"/>
                  <a:pt x="2381" y="14288"/>
                </a:cubicBezTo>
                <a:cubicBezTo>
                  <a:pt x="2311" y="14229"/>
                  <a:pt x="2263" y="14141"/>
                  <a:pt x="2208" y="14064"/>
                </a:cubicBezTo>
                <a:cubicBezTo>
                  <a:pt x="2148" y="13980"/>
                  <a:pt x="2158" y="13891"/>
                  <a:pt x="2158" y="13791"/>
                </a:cubicBezTo>
                <a:cubicBezTo>
                  <a:pt x="2158" y="13712"/>
                  <a:pt x="2161" y="13683"/>
                  <a:pt x="2208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4160" y="4822920"/>
            <a:ext cx="866880" cy="357120"/>
          </a:xfrm>
          <a:custGeom>
            <a:avLst/>
            <a:gdLst/>
            <a:ahLst/>
            <a:rect l="l" t="t" r="r" b="b"/>
            <a:pathLst>
              <a:path w="2408" h="993">
                <a:moveTo>
                  <a:pt x="8979" y="14064"/>
                </a:moveTo>
                <a:cubicBezTo>
                  <a:pt x="8979" y="14015"/>
                  <a:pt x="9031" y="14095"/>
                  <a:pt x="9029" y="14089"/>
                </a:cubicBezTo>
                <a:cubicBezTo>
                  <a:pt x="9004" y="14064"/>
                  <a:pt x="8996" y="14056"/>
                  <a:pt x="8979" y="14089"/>
                </a:cubicBezTo>
                <a:cubicBezTo>
                  <a:pt x="8937" y="14089"/>
                  <a:pt x="9095" y="14123"/>
                  <a:pt x="9103" y="14039"/>
                </a:cubicBezTo>
                <a:cubicBezTo>
                  <a:pt x="9105" y="14022"/>
                  <a:pt x="8887" y="14008"/>
                  <a:pt x="9079" y="14039"/>
                </a:cubicBezTo>
              </a:path>
              <a:path w="2408" h="993">
                <a:moveTo>
                  <a:pt x="9624" y="13395"/>
                </a:moveTo>
                <a:cubicBezTo>
                  <a:pt x="9548" y="13395"/>
                  <a:pt x="9546" y="13447"/>
                  <a:pt x="9525" y="13519"/>
                </a:cubicBezTo>
                <a:cubicBezTo>
                  <a:pt x="9514" y="13558"/>
                  <a:pt x="9462" y="13753"/>
                  <a:pt x="9500" y="13791"/>
                </a:cubicBezTo>
                <a:cubicBezTo>
                  <a:pt x="9552" y="13842"/>
                  <a:pt x="9681" y="13859"/>
                  <a:pt x="9748" y="13841"/>
                </a:cubicBezTo>
                <a:cubicBezTo>
                  <a:pt x="9824" y="13821"/>
                  <a:pt x="9882" y="13798"/>
                  <a:pt x="9947" y="13767"/>
                </a:cubicBezTo>
                <a:cubicBezTo>
                  <a:pt x="9963" y="13759"/>
                  <a:pt x="9980" y="13750"/>
                  <a:pt x="9996" y="13742"/>
                </a:cubicBezTo>
              </a:path>
              <a:path w="2408" h="993">
                <a:moveTo>
                  <a:pt x="10096" y="13395"/>
                </a:moveTo>
                <a:cubicBezTo>
                  <a:pt x="10031" y="13459"/>
                  <a:pt x="10016" y="13634"/>
                  <a:pt x="9996" y="13742"/>
                </a:cubicBezTo>
                <a:cubicBezTo>
                  <a:pt x="9968" y="13897"/>
                  <a:pt x="9943" y="14056"/>
                  <a:pt x="9922" y="14213"/>
                </a:cubicBezTo>
                <a:cubicBezTo>
                  <a:pt x="9918" y="14243"/>
                  <a:pt x="9922" y="14281"/>
                  <a:pt x="9922" y="14312"/>
                </a:cubicBezTo>
              </a:path>
              <a:path w="2408" h="993">
                <a:moveTo>
                  <a:pt x="10468" y="13643"/>
                </a:moveTo>
                <a:cubicBezTo>
                  <a:pt x="10490" y="13733"/>
                  <a:pt x="10486" y="13710"/>
                  <a:pt x="10592" y="13692"/>
                </a:cubicBezTo>
              </a:path>
              <a:path w="2408" h="993">
                <a:moveTo>
                  <a:pt x="11237" y="13444"/>
                </a:moveTo>
                <a:cubicBezTo>
                  <a:pt x="11132" y="13421"/>
                  <a:pt x="11059" y="13454"/>
                  <a:pt x="10964" y="13519"/>
                </a:cubicBezTo>
                <a:cubicBezTo>
                  <a:pt x="10812" y="13623"/>
                  <a:pt x="10697" y="13741"/>
                  <a:pt x="10641" y="13915"/>
                </a:cubicBezTo>
                <a:cubicBezTo>
                  <a:pt x="10602" y="14036"/>
                  <a:pt x="10637" y="14144"/>
                  <a:pt x="10716" y="14238"/>
                </a:cubicBezTo>
                <a:cubicBezTo>
                  <a:pt x="10781" y="14316"/>
                  <a:pt x="10905" y="14416"/>
                  <a:pt x="11013" y="14387"/>
                </a:cubicBezTo>
                <a:cubicBezTo>
                  <a:pt x="11172" y="14344"/>
                  <a:pt x="11289" y="14074"/>
                  <a:pt x="11336" y="13940"/>
                </a:cubicBezTo>
                <a:cubicBezTo>
                  <a:pt x="11401" y="13754"/>
                  <a:pt x="11310" y="13682"/>
                  <a:pt x="11187" y="13568"/>
                </a:cubicBezTo>
                <a:cubicBezTo>
                  <a:pt x="11095" y="13483"/>
                  <a:pt x="11041" y="13423"/>
                  <a:pt x="10914" y="13419"/>
                </a:cubicBezTo>
                <a:cubicBezTo>
                  <a:pt x="10848" y="13417"/>
                  <a:pt x="10776" y="13424"/>
                  <a:pt x="10716" y="13444"/>
                </a:cubicBezTo>
                <a:cubicBezTo>
                  <a:pt x="10672" y="13466"/>
                  <a:pt x="10660" y="13469"/>
                  <a:pt x="10641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11920" y="4116240"/>
            <a:ext cx="44280" cy="223920"/>
          </a:xfrm>
          <a:custGeom>
            <a:avLst/>
            <a:gdLst/>
            <a:ahLst/>
            <a:rect l="l" t="t" r="r" b="b"/>
            <a:pathLst>
              <a:path w="125" h="621">
                <a:moveTo>
                  <a:pt x="16421" y="11460"/>
                </a:moveTo>
                <a:cubicBezTo>
                  <a:pt x="16478" y="11441"/>
                  <a:pt x="16504" y="11652"/>
                  <a:pt x="16520" y="11733"/>
                </a:cubicBezTo>
                <a:cubicBezTo>
                  <a:pt x="16542" y="11846"/>
                  <a:pt x="16545" y="11942"/>
                  <a:pt x="1654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43760" y="4089240"/>
            <a:ext cx="652320" cy="268560"/>
          </a:xfrm>
          <a:custGeom>
            <a:avLst/>
            <a:gdLst/>
            <a:ahLst/>
            <a:rect l="l" t="t" r="r" b="b"/>
            <a:pathLst>
              <a:path w="1811" h="745">
                <a:moveTo>
                  <a:pt x="17214" y="11361"/>
                </a:moveTo>
                <a:cubicBezTo>
                  <a:pt x="17161" y="11495"/>
                  <a:pt x="17129" y="11642"/>
                  <a:pt x="17090" y="11782"/>
                </a:cubicBezTo>
                <a:cubicBezTo>
                  <a:pt x="17059" y="11892"/>
                  <a:pt x="17037" y="12020"/>
                  <a:pt x="17165" y="12080"/>
                </a:cubicBezTo>
                <a:cubicBezTo>
                  <a:pt x="17313" y="12149"/>
                  <a:pt x="17363" y="12092"/>
                  <a:pt x="17413" y="11956"/>
                </a:cubicBezTo>
                <a:cubicBezTo>
                  <a:pt x="17413" y="11948"/>
                  <a:pt x="17413" y="11939"/>
                  <a:pt x="17413" y="11931"/>
                </a:cubicBezTo>
                <a:cubicBezTo>
                  <a:pt x="17356" y="11917"/>
                  <a:pt x="17298" y="11901"/>
                  <a:pt x="17289" y="11981"/>
                </a:cubicBezTo>
                <a:cubicBezTo>
                  <a:pt x="17289" y="12013"/>
                  <a:pt x="17297" y="12021"/>
                  <a:pt x="17338" y="12005"/>
                </a:cubicBezTo>
              </a:path>
              <a:path w="1811" h="745">
                <a:moveTo>
                  <a:pt x="17686" y="11981"/>
                </a:moveTo>
                <a:cubicBezTo>
                  <a:pt x="17744" y="11981"/>
                  <a:pt x="17750" y="11994"/>
                  <a:pt x="17785" y="12005"/>
                </a:cubicBezTo>
              </a:path>
              <a:path w="1811" h="745">
                <a:moveTo>
                  <a:pt x="18256" y="11485"/>
                </a:moveTo>
                <a:cubicBezTo>
                  <a:pt x="18245" y="11513"/>
                  <a:pt x="18200" y="11628"/>
                  <a:pt x="18231" y="11658"/>
                </a:cubicBezTo>
                <a:cubicBezTo>
                  <a:pt x="18294" y="11721"/>
                  <a:pt x="18470" y="11695"/>
                  <a:pt x="18554" y="11733"/>
                </a:cubicBezTo>
                <a:cubicBezTo>
                  <a:pt x="18645" y="11774"/>
                  <a:pt x="18659" y="11831"/>
                  <a:pt x="18653" y="11906"/>
                </a:cubicBezTo>
                <a:cubicBezTo>
                  <a:pt x="18647" y="11979"/>
                  <a:pt x="18485" y="11995"/>
                  <a:pt x="18430" y="11981"/>
                </a:cubicBezTo>
                <a:cubicBezTo>
                  <a:pt x="18397" y="11964"/>
                  <a:pt x="18364" y="11948"/>
                  <a:pt x="18331" y="11931"/>
                </a:cubicBezTo>
              </a:path>
              <a:path w="1811" h="745">
                <a:moveTo>
                  <a:pt x="18331" y="11460"/>
                </a:moveTo>
                <a:cubicBezTo>
                  <a:pt x="18513" y="11460"/>
                  <a:pt x="18694" y="11460"/>
                  <a:pt x="18876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1200" y="4106880"/>
            <a:ext cx="304920" cy="25092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19596" y="11410"/>
                </a:moveTo>
                <a:cubicBezTo>
                  <a:pt x="19567" y="11423"/>
                  <a:pt x="19419" y="11461"/>
                  <a:pt x="19422" y="11509"/>
                </a:cubicBezTo>
                <a:cubicBezTo>
                  <a:pt x="19427" y="11607"/>
                  <a:pt x="19533" y="11672"/>
                  <a:pt x="19621" y="11683"/>
                </a:cubicBezTo>
                <a:cubicBezTo>
                  <a:pt x="19739" y="11698"/>
                  <a:pt x="19797" y="11632"/>
                  <a:pt x="19769" y="11509"/>
                </a:cubicBezTo>
                <a:cubicBezTo>
                  <a:pt x="19762" y="11479"/>
                  <a:pt x="19739" y="11466"/>
                  <a:pt x="19720" y="11460"/>
                </a:cubicBezTo>
                <a:cubicBezTo>
                  <a:pt x="19806" y="11460"/>
                  <a:pt x="19883" y="11479"/>
                  <a:pt x="19968" y="11485"/>
                </a:cubicBezTo>
                <a:cubicBezTo>
                  <a:pt x="19976" y="11485"/>
                  <a:pt x="19985" y="11485"/>
                  <a:pt x="19993" y="11485"/>
                </a:cubicBezTo>
                <a:cubicBezTo>
                  <a:pt x="19977" y="11582"/>
                  <a:pt x="19939" y="11629"/>
                  <a:pt x="19893" y="11708"/>
                </a:cubicBezTo>
                <a:cubicBezTo>
                  <a:pt x="19838" y="11802"/>
                  <a:pt x="19739" y="11884"/>
                  <a:pt x="19695" y="11981"/>
                </a:cubicBezTo>
                <a:cubicBezTo>
                  <a:pt x="19695" y="12005"/>
                  <a:pt x="19695" y="12014"/>
                  <a:pt x="19695" y="12030"/>
                </a:cubicBezTo>
                <a:cubicBezTo>
                  <a:pt x="19765" y="12082"/>
                  <a:pt x="19793" y="12045"/>
                  <a:pt x="19869" y="12005"/>
                </a:cubicBezTo>
                <a:cubicBezTo>
                  <a:pt x="19925" y="11976"/>
                  <a:pt x="19978" y="11968"/>
                  <a:pt x="19993" y="11906"/>
                </a:cubicBezTo>
                <a:cubicBezTo>
                  <a:pt x="19947" y="11917"/>
                  <a:pt x="19904" y="11946"/>
                  <a:pt x="19918" y="12005"/>
                </a:cubicBezTo>
                <a:cubicBezTo>
                  <a:pt x="19942" y="12105"/>
                  <a:pt x="20014" y="12101"/>
                  <a:pt x="20092" y="12080"/>
                </a:cubicBezTo>
                <a:cubicBezTo>
                  <a:pt x="20157" y="12062"/>
                  <a:pt x="20270" y="12021"/>
                  <a:pt x="20265" y="11931"/>
                </a:cubicBezTo>
                <a:cubicBezTo>
                  <a:pt x="20262" y="11881"/>
                  <a:pt x="20223" y="11839"/>
                  <a:pt x="20191" y="11807"/>
                </a:cubicBezTo>
                <a:cubicBezTo>
                  <a:pt x="20168" y="11784"/>
                  <a:pt x="20101" y="11763"/>
                  <a:pt x="20067" y="11782"/>
                </a:cubicBezTo>
                <a:cubicBezTo>
                  <a:pt x="20024" y="11806"/>
                  <a:pt x="20027" y="11845"/>
                  <a:pt x="19993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69040" y="4687920"/>
            <a:ext cx="1116000" cy="376200"/>
          </a:xfrm>
          <a:custGeom>
            <a:avLst/>
            <a:gdLst/>
            <a:ahLst/>
            <a:rect l="l" t="t" r="r" b="b"/>
            <a:pathLst>
              <a:path w="3101" h="1043">
                <a:moveTo>
                  <a:pt x="17611" y="13246"/>
                </a:moveTo>
                <a:cubicBezTo>
                  <a:pt x="17496" y="13304"/>
                  <a:pt x="17408" y="13509"/>
                  <a:pt x="17413" y="13643"/>
                </a:cubicBezTo>
                <a:cubicBezTo>
                  <a:pt x="17419" y="13832"/>
                  <a:pt x="17605" y="13986"/>
                  <a:pt x="17785" y="13990"/>
                </a:cubicBezTo>
                <a:cubicBezTo>
                  <a:pt x="17994" y="13994"/>
                  <a:pt x="18039" y="13758"/>
                  <a:pt x="18008" y="13593"/>
                </a:cubicBezTo>
                <a:cubicBezTo>
                  <a:pt x="17985" y="13470"/>
                  <a:pt x="17903" y="13362"/>
                  <a:pt x="17785" y="13320"/>
                </a:cubicBezTo>
                <a:cubicBezTo>
                  <a:pt x="17777" y="13320"/>
                  <a:pt x="17768" y="13320"/>
                  <a:pt x="17760" y="13320"/>
                </a:cubicBezTo>
              </a:path>
              <a:path w="3101" h="1043">
                <a:moveTo>
                  <a:pt x="18405" y="13940"/>
                </a:moveTo>
                <a:cubicBezTo>
                  <a:pt x="18450" y="13963"/>
                  <a:pt x="18448" y="13974"/>
                  <a:pt x="18504" y="13990"/>
                </a:cubicBezTo>
              </a:path>
              <a:path w="3101" h="1043">
                <a:moveTo>
                  <a:pt x="18926" y="13022"/>
                </a:moveTo>
                <a:cubicBezTo>
                  <a:pt x="18871" y="13132"/>
                  <a:pt x="18895" y="13247"/>
                  <a:pt x="18901" y="13370"/>
                </a:cubicBezTo>
                <a:cubicBezTo>
                  <a:pt x="18908" y="13533"/>
                  <a:pt x="18940" y="13681"/>
                  <a:pt x="18976" y="13841"/>
                </a:cubicBezTo>
                <a:cubicBezTo>
                  <a:pt x="18983" y="13874"/>
                  <a:pt x="19030" y="14092"/>
                  <a:pt x="19050" y="14039"/>
                </a:cubicBezTo>
                <a:cubicBezTo>
                  <a:pt x="19058" y="14014"/>
                  <a:pt x="19067" y="13990"/>
                  <a:pt x="19075" y="13965"/>
                </a:cubicBezTo>
              </a:path>
              <a:path w="3101" h="1043">
                <a:moveTo>
                  <a:pt x="19323" y="13146"/>
                </a:moveTo>
                <a:cubicBezTo>
                  <a:pt x="19295" y="13165"/>
                  <a:pt x="19255" y="13288"/>
                  <a:pt x="19248" y="13345"/>
                </a:cubicBezTo>
                <a:cubicBezTo>
                  <a:pt x="19234" y="13458"/>
                  <a:pt x="19276" y="13638"/>
                  <a:pt x="19323" y="13742"/>
                </a:cubicBezTo>
                <a:cubicBezTo>
                  <a:pt x="19349" y="13800"/>
                  <a:pt x="19423" y="13967"/>
                  <a:pt x="19496" y="13990"/>
                </a:cubicBezTo>
                <a:cubicBezTo>
                  <a:pt x="19591" y="14020"/>
                  <a:pt x="19704" y="13912"/>
                  <a:pt x="19745" y="13841"/>
                </a:cubicBezTo>
                <a:cubicBezTo>
                  <a:pt x="19803" y="13739"/>
                  <a:pt x="19802" y="13717"/>
                  <a:pt x="19769" y="13618"/>
                </a:cubicBezTo>
                <a:cubicBezTo>
                  <a:pt x="19667" y="13630"/>
                  <a:pt x="19588" y="13659"/>
                  <a:pt x="19546" y="13767"/>
                </a:cubicBezTo>
                <a:cubicBezTo>
                  <a:pt x="19529" y="13812"/>
                  <a:pt x="19537" y="13880"/>
                  <a:pt x="19571" y="13891"/>
                </a:cubicBezTo>
              </a:path>
              <a:path w="3101" h="1043">
                <a:moveTo>
                  <a:pt x="19844" y="13395"/>
                </a:moveTo>
                <a:cubicBezTo>
                  <a:pt x="19884" y="13408"/>
                  <a:pt x="19890" y="13442"/>
                  <a:pt x="19893" y="13494"/>
                </a:cubicBezTo>
                <a:cubicBezTo>
                  <a:pt x="19898" y="13579"/>
                  <a:pt x="19985" y="13564"/>
                  <a:pt x="20067" y="13568"/>
                </a:cubicBezTo>
                <a:cubicBezTo>
                  <a:pt x="20154" y="13572"/>
                  <a:pt x="20267" y="13641"/>
                  <a:pt x="20340" y="13692"/>
                </a:cubicBezTo>
                <a:cubicBezTo>
                  <a:pt x="20400" y="13734"/>
                  <a:pt x="20441" y="13780"/>
                  <a:pt x="20389" y="13841"/>
                </a:cubicBezTo>
                <a:cubicBezTo>
                  <a:pt x="20315" y="13928"/>
                  <a:pt x="20304" y="13965"/>
                  <a:pt x="20191" y="13965"/>
                </a:cubicBezTo>
                <a:cubicBezTo>
                  <a:pt x="20101" y="13965"/>
                  <a:pt x="20133" y="13982"/>
                  <a:pt x="20092" y="13891"/>
                </a:cubicBezTo>
              </a:path>
              <a:path w="3101" h="1043">
                <a:moveTo>
                  <a:pt x="19918" y="13295"/>
                </a:moveTo>
                <a:cubicBezTo>
                  <a:pt x="20012" y="13305"/>
                  <a:pt x="20073" y="13300"/>
                  <a:pt x="20166" y="13295"/>
                </a:cubicBezTo>
                <a:cubicBezTo>
                  <a:pt x="20256" y="13290"/>
                  <a:pt x="20327" y="13287"/>
                  <a:pt x="20414" y="13271"/>
                </a:cubicBezTo>
                <a:cubicBezTo>
                  <a:pt x="20444" y="13266"/>
                  <a:pt x="20500" y="13290"/>
                  <a:pt x="20513" y="13246"/>
                </a:cubicBezTo>
                <a:cubicBezTo>
                  <a:pt x="20513" y="13229"/>
                  <a:pt x="20513" y="13213"/>
                  <a:pt x="20513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3000" y="4160880"/>
            <a:ext cx="1473120" cy="339840"/>
          </a:xfrm>
          <a:custGeom>
            <a:avLst/>
            <a:gdLst/>
            <a:ahLst/>
            <a:rect l="l" t="t" r="r" b="b"/>
            <a:pathLst>
              <a:path w="4093" h="944">
                <a:moveTo>
                  <a:pt x="17859" y="12129"/>
                </a:moveTo>
                <a:cubicBezTo>
                  <a:pt x="17859" y="12121"/>
                  <a:pt x="17859" y="12113"/>
                  <a:pt x="17859" y="12105"/>
                </a:cubicBezTo>
              </a:path>
              <a:path w="4093" h="944">
                <a:moveTo>
                  <a:pt x="17859" y="12105"/>
                </a:moveTo>
                <a:lnTo>
                  <a:pt x="17859" y="12105"/>
                </a:lnTo>
              </a:path>
              <a:path w="4093" h="944">
                <a:moveTo>
                  <a:pt x="17859" y="12105"/>
                </a:moveTo>
                <a:cubicBezTo>
                  <a:pt x="17859" y="12113"/>
                  <a:pt x="17859" y="12121"/>
                  <a:pt x="17859" y="12129"/>
                </a:cubicBez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lnTo>
                  <a:pt x="17835" y="12129"/>
                </a:lnTo>
              </a:path>
              <a:path w="4093" h="944">
                <a:moveTo>
                  <a:pt x="17835" y="12129"/>
                </a:moveTo>
                <a:cubicBezTo>
                  <a:pt x="17835" y="12137"/>
                  <a:pt x="17835" y="12146"/>
                  <a:pt x="17835" y="12154"/>
                </a:cubicBezTo>
                <a:cubicBezTo>
                  <a:pt x="17800" y="12166"/>
                  <a:pt x="17808" y="12192"/>
                  <a:pt x="17760" y="12204"/>
                </a:cubicBezTo>
                <a:cubicBezTo>
                  <a:pt x="17749" y="12237"/>
                  <a:pt x="17747" y="12226"/>
                  <a:pt x="17711" y="12254"/>
                </a:cubicBezTo>
              </a:path>
              <a:path w="4093" h="944">
                <a:moveTo>
                  <a:pt x="17711" y="12254"/>
                </a:moveTo>
                <a:lnTo>
                  <a:pt x="17711" y="12254"/>
                </a:lnTo>
              </a:path>
              <a:path w="4093" h="944">
                <a:moveTo>
                  <a:pt x="17711" y="12254"/>
                </a:moveTo>
                <a:lnTo>
                  <a:pt x="17711" y="12254"/>
                </a:lnTo>
              </a:path>
              <a:path w="4093" h="944">
                <a:moveTo>
                  <a:pt x="17934" y="11956"/>
                </a:moveTo>
                <a:cubicBezTo>
                  <a:pt x="17930" y="11961"/>
                  <a:pt x="17883" y="12006"/>
                  <a:pt x="17884" y="12030"/>
                </a:cubicBezTo>
                <a:cubicBezTo>
                  <a:pt x="17887" y="12087"/>
                  <a:pt x="17923" y="12137"/>
                  <a:pt x="17959" y="12179"/>
                </a:cubicBezTo>
                <a:cubicBezTo>
                  <a:pt x="18048" y="12285"/>
                  <a:pt x="18196" y="12314"/>
                  <a:pt x="18331" y="12328"/>
                </a:cubicBezTo>
                <a:cubicBezTo>
                  <a:pt x="18450" y="12340"/>
                  <a:pt x="18589" y="12287"/>
                  <a:pt x="18703" y="12254"/>
                </a:cubicBezTo>
                <a:cubicBezTo>
                  <a:pt x="18798" y="12226"/>
                  <a:pt x="18838" y="12173"/>
                  <a:pt x="18876" y="12080"/>
                </a:cubicBezTo>
                <a:cubicBezTo>
                  <a:pt x="18909" y="12001"/>
                  <a:pt x="18932" y="11904"/>
                  <a:pt x="18951" y="11832"/>
                </a:cubicBezTo>
                <a:cubicBezTo>
                  <a:pt x="18960" y="11900"/>
                  <a:pt x="18959" y="11915"/>
                  <a:pt x="18976" y="11981"/>
                </a:cubicBezTo>
                <a:cubicBezTo>
                  <a:pt x="18991" y="12040"/>
                  <a:pt x="19053" y="12137"/>
                  <a:pt x="19100" y="12179"/>
                </a:cubicBezTo>
                <a:cubicBezTo>
                  <a:pt x="19137" y="12212"/>
                  <a:pt x="19294" y="12292"/>
                  <a:pt x="19348" y="12303"/>
                </a:cubicBezTo>
                <a:cubicBezTo>
                  <a:pt x="19422" y="12319"/>
                  <a:pt x="19527" y="12300"/>
                  <a:pt x="19596" y="12278"/>
                </a:cubicBezTo>
                <a:cubicBezTo>
                  <a:pt x="19668" y="12254"/>
                  <a:pt x="19730" y="12218"/>
                  <a:pt x="19794" y="12179"/>
                </a:cubicBezTo>
                <a:cubicBezTo>
                  <a:pt x="19878" y="12128"/>
                  <a:pt x="19974" y="12011"/>
                  <a:pt x="20042" y="11931"/>
                </a:cubicBezTo>
                <a:cubicBezTo>
                  <a:pt x="20118" y="11841"/>
                  <a:pt x="20152" y="11740"/>
                  <a:pt x="20191" y="11633"/>
                </a:cubicBezTo>
                <a:cubicBezTo>
                  <a:pt x="20216" y="11565"/>
                  <a:pt x="20205" y="11576"/>
                  <a:pt x="20265" y="11559"/>
                </a:cubicBezTo>
              </a:path>
              <a:path w="4093" h="944">
                <a:moveTo>
                  <a:pt x="17785" y="12030"/>
                </a:moveTo>
                <a:cubicBezTo>
                  <a:pt x="17793" y="12022"/>
                  <a:pt x="17802" y="12013"/>
                  <a:pt x="17810" y="12005"/>
                </a:cubicBezTo>
                <a:cubicBezTo>
                  <a:pt x="17796" y="12061"/>
                  <a:pt x="17784" y="12076"/>
                  <a:pt x="17760" y="12129"/>
                </a:cubicBezTo>
                <a:cubicBezTo>
                  <a:pt x="17726" y="12203"/>
                  <a:pt x="17644" y="12340"/>
                  <a:pt x="17562" y="12378"/>
                </a:cubicBezTo>
                <a:cubicBezTo>
                  <a:pt x="17502" y="12406"/>
                  <a:pt x="17304" y="12438"/>
                  <a:pt x="17239" y="12402"/>
                </a:cubicBezTo>
                <a:cubicBezTo>
                  <a:pt x="17186" y="12373"/>
                  <a:pt x="17151" y="12282"/>
                  <a:pt x="17140" y="12229"/>
                </a:cubicBezTo>
                <a:cubicBezTo>
                  <a:pt x="17124" y="12155"/>
                  <a:pt x="17156" y="12087"/>
                  <a:pt x="17165" y="12030"/>
                </a:cubicBezTo>
                <a:cubicBezTo>
                  <a:pt x="17165" y="11997"/>
                  <a:pt x="17165" y="11981"/>
                  <a:pt x="17165" y="11956"/>
                </a:cubicBezTo>
                <a:cubicBezTo>
                  <a:pt x="17182" y="11998"/>
                  <a:pt x="17165" y="12019"/>
                  <a:pt x="17140" y="12105"/>
                </a:cubicBezTo>
                <a:cubicBezTo>
                  <a:pt x="17106" y="12222"/>
                  <a:pt x="17072" y="12327"/>
                  <a:pt x="16966" y="12402"/>
                </a:cubicBezTo>
                <a:cubicBezTo>
                  <a:pt x="16820" y="12506"/>
                  <a:pt x="16591" y="12498"/>
                  <a:pt x="16421" y="12502"/>
                </a:cubicBezTo>
                <a:cubicBezTo>
                  <a:pt x="16302" y="12505"/>
                  <a:pt x="16244" y="12431"/>
                  <a:pt x="16197" y="12328"/>
                </a:cubicBezTo>
                <a:cubicBezTo>
                  <a:pt x="16152" y="12231"/>
                  <a:pt x="16173" y="12110"/>
                  <a:pt x="16173" y="12005"/>
                </a:cubicBezTo>
                <a:cubicBezTo>
                  <a:pt x="16173" y="11947"/>
                  <a:pt x="16215" y="11879"/>
                  <a:pt x="16222" y="11857"/>
                </a:cubicBezTo>
                <a:cubicBezTo>
                  <a:pt x="16222" y="11849"/>
                  <a:pt x="16222" y="11840"/>
                  <a:pt x="16222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actions, to decimals, and percents.  (And Vise Ver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  Write each as a fraction, decimal &amp;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29240" y="2276640"/>
            <a:ext cx="393840" cy="777600"/>
          </a:xfrm>
          <a:custGeom>
            <a:avLst/>
            <a:gdLst/>
            <a:ahLst/>
            <a:rect l="l" t="t" r="r" b="b"/>
            <a:pathLst>
              <a:path w="1093" h="2159">
                <a:moveTo>
                  <a:pt x="18405" y="6350"/>
                </a:moveTo>
                <a:cubicBezTo>
                  <a:pt x="18324" y="6301"/>
                  <a:pt x="18220" y="6345"/>
                  <a:pt x="18157" y="6424"/>
                </a:cubicBezTo>
                <a:cubicBezTo>
                  <a:pt x="18073" y="6529"/>
                  <a:pt x="18151" y="6684"/>
                  <a:pt x="18281" y="6697"/>
                </a:cubicBezTo>
                <a:cubicBezTo>
                  <a:pt x="18423" y="6711"/>
                  <a:pt x="18367" y="6543"/>
                  <a:pt x="18355" y="6474"/>
                </a:cubicBezTo>
                <a:cubicBezTo>
                  <a:pt x="18455" y="6453"/>
                  <a:pt x="18588" y="6425"/>
                  <a:pt x="18653" y="6474"/>
                </a:cubicBezTo>
                <a:cubicBezTo>
                  <a:pt x="18631" y="6609"/>
                  <a:pt x="18562" y="6706"/>
                  <a:pt x="18479" y="6821"/>
                </a:cubicBezTo>
                <a:cubicBezTo>
                  <a:pt x="18472" y="6831"/>
                  <a:pt x="18332" y="6972"/>
                  <a:pt x="18380" y="7020"/>
                </a:cubicBezTo>
                <a:cubicBezTo>
                  <a:pt x="18448" y="7088"/>
                  <a:pt x="18562" y="7004"/>
                  <a:pt x="18628" y="6970"/>
                </a:cubicBezTo>
                <a:cubicBezTo>
                  <a:pt x="18628" y="6962"/>
                  <a:pt x="18628" y="6953"/>
                  <a:pt x="18628" y="6945"/>
                </a:cubicBezTo>
                <a:cubicBezTo>
                  <a:pt x="18628" y="7012"/>
                  <a:pt x="18634" y="7056"/>
                  <a:pt x="18703" y="7094"/>
                </a:cubicBezTo>
                <a:cubicBezTo>
                  <a:pt x="18786" y="7139"/>
                  <a:pt x="18862" y="7102"/>
                  <a:pt x="18926" y="7045"/>
                </a:cubicBezTo>
                <a:cubicBezTo>
                  <a:pt x="18972" y="7004"/>
                  <a:pt x="18959" y="6934"/>
                  <a:pt x="18901" y="6921"/>
                </a:cubicBezTo>
                <a:cubicBezTo>
                  <a:pt x="18861" y="6912"/>
                  <a:pt x="18839" y="6931"/>
                  <a:pt x="18802" y="6945"/>
                </a:cubicBezTo>
              </a:path>
              <a:path w="1093" h="2159">
                <a:moveTo>
                  <a:pt x="17859" y="7441"/>
                </a:moveTo>
                <a:cubicBezTo>
                  <a:pt x="17957" y="7453"/>
                  <a:pt x="18056" y="7485"/>
                  <a:pt x="18157" y="7491"/>
                </a:cubicBezTo>
                <a:cubicBezTo>
                  <a:pt x="18344" y="7502"/>
                  <a:pt x="18499" y="7479"/>
                  <a:pt x="18678" y="7441"/>
                </a:cubicBezTo>
                <a:cubicBezTo>
                  <a:pt x="18763" y="7423"/>
                  <a:pt x="18833" y="7417"/>
                  <a:pt x="18926" y="7417"/>
                </a:cubicBezTo>
              </a:path>
              <a:path w="1093" h="2159">
                <a:moveTo>
                  <a:pt x="18678" y="7938"/>
                </a:moveTo>
                <a:cubicBezTo>
                  <a:pt x="18695" y="7905"/>
                  <a:pt x="18711" y="7871"/>
                  <a:pt x="18728" y="7838"/>
                </a:cubicBezTo>
              </a:path>
              <a:path w="1093" h="2159">
                <a:moveTo>
                  <a:pt x="18802" y="7441"/>
                </a:moveTo>
                <a:cubicBezTo>
                  <a:pt x="18764" y="7404"/>
                  <a:pt x="18755" y="7392"/>
                  <a:pt x="18703" y="7392"/>
                </a:cubicBezTo>
                <a:cubicBezTo>
                  <a:pt x="18618" y="7392"/>
                  <a:pt x="18579" y="7405"/>
                  <a:pt x="18504" y="7441"/>
                </a:cubicBezTo>
              </a:path>
              <a:path w="1093" h="2159">
                <a:moveTo>
                  <a:pt x="18455" y="7466"/>
                </a:moveTo>
                <a:cubicBezTo>
                  <a:pt x="18378" y="7492"/>
                  <a:pt x="18324" y="7522"/>
                  <a:pt x="18256" y="7565"/>
                </a:cubicBezTo>
                <a:cubicBezTo>
                  <a:pt x="18174" y="7617"/>
                  <a:pt x="18112" y="7687"/>
                  <a:pt x="18182" y="7789"/>
                </a:cubicBezTo>
                <a:cubicBezTo>
                  <a:pt x="18231" y="7861"/>
                  <a:pt x="18356" y="7860"/>
                  <a:pt x="18380" y="7764"/>
                </a:cubicBezTo>
                <a:cubicBezTo>
                  <a:pt x="18395" y="7704"/>
                  <a:pt x="18398" y="7628"/>
                  <a:pt x="18405" y="7565"/>
                </a:cubicBezTo>
                <a:cubicBezTo>
                  <a:pt x="18459" y="7592"/>
                  <a:pt x="18469" y="7588"/>
                  <a:pt x="18529" y="7590"/>
                </a:cubicBezTo>
                <a:cubicBezTo>
                  <a:pt x="18603" y="7593"/>
                  <a:pt x="18599" y="7597"/>
                  <a:pt x="18653" y="7615"/>
                </a:cubicBezTo>
                <a:cubicBezTo>
                  <a:pt x="18639" y="7743"/>
                  <a:pt x="18592" y="7818"/>
                  <a:pt x="18504" y="7913"/>
                </a:cubicBezTo>
                <a:cubicBezTo>
                  <a:pt x="18408" y="8017"/>
                  <a:pt x="18347" y="8113"/>
                  <a:pt x="18281" y="8235"/>
                </a:cubicBezTo>
                <a:cubicBezTo>
                  <a:pt x="18253" y="8285"/>
                  <a:pt x="18261" y="8306"/>
                  <a:pt x="18256" y="8359"/>
                </a:cubicBezTo>
                <a:cubicBezTo>
                  <a:pt x="18346" y="8374"/>
                  <a:pt x="18385" y="8372"/>
                  <a:pt x="18479" y="8334"/>
                </a:cubicBezTo>
                <a:cubicBezTo>
                  <a:pt x="18503" y="8324"/>
                  <a:pt x="18529" y="8320"/>
                  <a:pt x="18554" y="8310"/>
                </a:cubicBezTo>
                <a:cubicBezTo>
                  <a:pt x="18541" y="8331"/>
                  <a:pt x="18503" y="8388"/>
                  <a:pt x="18529" y="8434"/>
                </a:cubicBezTo>
                <a:cubicBezTo>
                  <a:pt x="18573" y="8513"/>
                  <a:pt x="18696" y="8490"/>
                  <a:pt x="18752" y="8434"/>
                </a:cubicBezTo>
                <a:cubicBezTo>
                  <a:pt x="18801" y="8385"/>
                  <a:pt x="18864" y="8262"/>
                  <a:pt x="18827" y="8210"/>
                </a:cubicBezTo>
                <a:cubicBezTo>
                  <a:pt x="18798" y="8169"/>
                  <a:pt x="18740" y="8155"/>
                  <a:pt x="18703" y="8136"/>
                </a:cubicBezTo>
                <a:cubicBezTo>
                  <a:pt x="18676" y="8163"/>
                  <a:pt x="18624" y="8228"/>
                  <a:pt x="18628" y="8260"/>
                </a:cubicBezTo>
                <a:cubicBezTo>
                  <a:pt x="18632" y="8292"/>
                  <a:pt x="18645" y="8304"/>
                  <a:pt x="18653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4880" y="2276640"/>
            <a:ext cx="1063440" cy="760320"/>
          </a:xfrm>
          <a:custGeom>
            <a:avLst/>
            <a:gdLst/>
            <a:ahLst/>
            <a:rect l="l" t="t" r="r" b="b"/>
            <a:pathLst>
              <a:path w="2953" h="2110">
                <a:moveTo>
                  <a:pt x="10145" y="6821"/>
                </a:moveTo>
                <a:cubicBezTo>
                  <a:pt x="10128" y="6756"/>
                  <a:pt x="10041" y="6720"/>
                  <a:pt x="9971" y="6722"/>
                </a:cubicBezTo>
                <a:cubicBezTo>
                  <a:pt x="9865" y="6725"/>
                  <a:pt x="9634" y="6805"/>
                  <a:pt x="9599" y="6921"/>
                </a:cubicBezTo>
                <a:cubicBezTo>
                  <a:pt x="9607" y="6946"/>
                  <a:pt x="9616" y="6970"/>
                  <a:pt x="9624" y="6995"/>
                </a:cubicBezTo>
                <a:cubicBezTo>
                  <a:pt x="9695" y="7027"/>
                  <a:pt x="9800" y="7088"/>
                  <a:pt x="9872" y="7020"/>
                </a:cubicBezTo>
                <a:cubicBezTo>
                  <a:pt x="9975" y="6922"/>
                  <a:pt x="9969" y="6726"/>
                  <a:pt x="9971" y="6598"/>
                </a:cubicBezTo>
                <a:cubicBezTo>
                  <a:pt x="9973" y="6500"/>
                  <a:pt x="9981" y="6407"/>
                  <a:pt x="9947" y="6325"/>
                </a:cubicBezTo>
                <a:cubicBezTo>
                  <a:pt x="9926" y="6452"/>
                  <a:pt x="9924" y="6541"/>
                  <a:pt x="9947" y="6672"/>
                </a:cubicBezTo>
                <a:cubicBezTo>
                  <a:pt x="9964" y="6771"/>
                  <a:pt x="9977" y="6870"/>
                  <a:pt x="10046" y="6945"/>
                </a:cubicBezTo>
                <a:cubicBezTo>
                  <a:pt x="10103" y="7008"/>
                  <a:pt x="10145" y="7000"/>
                  <a:pt x="10220" y="6970"/>
                </a:cubicBezTo>
                <a:cubicBezTo>
                  <a:pt x="10300" y="6938"/>
                  <a:pt x="10338" y="6873"/>
                  <a:pt x="10368" y="6796"/>
                </a:cubicBezTo>
                <a:cubicBezTo>
                  <a:pt x="10395" y="6726"/>
                  <a:pt x="10415" y="6702"/>
                  <a:pt x="10393" y="6648"/>
                </a:cubicBezTo>
                <a:cubicBezTo>
                  <a:pt x="10371" y="6583"/>
                  <a:pt x="10304" y="6681"/>
                  <a:pt x="10294" y="6722"/>
                </a:cubicBezTo>
                <a:cubicBezTo>
                  <a:pt x="10284" y="6763"/>
                  <a:pt x="10291" y="6883"/>
                  <a:pt x="10319" y="6921"/>
                </a:cubicBezTo>
                <a:cubicBezTo>
                  <a:pt x="10374" y="6996"/>
                  <a:pt x="10435" y="6988"/>
                  <a:pt x="10517" y="6995"/>
                </a:cubicBezTo>
              </a:path>
              <a:path w="2953" h="2110">
                <a:moveTo>
                  <a:pt x="11063" y="6548"/>
                </a:moveTo>
                <a:cubicBezTo>
                  <a:pt x="10962" y="6591"/>
                  <a:pt x="10997" y="6556"/>
                  <a:pt x="10914" y="6648"/>
                </a:cubicBezTo>
                <a:cubicBezTo>
                  <a:pt x="10864" y="6703"/>
                  <a:pt x="10825" y="6756"/>
                  <a:pt x="10790" y="6821"/>
                </a:cubicBezTo>
                <a:cubicBezTo>
                  <a:pt x="10746" y="6904"/>
                  <a:pt x="10821" y="6973"/>
                  <a:pt x="10914" y="6970"/>
                </a:cubicBezTo>
                <a:cubicBezTo>
                  <a:pt x="11016" y="6944"/>
                  <a:pt x="11051" y="6935"/>
                  <a:pt x="11112" y="6896"/>
                </a:cubicBezTo>
              </a:path>
              <a:path w="2953" h="2110">
                <a:moveTo>
                  <a:pt x="11385" y="6821"/>
                </a:moveTo>
                <a:cubicBezTo>
                  <a:pt x="11393" y="6821"/>
                  <a:pt x="11402" y="6821"/>
                  <a:pt x="11410" y="6821"/>
                </a:cubicBezTo>
              </a:path>
              <a:path w="2953" h="2110">
                <a:moveTo>
                  <a:pt x="9624" y="7466"/>
                </a:moveTo>
                <a:cubicBezTo>
                  <a:pt x="9666" y="7433"/>
                  <a:pt x="9622" y="7437"/>
                  <a:pt x="9699" y="7417"/>
                </a:cubicBezTo>
                <a:cubicBezTo>
                  <a:pt x="10004" y="7337"/>
                  <a:pt x="10303" y="7305"/>
                  <a:pt x="10616" y="7268"/>
                </a:cubicBezTo>
                <a:cubicBezTo>
                  <a:pt x="10783" y="7248"/>
                  <a:pt x="10949" y="7214"/>
                  <a:pt x="11112" y="7193"/>
                </a:cubicBezTo>
                <a:cubicBezTo>
                  <a:pt x="11158" y="7187"/>
                  <a:pt x="11214" y="7193"/>
                  <a:pt x="11261" y="7193"/>
                </a:cubicBezTo>
              </a:path>
              <a:path w="2953" h="2110">
                <a:moveTo>
                  <a:pt x="8483" y="7342"/>
                </a:moveTo>
                <a:cubicBezTo>
                  <a:pt x="8440" y="7342"/>
                  <a:pt x="8438" y="7325"/>
                  <a:pt x="8483" y="7268"/>
                </a:cubicBezTo>
              </a:path>
              <a:path w="2953" h="2110">
                <a:moveTo>
                  <a:pt x="9252" y="7739"/>
                </a:moveTo>
                <a:cubicBezTo>
                  <a:pt x="9408" y="7683"/>
                  <a:pt x="9532" y="7645"/>
                  <a:pt x="9699" y="7640"/>
                </a:cubicBezTo>
                <a:cubicBezTo>
                  <a:pt x="9724" y="7640"/>
                  <a:pt x="9748" y="7640"/>
                  <a:pt x="9773" y="7640"/>
                </a:cubicBezTo>
                <a:cubicBezTo>
                  <a:pt x="9761" y="7725"/>
                  <a:pt x="9728" y="7780"/>
                  <a:pt x="9699" y="7863"/>
                </a:cubicBezTo>
                <a:cubicBezTo>
                  <a:pt x="9653" y="7997"/>
                  <a:pt x="9566" y="8103"/>
                  <a:pt x="9500" y="8235"/>
                </a:cubicBezTo>
                <a:cubicBezTo>
                  <a:pt x="9468" y="8299"/>
                  <a:pt x="9423" y="8369"/>
                  <a:pt x="9401" y="8434"/>
                </a:cubicBezTo>
                <a:cubicBezTo>
                  <a:pt x="9521" y="8434"/>
                  <a:pt x="9631" y="8408"/>
                  <a:pt x="9748" y="8384"/>
                </a:cubicBezTo>
                <a:cubicBezTo>
                  <a:pt x="9845" y="8364"/>
                  <a:pt x="9926" y="8338"/>
                  <a:pt x="9996" y="8334"/>
                </a:cubicBezTo>
                <a:cubicBezTo>
                  <a:pt x="10047" y="8331"/>
                  <a:pt x="10053" y="8320"/>
                  <a:pt x="10096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76920" y="3581280"/>
            <a:ext cx="1036800" cy="312840"/>
          </a:xfrm>
          <a:custGeom>
            <a:avLst/>
            <a:gdLst/>
            <a:ahLst/>
            <a:rect l="l" t="t" r="r" b="b"/>
            <a:pathLst>
              <a:path w="2878" h="869">
                <a:moveTo>
                  <a:pt x="16049" y="10096"/>
                </a:moveTo>
                <a:cubicBezTo>
                  <a:pt x="16061" y="10132"/>
                  <a:pt x="16073" y="10117"/>
                  <a:pt x="16073" y="10170"/>
                </a:cubicBezTo>
                <a:cubicBezTo>
                  <a:pt x="16073" y="10243"/>
                  <a:pt x="16057" y="10299"/>
                  <a:pt x="16049" y="10368"/>
                </a:cubicBezTo>
                <a:cubicBezTo>
                  <a:pt x="16178" y="10355"/>
                  <a:pt x="16268" y="10349"/>
                  <a:pt x="16396" y="10393"/>
                </a:cubicBezTo>
                <a:cubicBezTo>
                  <a:pt x="16440" y="10415"/>
                  <a:pt x="16451" y="10418"/>
                  <a:pt x="16470" y="10443"/>
                </a:cubicBezTo>
                <a:cubicBezTo>
                  <a:pt x="16441" y="10559"/>
                  <a:pt x="16350" y="10605"/>
                  <a:pt x="16222" y="10592"/>
                </a:cubicBezTo>
                <a:cubicBezTo>
                  <a:pt x="16155" y="10569"/>
                  <a:pt x="16134" y="10568"/>
                  <a:pt x="16123" y="10517"/>
                </a:cubicBezTo>
              </a:path>
              <a:path w="2878" h="869">
                <a:moveTo>
                  <a:pt x="16049" y="10071"/>
                </a:moveTo>
                <a:cubicBezTo>
                  <a:pt x="16068" y="10041"/>
                  <a:pt x="16140" y="10023"/>
                  <a:pt x="16197" y="10021"/>
                </a:cubicBezTo>
                <a:cubicBezTo>
                  <a:pt x="16331" y="10016"/>
                  <a:pt x="16461" y="10004"/>
                  <a:pt x="16594" y="9996"/>
                </a:cubicBezTo>
                <a:cubicBezTo>
                  <a:pt x="16627" y="9996"/>
                  <a:pt x="16636" y="10004"/>
                  <a:pt x="16619" y="10046"/>
                </a:cubicBezTo>
              </a:path>
              <a:path w="2878" h="869">
                <a:moveTo>
                  <a:pt x="17314" y="10170"/>
                </a:moveTo>
                <a:cubicBezTo>
                  <a:pt x="17209" y="10187"/>
                  <a:pt x="17139" y="10212"/>
                  <a:pt x="17066" y="10294"/>
                </a:cubicBezTo>
                <a:cubicBezTo>
                  <a:pt x="16971" y="10401"/>
                  <a:pt x="16975" y="10504"/>
                  <a:pt x="17041" y="10616"/>
                </a:cubicBezTo>
                <a:cubicBezTo>
                  <a:pt x="17111" y="10736"/>
                  <a:pt x="17271" y="10828"/>
                  <a:pt x="17413" y="10815"/>
                </a:cubicBezTo>
                <a:cubicBezTo>
                  <a:pt x="17594" y="10799"/>
                  <a:pt x="17661" y="10603"/>
                  <a:pt x="17661" y="10443"/>
                </a:cubicBezTo>
                <a:cubicBezTo>
                  <a:pt x="17661" y="10328"/>
                  <a:pt x="17609" y="10284"/>
                  <a:pt x="17537" y="10220"/>
                </a:cubicBezTo>
                <a:cubicBezTo>
                  <a:pt x="17492" y="10180"/>
                  <a:pt x="17464" y="10152"/>
                  <a:pt x="17512" y="10120"/>
                </a:cubicBezTo>
              </a:path>
              <a:path w="2878" h="869">
                <a:moveTo>
                  <a:pt x="18132" y="10046"/>
                </a:moveTo>
                <a:cubicBezTo>
                  <a:pt x="18073" y="10046"/>
                  <a:pt x="18047" y="10049"/>
                  <a:pt x="18008" y="10071"/>
                </a:cubicBezTo>
                <a:cubicBezTo>
                  <a:pt x="17973" y="10158"/>
                  <a:pt x="18085" y="10220"/>
                  <a:pt x="18182" y="10220"/>
                </a:cubicBezTo>
                <a:cubicBezTo>
                  <a:pt x="18198" y="10212"/>
                  <a:pt x="18215" y="10203"/>
                  <a:pt x="18231" y="10195"/>
                </a:cubicBezTo>
                <a:cubicBezTo>
                  <a:pt x="18220" y="10124"/>
                  <a:pt x="18157" y="10034"/>
                  <a:pt x="18157" y="9996"/>
                </a:cubicBezTo>
                <a:cubicBezTo>
                  <a:pt x="18157" y="9900"/>
                  <a:pt x="18458" y="9961"/>
                  <a:pt x="18504" y="9971"/>
                </a:cubicBezTo>
                <a:cubicBezTo>
                  <a:pt x="18488" y="10131"/>
                  <a:pt x="18407" y="10229"/>
                  <a:pt x="18331" y="10368"/>
                </a:cubicBezTo>
                <a:cubicBezTo>
                  <a:pt x="18285" y="10452"/>
                  <a:pt x="18241" y="10564"/>
                  <a:pt x="18331" y="10641"/>
                </a:cubicBezTo>
                <a:cubicBezTo>
                  <a:pt x="18452" y="10743"/>
                  <a:pt x="18505" y="10680"/>
                  <a:pt x="18579" y="10567"/>
                </a:cubicBezTo>
                <a:cubicBezTo>
                  <a:pt x="18587" y="10550"/>
                  <a:pt x="18596" y="10534"/>
                  <a:pt x="18604" y="10517"/>
                </a:cubicBezTo>
                <a:cubicBezTo>
                  <a:pt x="18647" y="10614"/>
                  <a:pt x="18698" y="10709"/>
                  <a:pt x="18827" y="10691"/>
                </a:cubicBezTo>
                <a:cubicBezTo>
                  <a:pt x="18932" y="10676"/>
                  <a:pt x="18950" y="10540"/>
                  <a:pt x="18901" y="10468"/>
                </a:cubicBezTo>
                <a:cubicBezTo>
                  <a:pt x="18845" y="10386"/>
                  <a:pt x="18807" y="10403"/>
                  <a:pt x="18703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2040" y="2509920"/>
            <a:ext cx="2340000" cy="3554280"/>
          </a:xfrm>
          <a:custGeom>
            <a:avLst/>
            <a:gdLst/>
            <a:ahLst/>
            <a:rect l="l" t="t" r="r" b="b"/>
            <a:pathLst>
              <a:path w="6500" h="9873">
                <a:moveTo>
                  <a:pt x="13618" y="7169"/>
                </a:moveTo>
                <a:cubicBezTo>
                  <a:pt x="13606" y="7130"/>
                  <a:pt x="13604" y="7084"/>
                  <a:pt x="13593" y="7045"/>
                </a:cubicBezTo>
                <a:cubicBezTo>
                  <a:pt x="13588" y="7027"/>
                  <a:pt x="13575" y="6993"/>
                  <a:pt x="13568" y="6970"/>
                </a:cubicBezTo>
                <a:cubicBezTo>
                  <a:pt x="13545" y="7094"/>
                  <a:pt x="13513" y="7255"/>
                  <a:pt x="13494" y="7392"/>
                </a:cubicBezTo>
                <a:cubicBezTo>
                  <a:pt x="13470" y="7562"/>
                  <a:pt x="13409" y="7769"/>
                  <a:pt x="13419" y="7938"/>
                </a:cubicBezTo>
                <a:cubicBezTo>
                  <a:pt x="13427" y="8073"/>
                  <a:pt x="13491" y="8236"/>
                  <a:pt x="13543" y="8359"/>
                </a:cubicBezTo>
                <a:cubicBezTo>
                  <a:pt x="13656" y="8625"/>
                  <a:pt x="13819" y="8837"/>
                  <a:pt x="13866" y="9128"/>
                </a:cubicBezTo>
                <a:cubicBezTo>
                  <a:pt x="13914" y="9423"/>
                  <a:pt x="13918" y="9725"/>
                  <a:pt x="13940" y="10021"/>
                </a:cubicBezTo>
                <a:cubicBezTo>
                  <a:pt x="13961" y="10309"/>
                  <a:pt x="14010" y="10580"/>
                  <a:pt x="14039" y="10864"/>
                </a:cubicBezTo>
                <a:cubicBezTo>
                  <a:pt x="14070" y="11168"/>
                  <a:pt x="14089" y="11476"/>
                  <a:pt x="14089" y="11782"/>
                </a:cubicBezTo>
                <a:cubicBezTo>
                  <a:pt x="14089" y="12035"/>
                  <a:pt x="14064" y="12302"/>
                  <a:pt x="14015" y="12551"/>
                </a:cubicBezTo>
                <a:cubicBezTo>
                  <a:pt x="13968" y="12790"/>
                  <a:pt x="13936" y="13005"/>
                  <a:pt x="13915" y="13246"/>
                </a:cubicBezTo>
                <a:cubicBezTo>
                  <a:pt x="13888" y="13558"/>
                  <a:pt x="13902" y="13852"/>
                  <a:pt x="13915" y="14163"/>
                </a:cubicBezTo>
                <a:cubicBezTo>
                  <a:pt x="13928" y="14468"/>
                  <a:pt x="13980" y="14753"/>
                  <a:pt x="13940" y="15056"/>
                </a:cubicBezTo>
                <a:cubicBezTo>
                  <a:pt x="13914" y="15250"/>
                  <a:pt x="13903" y="15432"/>
                  <a:pt x="13891" y="15627"/>
                </a:cubicBezTo>
                <a:cubicBezTo>
                  <a:pt x="13879" y="15815"/>
                  <a:pt x="13828" y="16008"/>
                  <a:pt x="13841" y="16197"/>
                </a:cubicBezTo>
                <a:cubicBezTo>
                  <a:pt x="13850" y="16317"/>
                  <a:pt x="13883" y="16477"/>
                  <a:pt x="13915" y="16594"/>
                </a:cubicBezTo>
                <a:cubicBezTo>
                  <a:pt x="14003" y="16911"/>
                  <a:pt x="13978" y="16722"/>
                  <a:pt x="13990" y="16718"/>
                </a:cubicBezTo>
              </a:path>
              <a:path w="6500" h="9873">
                <a:moveTo>
                  <a:pt x="8781" y="8310"/>
                </a:moveTo>
                <a:cubicBezTo>
                  <a:pt x="8803" y="8307"/>
                  <a:pt x="8973" y="8260"/>
                  <a:pt x="8905" y="8260"/>
                </a:cubicBezTo>
              </a:path>
              <a:path w="6500" h="9873">
                <a:moveTo>
                  <a:pt x="7590" y="11261"/>
                </a:moveTo>
                <a:cubicBezTo>
                  <a:pt x="7590" y="11300"/>
                  <a:pt x="7619" y="11245"/>
                  <a:pt x="7640" y="11212"/>
                </a:cubicBezTo>
                <a:cubicBezTo>
                  <a:pt x="7704" y="11113"/>
                  <a:pt x="7614" y="11235"/>
                  <a:pt x="7714" y="11063"/>
                </a:cubicBezTo>
              </a:path>
              <a:path w="6500" h="9873">
                <a:moveTo>
                  <a:pt x="8334" y="10393"/>
                </a:moveTo>
                <a:lnTo>
                  <a:pt x="8334" y="10393"/>
                </a:lnTo>
              </a:path>
              <a:path w="6500" h="9873">
                <a:moveTo>
                  <a:pt x="8210" y="10790"/>
                </a:moveTo>
                <a:cubicBezTo>
                  <a:pt x="8202" y="10875"/>
                  <a:pt x="8169" y="10955"/>
                  <a:pt x="8161" y="11038"/>
                </a:cubicBezTo>
                <a:cubicBezTo>
                  <a:pt x="8161" y="11046"/>
                  <a:pt x="8161" y="11055"/>
                  <a:pt x="8161" y="11063"/>
                </a:cubicBezTo>
                <a:cubicBezTo>
                  <a:pt x="8259" y="11043"/>
                  <a:pt x="8402" y="10948"/>
                  <a:pt x="8508" y="10988"/>
                </a:cubicBezTo>
                <a:cubicBezTo>
                  <a:pt x="8541" y="11000"/>
                  <a:pt x="8685" y="11119"/>
                  <a:pt x="8682" y="11162"/>
                </a:cubicBezTo>
                <a:cubicBezTo>
                  <a:pt x="8676" y="11248"/>
                  <a:pt x="8576" y="11307"/>
                  <a:pt x="8508" y="11336"/>
                </a:cubicBezTo>
                <a:cubicBezTo>
                  <a:pt x="8420" y="11373"/>
                  <a:pt x="8405" y="11379"/>
                  <a:pt x="8359" y="11311"/>
                </a:cubicBezTo>
              </a:path>
              <a:path w="6500" h="9873">
                <a:moveTo>
                  <a:pt x="8161" y="10740"/>
                </a:moveTo>
                <a:cubicBezTo>
                  <a:pt x="8254" y="10718"/>
                  <a:pt x="8341" y="10626"/>
                  <a:pt x="8434" y="10592"/>
                </a:cubicBezTo>
                <a:cubicBezTo>
                  <a:pt x="8572" y="10542"/>
                  <a:pt x="8717" y="10514"/>
                  <a:pt x="8855" y="10468"/>
                </a:cubicBezTo>
                <a:cubicBezTo>
                  <a:pt x="8906" y="10451"/>
                  <a:pt x="8967" y="10455"/>
                  <a:pt x="897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4920" y="2697120"/>
            <a:ext cx="419040" cy="276120"/>
          </a:xfrm>
          <a:custGeom>
            <a:avLst/>
            <a:gdLst/>
            <a:ahLst/>
            <a:rect l="l" t="t" r="r" b="b"/>
            <a:pathLst>
              <a:path w="1167" h="770">
                <a:moveTo>
                  <a:pt x="16396" y="7491"/>
                </a:moveTo>
                <a:cubicBezTo>
                  <a:pt x="16492" y="7498"/>
                  <a:pt x="16587" y="7519"/>
                  <a:pt x="16669" y="7541"/>
                </a:cubicBezTo>
                <a:cubicBezTo>
                  <a:pt x="16677" y="7541"/>
                  <a:pt x="16686" y="7541"/>
                  <a:pt x="16694" y="7541"/>
                </a:cubicBezTo>
                <a:cubicBezTo>
                  <a:pt x="16607" y="7714"/>
                  <a:pt x="16496" y="7914"/>
                  <a:pt x="16371" y="8062"/>
                </a:cubicBezTo>
                <a:cubicBezTo>
                  <a:pt x="16363" y="8062"/>
                  <a:pt x="16354" y="8062"/>
                  <a:pt x="16346" y="8062"/>
                </a:cubicBezTo>
                <a:cubicBezTo>
                  <a:pt x="16443" y="8108"/>
                  <a:pt x="16605" y="8098"/>
                  <a:pt x="16718" y="8086"/>
                </a:cubicBezTo>
                <a:cubicBezTo>
                  <a:pt x="16819" y="8066"/>
                  <a:pt x="16839" y="8069"/>
                  <a:pt x="16892" y="8037"/>
                </a:cubicBezTo>
              </a:path>
              <a:path w="1167" h="770">
                <a:moveTo>
                  <a:pt x="17239" y="7640"/>
                </a:moveTo>
                <a:cubicBezTo>
                  <a:pt x="17139" y="7716"/>
                  <a:pt x="17044" y="7825"/>
                  <a:pt x="17041" y="7962"/>
                </a:cubicBezTo>
                <a:cubicBezTo>
                  <a:pt x="17038" y="8080"/>
                  <a:pt x="17113" y="8278"/>
                  <a:pt x="17264" y="8260"/>
                </a:cubicBezTo>
                <a:cubicBezTo>
                  <a:pt x="17440" y="8239"/>
                  <a:pt x="17516" y="8011"/>
                  <a:pt x="17512" y="7863"/>
                </a:cubicBezTo>
                <a:cubicBezTo>
                  <a:pt x="17508" y="7728"/>
                  <a:pt x="17399" y="7708"/>
                  <a:pt x="17314" y="7665"/>
                </a:cubicBezTo>
                <a:cubicBezTo>
                  <a:pt x="17306" y="7657"/>
                  <a:pt x="17297" y="7648"/>
                  <a:pt x="17289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3000" y="345600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0071" y="10418"/>
                </a:moveTo>
                <a:cubicBezTo>
                  <a:pt x="10222" y="10342"/>
                  <a:pt x="10294" y="10286"/>
                  <a:pt x="10294" y="10096"/>
                </a:cubicBezTo>
                <a:cubicBezTo>
                  <a:pt x="10294" y="9891"/>
                  <a:pt x="10153" y="9622"/>
                  <a:pt x="9922" y="9599"/>
                </a:cubicBezTo>
                <a:cubicBezTo>
                  <a:pt x="9850" y="9592"/>
                  <a:pt x="9674" y="9608"/>
                  <a:pt x="9674" y="9699"/>
                </a:cubicBezTo>
                <a:cubicBezTo>
                  <a:pt x="9704" y="9721"/>
                  <a:pt x="9735" y="9745"/>
                  <a:pt x="9773" y="9748"/>
                </a:cubicBezTo>
                <a:cubicBezTo>
                  <a:pt x="9805" y="9750"/>
                  <a:pt x="9839" y="9748"/>
                  <a:pt x="9872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1840" y="4581360"/>
            <a:ext cx="955440" cy="384480"/>
          </a:xfrm>
          <a:custGeom>
            <a:avLst/>
            <a:gdLst/>
            <a:ahLst/>
            <a:rect l="l" t="t" r="r" b="b"/>
            <a:pathLst>
              <a:path w="2655" h="1067">
                <a:moveTo>
                  <a:pt x="17090" y="13246"/>
                </a:moveTo>
                <a:cubicBezTo>
                  <a:pt x="17090" y="13335"/>
                  <a:pt x="17145" y="13364"/>
                  <a:pt x="17190" y="13419"/>
                </a:cubicBezTo>
                <a:cubicBezTo>
                  <a:pt x="17206" y="13444"/>
                  <a:pt x="17223" y="13469"/>
                  <a:pt x="17239" y="13494"/>
                </a:cubicBezTo>
                <a:cubicBezTo>
                  <a:pt x="17215" y="13542"/>
                  <a:pt x="17110" y="13618"/>
                  <a:pt x="17041" y="13618"/>
                </a:cubicBezTo>
                <a:cubicBezTo>
                  <a:pt x="16979" y="13618"/>
                  <a:pt x="16889" y="13535"/>
                  <a:pt x="16892" y="13469"/>
                </a:cubicBezTo>
                <a:cubicBezTo>
                  <a:pt x="16900" y="13291"/>
                  <a:pt x="17089" y="13207"/>
                  <a:pt x="17190" y="13097"/>
                </a:cubicBezTo>
                <a:cubicBezTo>
                  <a:pt x="17249" y="13033"/>
                  <a:pt x="17309" y="12961"/>
                  <a:pt x="17314" y="12874"/>
                </a:cubicBezTo>
                <a:cubicBezTo>
                  <a:pt x="17320" y="12765"/>
                  <a:pt x="17272" y="12715"/>
                  <a:pt x="17165" y="12725"/>
                </a:cubicBezTo>
                <a:cubicBezTo>
                  <a:pt x="17018" y="12739"/>
                  <a:pt x="16932" y="12811"/>
                  <a:pt x="16892" y="12948"/>
                </a:cubicBezTo>
                <a:cubicBezTo>
                  <a:pt x="16874" y="13009"/>
                  <a:pt x="16974" y="13113"/>
                  <a:pt x="17016" y="13146"/>
                </a:cubicBezTo>
                <a:cubicBezTo>
                  <a:pt x="17073" y="13174"/>
                  <a:pt x="17096" y="13185"/>
                  <a:pt x="17140" y="13196"/>
                </a:cubicBezTo>
              </a:path>
              <a:path w="2655" h="1067">
                <a:moveTo>
                  <a:pt x="18182" y="12849"/>
                </a:moveTo>
                <a:cubicBezTo>
                  <a:pt x="18059" y="12903"/>
                  <a:pt x="18008" y="12950"/>
                  <a:pt x="17934" y="13072"/>
                </a:cubicBezTo>
                <a:cubicBezTo>
                  <a:pt x="17862" y="13192"/>
                  <a:pt x="17779" y="13374"/>
                  <a:pt x="17810" y="13519"/>
                </a:cubicBezTo>
                <a:cubicBezTo>
                  <a:pt x="17844" y="13678"/>
                  <a:pt x="17993" y="13791"/>
                  <a:pt x="18157" y="13791"/>
                </a:cubicBezTo>
                <a:cubicBezTo>
                  <a:pt x="18325" y="13791"/>
                  <a:pt x="18454" y="13623"/>
                  <a:pt x="18479" y="13469"/>
                </a:cubicBezTo>
                <a:cubicBezTo>
                  <a:pt x="18515" y="13243"/>
                  <a:pt x="18418" y="12955"/>
                  <a:pt x="18182" y="12898"/>
                </a:cubicBezTo>
                <a:cubicBezTo>
                  <a:pt x="18132" y="12898"/>
                  <a:pt x="18116" y="12898"/>
                  <a:pt x="18083" y="12898"/>
                </a:cubicBezTo>
              </a:path>
              <a:path w="2655" h="1067">
                <a:moveTo>
                  <a:pt x="18827" y="12998"/>
                </a:moveTo>
                <a:cubicBezTo>
                  <a:pt x="18725" y="13018"/>
                  <a:pt x="18700" y="13086"/>
                  <a:pt x="18777" y="13171"/>
                </a:cubicBezTo>
                <a:cubicBezTo>
                  <a:pt x="18904" y="13311"/>
                  <a:pt x="19034" y="13205"/>
                  <a:pt x="18976" y="13047"/>
                </a:cubicBezTo>
                <a:cubicBezTo>
                  <a:pt x="18959" y="13022"/>
                  <a:pt x="18943" y="12998"/>
                  <a:pt x="18926" y="12973"/>
                </a:cubicBezTo>
                <a:cubicBezTo>
                  <a:pt x="18918" y="12965"/>
                  <a:pt x="18909" y="12956"/>
                  <a:pt x="18901" y="12948"/>
                </a:cubicBezTo>
                <a:cubicBezTo>
                  <a:pt x="19009" y="12948"/>
                  <a:pt x="19136" y="12943"/>
                  <a:pt x="19224" y="13022"/>
                </a:cubicBezTo>
                <a:cubicBezTo>
                  <a:pt x="19224" y="13030"/>
                  <a:pt x="19224" y="13039"/>
                  <a:pt x="19224" y="13047"/>
                </a:cubicBezTo>
                <a:cubicBezTo>
                  <a:pt x="19152" y="13181"/>
                  <a:pt x="19010" y="13299"/>
                  <a:pt x="18951" y="13444"/>
                </a:cubicBezTo>
                <a:cubicBezTo>
                  <a:pt x="18911" y="13544"/>
                  <a:pt x="18900" y="13654"/>
                  <a:pt x="18926" y="13742"/>
                </a:cubicBezTo>
                <a:cubicBezTo>
                  <a:pt x="18926" y="13750"/>
                  <a:pt x="18926" y="13759"/>
                  <a:pt x="18926" y="13767"/>
                </a:cubicBezTo>
              </a:path>
              <a:path w="2655" h="1067">
                <a:moveTo>
                  <a:pt x="19174" y="13593"/>
                </a:moveTo>
                <a:cubicBezTo>
                  <a:pt x="19190" y="13674"/>
                  <a:pt x="19234" y="13728"/>
                  <a:pt x="19323" y="13742"/>
                </a:cubicBezTo>
                <a:cubicBezTo>
                  <a:pt x="19432" y="13760"/>
                  <a:pt x="19536" y="13701"/>
                  <a:pt x="19546" y="13593"/>
                </a:cubicBezTo>
                <a:cubicBezTo>
                  <a:pt x="19560" y="13435"/>
                  <a:pt x="19450" y="13425"/>
                  <a:pt x="19323" y="13419"/>
                </a:cubicBezTo>
                <a:cubicBezTo>
                  <a:pt x="19281" y="13419"/>
                  <a:pt x="19273" y="13419"/>
                  <a:pt x="19248" y="13419"/>
                </a:cubicBezTo>
                <a:cubicBezTo>
                  <a:pt x="19248" y="13495"/>
                  <a:pt x="19247" y="13548"/>
                  <a:pt x="19273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9040" y="4384800"/>
            <a:ext cx="1401840" cy="1884240"/>
          </a:xfrm>
          <a:custGeom>
            <a:avLst/>
            <a:gdLst/>
            <a:ahLst/>
            <a:rect l="l" t="t" r="r" b="b"/>
            <a:pathLst>
              <a:path w="3895" h="5235">
                <a:moveTo>
                  <a:pt x="7665" y="13047"/>
                </a:moveTo>
                <a:cubicBezTo>
                  <a:pt x="7723" y="13067"/>
                  <a:pt x="7690" y="13108"/>
                  <a:pt x="7739" y="12998"/>
                </a:cubicBezTo>
                <a:cubicBezTo>
                  <a:pt x="7739" y="13069"/>
                  <a:pt x="7751" y="13053"/>
                  <a:pt x="7789" y="12998"/>
                </a:cubicBezTo>
              </a:path>
              <a:path w="3895" h="5235">
                <a:moveTo>
                  <a:pt x="8508" y="12650"/>
                </a:moveTo>
                <a:cubicBezTo>
                  <a:pt x="8595" y="12676"/>
                  <a:pt x="8737" y="12749"/>
                  <a:pt x="8806" y="12824"/>
                </a:cubicBezTo>
                <a:cubicBezTo>
                  <a:pt x="8806" y="12849"/>
                  <a:pt x="8806" y="12857"/>
                  <a:pt x="8806" y="12874"/>
                </a:cubicBezTo>
                <a:cubicBezTo>
                  <a:pt x="8687" y="12894"/>
                  <a:pt x="8579" y="12898"/>
                  <a:pt x="8458" y="12898"/>
                </a:cubicBezTo>
                <a:cubicBezTo>
                  <a:pt x="8522" y="12748"/>
                  <a:pt x="8627" y="12675"/>
                  <a:pt x="8731" y="12551"/>
                </a:cubicBezTo>
                <a:cubicBezTo>
                  <a:pt x="8763" y="12513"/>
                  <a:pt x="8818" y="12385"/>
                  <a:pt x="8781" y="12328"/>
                </a:cubicBezTo>
                <a:cubicBezTo>
                  <a:pt x="8730" y="12250"/>
                  <a:pt x="8620" y="12201"/>
                  <a:pt x="8533" y="12179"/>
                </a:cubicBezTo>
                <a:cubicBezTo>
                  <a:pt x="8497" y="12170"/>
                  <a:pt x="8410" y="12207"/>
                  <a:pt x="8384" y="12229"/>
                </a:cubicBezTo>
                <a:cubicBezTo>
                  <a:pt x="8298" y="12302"/>
                  <a:pt x="8291" y="12371"/>
                  <a:pt x="8285" y="12477"/>
                </a:cubicBezTo>
                <a:cubicBezTo>
                  <a:pt x="8283" y="12516"/>
                  <a:pt x="8285" y="12620"/>
                  <a:pt x="8310" y="12650"/>
                </a:cubicBezTo>
                <a:cubicBezTo>
                  <a:pt x="8329" y="12672"/>
                  <a:pt x="8374" y="12749"/>
                  <a:pt x="8409" y="12774"/>
                </a:cubicBezTo>
                <a:cubicBezTo>
                  <a:pt x="8455" y="12807"/>
                  <a:pt x="8449" y="12838"/>
                  <a:pt x="8483" y="12849"/>
                </a:cubicBezTo>
              </a:path>
              <a:path w="3895" h="5235">
                <a:moveTo>
                  <a:pt x="8260" y="16892"/>
                </a:moveTo>
                <a:cubicBezTo>
                  <a:pt x="8260" y="16906"/>
                  <a:pt x="8244" y="17045"/>
                  <a:pt x="8285" y="17016"/>
                </a:cubicBezTo>
                <a:cubicBezTo>
                  <a:pt x="8357" y="16965"/>
                  <a:pt x="8349" y="16962"/>
                  <a:pt x="8310" y="17016"/>
                </a:cubicBezTo>
              </a:path>
              <a:path w="3895" h="5235">
                <a:moveTo>
                  <a:pt x="8806" y="16396"/>
                </a:moveTo>
                <a:cubicBezTo>
                  <a:pt x="8732" y="16488"/>
                  <a:pt x="8697" y="16572"/>
                  <a:pt x="8706" y="16694"/>
                </a:cubicBezTo>
                <a:cubicBezTo>
                  <a:pt x="8716" y="16824"/>
                  <a:pt x="8833" y="16981"/>
                  <a:pt x="8979" y="16942"/>
                </a:cubicBezTo>
                <a:cubicBezTo>
                  <a:pt x="9068" y="16918"/>
                  <a:pt x="9105" y="16837"/>
                  <a:pt x="9128" y="16768"/>
                </a:cubicBezTo>
                <a:cubicBezTo>
                  <a:pt x="9072" y="16793"/>
                  <a:pt x="8946" y="16837"/>
                  <a:pt x="9029" y="16892"/>
                </a:cubicBezTo>
              </a:path>
              <a:path w="3895" h="5235">
                <a:moveTo>
                  <a:pt x="9426" y="16446"/>
                </a:moveTo>
                <a:cubicBezTo>
                  <a:pt x="9345" y="16541"/>
                  <a:pt x="9311" y="16639"/>
                  <a:pt x="9327" y="16768"/>
                </a:cubicBezTo>
                <a:cubicBezTo>
                  <a:pt x="9343" y="16899"/>
                  <a:pt x="9505" y="16995"/>
                  <a:pt x="9624" y="16917"/>
                </a:cubicBezTo>
                <a:cubicBezTo>
                  <a:pt x="9750" y="16834"/>
                  <a:pt x="9696" y="16741"/>
                  <a:pt x="9599" y="16694"/>
                </a:cubicBezTo>
                <a:cubicBezTo>
                  <a:pt x="9515" y="16812"/>
                  <a:pt x="9494" y="16810"/>
                  <a:pt x="9599" y="16892"/>
                </a:cubicBezTo>
              </a:path>
              <a:path w="3895" h="5235">
                <a:moveTo>
                  <a:pt x="10071" y="16371"/>
                </a:moveTo>
                <a:cubicBezTo>
                  <a:pt x="10011" y="16490"/>
                  <a:pt x="9928" y="16671"/>
                  <a:pt x="10046" y="16793"/>
                </a:cubicBezTo>
                <a:cubicBezTo>
                  <a:pt x="10148" y="16899"/>
                  <a:pt x="10335" y="16846"/>
                  <a:pt x="10344" y="16694"/>
                </a:cubicBezTo>
                <a:cubicBezTo>
                  <a:pt x="10336" y="16686"/>
                  <a:pt x="10327" y="16677"/>
                  <a:pt x="10319" y="16669"/>
                </a:cubicBezTo>
                <a:cubicBezTo>
                  <a:pt x="10246" y="16690"/>
                  <a:pt x="10212" y="16736"/>
                  <a:pt x="10269" y="16793"/>
                </a:cubicBezTo>
              </a:path>
              <a:path w="3895" h="5235">
                <a:moveTo>
                  <a:pt x="10592" y="16371"/>
                </a:moveTo>
                <a:cubicBezTo>
                  <a:pt x="10474" y="16418"/>
                  <a:pt x="10486" y="16530"/>
                  <a:pt x="10517" y="16644"/>
                </a:cubicBezTo>
                <a:cubicBezTo>
                  <a:pt x="10559" y="16798"/>
                  <a:pt x="10669" y="16973"/>
                  <a:pt x="10840" y="16842"/>
                </a:cubicBezTo>
                <a:cubicBezTo>
                  <a:pt x="10925" y="16777"/>
                  <a:pt x="10880" y="16594"/>
                  <a:pt x="10765" y="16669"/>
                </a:cubicBezTo>
                <a:cubicBezTo>
                  <a:pt x="10609" y="16771"/>
                  <a:pt x="10835" y="16822"/>
                  <a:pt x="10889" y="16818"/>
                </a:cubicBezTo>
              </a:path>
              <a:path w="3895" h="5235">
                <a:moveTo>
                  <a:pt x="11212" y="16148"/>
                </a:moveTo>
                <a:cubicBezTo>
                  <a:pt x="11093" y="16281"/>
                  <a:pt x="11057" y="16411"/>
                  <a:pt x="11112" y="16594"/>
                </a:cubicBezTo>
                <a:cubicBezTo>
                  <a:pt x="11153" y="16732"/>
                  <a:pt x="11430" y="16981"/>
                  <a:pt x="11534" y="16743"/>
                </a:cubicBezTo>
                <a:cubicBezTo>
                  <a:pt x="11593" y="16609"/>
                  <a:pt x="11491" y="16547"/>
                  <a:pt x="11410" y="16495"/>
                </a:cubicBezTo>
                <a:cubicBezTo>
                  <a:pt x="11337" y="16600"/>
                  <a:pt x="11317" y="16715"/>
                  <a:pt x="11435" y="16818"/>
                </a:cubicBezTo>
                <a:cubicBezTo>
                  <a:pt x="11507" y="16841"/>
                  <a:pt x="11529" y="16851"/>
                  <a:pt x="11559" y="16793"/>
                </a:cubicBezTo>
              </a:path>
              <a:path w="3895" h="5235">
                <a:moveTo>
                  <a:pt x="8582" y="17314"/>
                </a:moveTo>
                <a:cubicBezTo>
                  <a:pt x="8646" y="17337"/>
                  <a:pt x="8714" y="17365"/>
                  <a:pt x="8781" y="17388"/>
                </a:cubicBezTo>
                <a:cubicBezTo>
                  <a:pt x="8895" y="17428"/>
                  <a:pt x="8926" y="17417"/>
                  <a:pt x="9029" y="17363"/>
                </a:cubicBezTo>
                <a:cubicBezTo>
                  <a:pt x="9107" y="17322"/>
                  <a:pt x="9164" y="17230"/>
                  <a:pt x="9178" y="17140"/>
                </a:cubicBezTo>
                <a:cubicBezTo>
                  <a:pt x="9178" y="17082"/>
                  <a:pt x="9178" y="17074"/>
                  <a:pt x="9178" y="17041"/>
                </a:cubicBezTo>
                <a:cubicBezTo>
                  <a:pt x="9215" y="17093"/>
                  <a:pt x="9256" y="17119"/>
                  <a:pt x="9302" y="17165"/>
                </a:cubicBezTo>
                <a:cubicBezTo>
                  <a:pt x="9354" y="17217"/>
                  <a:pt x="9400" y="17228"/>
                  <a:pt x="9475" y="17214"/>
                </a:cubicBezTo>
                <a:cubicBezTo>
                  <a:pt x="9562" y="17198"/>
                  <a:pt x="9578" y="17170"/>
                  <a:pt x="9624" y="17115"/>
                </a:cubicBezTo>
                <a:cubicBezTo>
                  <a:pt x="9672" y="17057"/>
                  <a:pt x="9712" y="16984"/>
                  <a:pt x="9748" y="16917"/>
                </a:cubicBezTo>
                <a:cubicBezTo>
                  <a:pt x="9768" y="16876"/>
                  <a:pt x="9777" y="16870"/>
                  <a:pt x="9773" y="168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03920" y="5456160"/>
            <a:ext cx="393840" cy="285840"/>
          </a:xfrm>
          <a:custGeom>
            <a:avLst/>
            <a:gdLst/>
            <a:ahLst/>
            <a:rect l="l" t="t" r="r" b="b"/>
            <a:pathLst>
              <a:path w="1092" h="794">
                <a:moveTo>
                  <a:pt x="16272" y="15156"/>
                </a:moveTo>
                <a:cubicBezTo>
                  <a:pt x="16244" y="15293"/>
                  <a:pt x="16174" y="15407"/>
                  <a:pt x="16148" y="15553"/>
                </a:cubicBezTo>
                <a:cubicBezTo>
                  <a:pt x="16123" y="15692"/>
                  <a:pt x="16094" y="16021"/>
                  <a:pt x="16346" y="15949"/>
                </a:cubicBezTo>
                <a:cubicBezTo>
                  <a:pt x="16385" y="15938"/>
                  <a:pt x="16584" y="15727"/>
                  <a:pt x="16520" y="15677"/>
                </a:cubicBezTo>
                <a:cubicBezTo>
                  <a:pt x="16495" y="15669"/>
                  <a:pt x="16471" y="15660"/>
                  <a:pt x="16446" y="15652"/>
                </a:cubicBezTo>
                <a:cubicBezTo>
                  <a:pt x="16364" y="15710"/>
                  <a:pt x="16311" y="15781"/>
                  <a:pt x="16396" y="15875"/>
                </a:cubicBezTo>
                <a:cubicBezTo>
                  <a:pt x="16480" y="15932"/>
                  <a:pt x="16517" y="15946"/>
                  <a:pt x="16594" y="15900"/>
                </a:cubicBezTo>
              </a:path>
              <a:path w="1092" h="794">
                <a:moveTo>
                  <a:pt x="17165" y="15304"/>
                </a:moveTo>
                <a:cubicBezTo>
                  <a:pt x="17080" y="15304"/>
                  <a:pt x="17064" y="15364"/>
                  <a:pt x="17016" y="15429"/>
                </a:cubicBezTo>
                <a:cubicBezTo>
                  <a:pt x="16941" y="15531"/>
                  <a:pt x="16832" y="15762"/>
                  <a:pt x="16966" y="15875"/>
                </a:cubicBezTo>
                <a:cubicBezTo>
                  <a:pt x="17093" y="15983"/>
                  <a:pt x="17187" y="15822"/>
                  <a:pt x="17214" y="15726"/>
                </a:cubicBezTo>
                <a:cubicBezTo>
                  <a:pt x="17214" y="15718"/>
                  <a:pt x="17214" y="15709"/>
                  <a:pt x="17214" y="15701"/>
                </a:cubicBezTo>
                <a:cubicBezTo>
                  <a:pt x="17147" y="15708"/>
                  <a:pt x="17000" y="15763"/>
                  <a:pt x="17066" y="15875"/>
                </a:cubicBezTo>
                <a:cubicBezTo>
                  <a:pt x="17091" y="15892"/>
                  <a:pt x="17115" y="15908"/>
                  <a:pt x="17140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2240" y="5545080"/>
            <a:ext cx="965520" cy="233280"/>
          </a:xfrm>
          <a:custGeom>
            <a:avLst/>
            <a:gdLst/>
            <a:ahLst/>
            <a:rect l="l" t="t" r="r" b="b"/>
            <a:pathLst>
              <a:path w="2680" h="646">
                <a:moveTo>
                  <a:pt x="17785" y="15949"/>
                </a:moveTo>
                <a:lnTo>
                  <a:pt x="17785" y="15949"/>
                </a:lnTo>
                <a:lnTo>
                  <a:pt x="17785" y="15949"/>
                </a:lnTo>
              </a:path>
              <a:path w="2680" h="646">
                <a:moveTo>
                  <a:pt x="18355" y="15627"/>
                </a:moveTo>
                <a:cubicBezTo>
                  <a:pt x="18303" y="15711"/>
                  <a:pt x="18221" y="15766"/>
                  <a:pt x="18231" y="15875"/>
                </a:cubicBezTo>
                <a:cubicBezTo>
                  <a:pt x="18242" y="15993"/>
                  <a:pt x="18328" y="16078"/>
                  <a:pt x="18455" y="16049"/>
                </a:cubicBezTo>
                <a:cubicBezTo>
                  <a:pt x="18557" y="16025"/>
                  <a:pt x="18584" y="15980"/>
                  <a:pt x="18604" y="15900"/>
                </a:cubicBezTo>
                <a:cubicBezTo>
                  <a:pt x="18585" y="15905"/>
                  <a:pt x="18466" y="15984"/>
                  <a:pt x="18504" y="15999"/>
                </a:cubicBezTo>
                <a:cubicBezTo>
                  <a:pt x="18529" y="15999"/>
                  <a:pt x="18554" y="15999"/>
                  <a:pt x="18579" y="15999"/>
                </a:cubicBezTo>
              </a:path>
              <a:path w="2680" h="646">
                <a:moveTo>
                  <a:pt x="18827" y="15478"/>
                </a:moveTo>
                <a:cubicBezTo>
                  <a:pt x="18930" y="15457"/>
                  <a:pt x="18992" y="15469"/>
                  <a:pt x="19100" y="15478"/>
                </a:cubicBezTo>
                <a:cubicBezTo>
                  <a:pt x="19172" y="15484"/>
                  <a:pt x="19229" y="15503"/>
                  <a:pt x="19298" y="15503"/>
                </a:cubicBezTo>
                <a:cubicBezTo>
                  <a:pt x="19283" y="15576"/>
                  <a:pt x="19258" y="15650"/>
                  <a:pt x="19248" y="15726"/>
                </a:cubicBezTo>
                <a:cubicBezTo>
                  <a:pt x="19237" y="15804"/>
                  <a:pt x="19232" y="15882"/>
                  <a:pt x="19248" y="15949"/>
                </a:cubicBezTo>
              </a:path>
              <a:path w="2680" h="646">
                <a:moveTo>
                  <a:pt x="19869" y="15404"/>
                </a:moveTo>
                <a:cubicBezTo>
                  <a:pt x="19763" y="15417"/>
                  <a:pt x="19706" y="15497"/>
                  <a:pt x="19819" y="15577"/>
                </a:cubicBezTo>
                <a:cubicBezTo>
                  <a:pt x="19997" y="15704"/>
                  <a:pt x="19842" y="15457"/>
                  <a:pt x="19819" y="15429"/>
                </a:cubicBezTo>
                <a:cubicBezTo>
                  <a:pt x="19811" y="15421"/>
                  <a:pt x="19802" y="15412"/>
                  <a:pt x="19794" y="15404"/>
                </a:cubicBezTo>
                <a:cubicBezTo>
                  <a:pt x="19938" y="15422"/>
                  <a:pt x="20083" y="15441"/>
                  <a:pt x="20216" y="15503"/>
                </a:cubicBezTo>
                <a:cubicBezTo>
                  <a:pt x="20224" y="15511"/>
                  <a:pt x="20233" y="15520"/>
                  <a:pt x="20241" y="15528"/>
                </a:cubicBezTo>
                <a:cubicBezTo>
                  <a:pt x="20160" y="15602"/>
                  <a:pt x="20006" y="15694"/>
                  <a:pt x="19968" y="15801"/>
                </a:cubicBezTo>
                <a:cubicBezTo>
                  <a:pt x="19968" y="15817"/>
                  <a:pt x="19968" y="15834"/>
                  <a:pt x="19968" y="15850"/>
                </a:cubicBezTo>
                <a:cubicBezTo>
                  <a:pt x="20049" y="15885"/>
                  <a:pt x="20030" y="15871"/>
                  <a:pt x="20067" y="15949"/>
                </a:cubicBezTo>
                <a:cubicBezTo>
                  <a:pt x="20125" y="16071"/>
                  <a:pt x="20206" y="15955"/>
                  <a:pt x="20290" y="15925"/>
                </a:cubicBezTo>
                <a:cubicBezTo>
                  <a:pt x="20330" y="15911"/>
                  <a:pt x="20315" y="15895"/>
                  <a:pt x="20315" y="15850"/>
                </a:cubicBezTo>
                <a:cubicBezTo>
                  <a:pt x="20250" y="15850"/>
                  <a:pt x="20209" y="15848"/>
                  <a:pt x="20191" y="15925"/>
                </a:cubicBezTo>
                <a:cubicBezTo>
                  <a:pt x="20191" y="15969"/>
                  <a:pt x="20188" y="15983"/>
                  <a:pt x="20216" y="15999"/>
                </a:cubicBezTo>
                <a:cubicBezTo>
                  <a:pt x="20285" y="16041"/>
                  <a:pt x="20315" y="16016"/>
                  <a:pt x="20389" y="15999"/>
                </a:cubicBezTo>
                <a:cubicBezTo>
                  <a:pt x="20422" y="15991"/>
                  <a:pt x="20456" y="15961"/>
                  <a:pt x="20464" y="15925"/>
                </a:cubicBezTo>
                <a:cubicBezTo>
                  <a:pt x="20464" y="15908"/>
                  <a:pt x="20464" y="15892"/>
                  <a:pt x="20464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7960" y="5268960"/>
            <a:ext cx="795240" cy="401760"/>
          </a:xfrm>
          <a:custGeom>
            <a:avLst/>
            <a:gdLst/>
            <a:ahLst/>
            <a:rect l="l" t="t" r="r" b="b"/>
            <a:pathLst>
              <a:path w="2208" h="1117">
                <a:moveTo>
                  <a:pt x="7913" y="15627"/>
                </a:moveTo>
                <a:cubicBezTo>
                  <a:pt x="7921" y="15627"/>
                  <a:pt x="7930" y="15627"/>
                  <a:pt x="7938" y="15627"/>
                </a:cubicBezTo>
                <a:cubicBezTo>
                  <a:pt x="7949" y="15663"/>
                  <a:pt x="7951" y="15663"/>
                  <a:pt x="7962" y="15627"/>
                </a:cubicBezTo>
                <a:cubicBezTo>
                  <a:pt x="7962" y="15671"/>
                  <a:pt x="7960" y="15666"/>
                  <a:pt x="7987" y="15701"/>
                </a:cubicBezTo>
              </a:path>
              <a:path w="2208" h="1117">
                <a:moveTo>
                  <a:pt x="8632" y="14982"/>
                </a:moveTo>
                <a:cubicBezTo>
                  <a:pt x="8542" y="14982"/>
                  <a:pt x="8519" y="15042"/>
                  <a:pt x="8508" y="15131"/>
                </a:cubicBezTo>
                <a:cubicBezTo>
                  <a:pt x="8492" y="15259"/>
                  <a:pt x="8495" y="15459"/>
                  <a:pt x="8558" y="15577"/>
                </a:cubicBezTo>
                <a:cubicBezTo>
                  <a:pt x="8615" y="15683"/>
                  <a:pt x="8722" y="15693"/>
                  <a:pt x="8830" y="15677"/>
                </a:cubicBezTo>
                <a:cubicBezTo>
                  <a:pt x="8936" y="15661"/>
                  <a:pt x="9042" y="15613"/>
                  <a:pt x="9054" y="15503"/>
                </a:cubicBezTo>
                <a:cubicBezTo>
                  <a:pt x="9063" y="15424"/>
                  <a:pt x="9014" y="15364"/>
                  <a:pt x="8930" y="15379"/>
                </a:cubicBezTo>
                <a:cubicBezTo>
                  <a:pt x="8837" y="15395"/>
                  <a:pt x="8777" y="15463"/>
                  <a:pt x="8756" y="15553"/>
                </a:cubicBezTo>
                <a:cubicBezTo>
                  <a:pt x="8741" y="15616"/>
                  <a:pt x="8746" y="15731"/>
                  <a:pt x="8806" y="15751"/>
                </a:cubicBezTo>
                <a:cubicBezTo>
                  <a:pt x="8814" y="15751"/>
                  <a:pt x="8822" y="15751"/>
                  <a:pt x="8830" y="15751"/>
                </a:cubicBezTo>
              </a:path>
              <a:path w="2208" h="1117">
                <a:moveTo>
                  <a:pt x="7913" y="14709"/>
                </a:moveTo>
                <a:cubicBezTo>
                  <a:pt x="7913" y="14734"/>
                  <a:pt x="7913" y="14759"/>
                  <a:pt x="7913" y="14784"/>
                </a:cubicBezTo>
                <a:cubicBezTo>
                  <a:pt x="8029" y="14795"/>
                  <a:pt x="8119" y="14787"/>
                  <a:pt x="8235" y="14784"/>
                </a:cubicBezTo>
                <a:cubicBezTo>
                  <a:pt x="8333" y="14781"/>
                  <a:pt x="8416" y="14764"/>
                  <a:pt x="8508" y="14759"/>
                </a:cubicBezTo>
                <a:cubicBezTo>
                  <a:pt x="8612" y="14753"/>
                  <a:pt x="8705" y="14746"/>
                  <a:pt x="8806" y="14734"/>
                </a:cubicBezTo>
                <a:cubicBezTo>
                  <a:pt x="8889" y="14724"/>
                  <a:pt x="8954" y="14690"/>
                  <a:pt x="9029" y="14684"/>
                </a:cubicBezTo>
                <a:cubicBezTo>
                  <a:pt x="9037" y="14684"/>
                  <a:pt x="9046" y="14684"/>
                  <a:pt x="9054" y="14684"/>
                </a:cubicBezTo>
              </a:path>
              <a:path w="2208" h="1117">
                <a:moveTo>
                  <a:pt x="9500" y="14858"/>
                </a:moveTo>
                <a:cubicBezTo>
                  <a:pt x="9522" y="14880"/>
                  <a:pt x="9466" y="14993"/>
                  <a:pt x="9451" y="15056"/>
                </a:cubicBezTo>
                <a:cubicBezTo>
                  <a:pt x="9414" y="15216"/>
                  <a:pt x="9397" y="15345"/>
                  <a:pt x="9525" y="15453"/>
                </a:cubicBezTo>
                <a:cubicBezTo>
                  <a:pt x="9625" y="15538"/>
                  <a:pt x="9748" y="15536"/>
                  <a:pt x="9798" y="15429"/>
                </a:cubicBezTo>
                <a:cubicBezTo>
                  <a:pt x="9852" y="15313"/>
                  <a:pt x="9857" y="15287"/>
                  <a:pt x="9823" y="15180"/>
                </a:cubicBezTo>
                <a:cubicBezTo>
                  <a:pt x="9710" y="15265"/>
                  <a:pt x="9705" y="15338"/>
                  <a:pt x="9699" y="15478"/>
                </a:cubicBezTo>
                <a:cubicBezTo>
                  <a:pt x="9699" y="15503"/>
                  <a:pt x="9699" y="15511"/>
                  <a:pt x="9723" y="15503"/>
                </a:cubicBezTo>
              </a:path>
              <a:path w="2208" h="1117">
                <a:moveTo>
                  <a:pt x="8954" y="14982"/>
                </a:moveTo>
                <a:cubicBezTo>
                  <a:pt x="8954" y="14933"/>
                  <a:pt x="8943" y="14923"/>
                  <a:pt x="8930" y="14883"/>
                </a:cubicBezTo>
                <a:cubicBezTo>
                  <a:pt x="8918" y="14844"/>
                  <a:pt x="8927" y="14817"/>
                  <a:pt x="8954" y="14808"/>
                </a:cubicBezTo>
                <a:cubicBezTo>
                  <a:pt x="9051" y="14777"/>
                  <a:pt x="9124" y="14738"/>
                  <a:pt x="9227" y="14734"/>
                </a:cubicBezTo>
                <a:cubicBezTo>
                  <a:pt x="9356" y="14729"/>
                  <a:pt x="9472" y="14698"/>
                  <a:pt x="9599" y="14684"/>
                </a:cubicBezTo>
                <a:cubicBezTo>
                  <a:pt x="9683" y="14675"/>
                  <a:pt x="9763" y="14660"/>
                  <a:pt x="9847" y="14660"/>
                </a:cubicBezTo>
                <a:cubicBezTo>
                  <a:pt x="9935" y="14660"/>
                  <a:pt x="10044" y="14655"/>
                  <a:pt x="10096" y="14635"/>
                </a:cubicBezTo>
                <a:cubicBezTo>
                  <a:pt x="10104" y="14635"/>
                  <a:pt x="10112" y="14635"/>
                  <a:pt x="10120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2:41:37Z</dcterms:created>
  <dc:creator>Brian McGrath</dc:creator>
  <dc:description/>
  <dc:language>en-US</dc:language>
  <cp:lastModifiedBy>deanne elizabeth mcgrath</cp:lastModifiedBy>
  <dcterms:modified xsi:type="dcterms:W3CDTF">2011-03-21T17:35:30Z</dcterms:modified>
  <cp:revision>2</cp:revision>
  <dc:subject/>
  <dc:title>Fractions, Decimals &amp; Percentages</dc:title>
</cp:coreProperties>
</file>